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7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379-E6B9-4B31-AD9E-BA4DA0C2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197-06EA-4897-B8C6-FE4694A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450-2FAE-4CEC-8F30-62BEC9F1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169-F3C7-4CD3-9C2A-FBCD0EA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79C-BCB8-49BC-8237-541330BE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6FF-03BE-4BB4-BF68-A98810C4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F2B-1B92-4A58-913B-2CA2965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60BE-0DBD-408B-8741-3DBEA7FC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C4A-C636-4AE9-857B-9F6BE476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D5F3-57AD-4669-99AF-CE11929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D93-E9A4-4375-86B0-ED841D9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652-C51D-4106-9D00-4ED3994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E989-EBB8-4C74-AD8D-76A55FB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9FA-7B6E-4336-82C0-CE38FC2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20F-DB6D-465F-A37D-A1F3675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176-7775-429C-BF4E-D6DC0B61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4811-87D4-4B0C-8B1B-79EC40D7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9B2-7A1A-49F7-8BA1-3988429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53A-64F7-4947-B04D-A23A30FE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BC5-C74F-4CBD-B28D-F7098437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283-B8B9-40E1-89D1-2F161322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A1D-E4EC-4E8A-B892-3D02A4E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014-5002-42AD-A491-502A2E3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F5F-B10B-480E-BEE8-35B2500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A3A-338A-4122-8F04-9E4029BF67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3B0-C13D-4760-AB1A-1384294C04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2282760"/>
            <a:ext cx="662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CHAPTER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新魏"/>
              </a:rPr>
              <a:t>2   vhdl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language el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VARI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luation of variable is effective immediately and it is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poetical data transmission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riabl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rocess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procedure or func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58960" y="0"/>
            <a:ext cx="7391160" cy="66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TITY examp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ORT(cl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  OU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examp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RCHITECTURE a OF examp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IGNAL temp : STD_LOGIC_VECTOR(0 TO 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nt: PROCESS (cl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VARIABLE counter: STD_LOGIC_VECTOR(0 TO 2):="000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F (clk'EVENT AND clk='1')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nter:=counter+'1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emp&lt;=count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43280" y="0"/>
            <a:ext cx="1779480" cy="549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304920"/>
            <a:ext cx="533376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: PROCESS (te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F(temp="111") 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&lt;='1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&lt;='0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35120" y="3855960"/>
          <a:ext cx="7772400" cy="27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3855960"/>
                    <a:ext cx="777240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43640" y="0"/>
            <a:ext cx="1779480" cy="549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Ⅱ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ATA TYPE OF VHD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340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very object only can have  single data type, and only can possess the value of the data type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Operational type must match the type of object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VHDL does not allow direct operations (arithmetic,logical,etc.)between data of different types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hen the data types are same whereas bit lengths are  different, direct operations are not allowed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Ⅱ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）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DATA TYPE OF VHD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NTEGER:32-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ntegers(from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-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,147,483,647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,147,483,6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ONSTANT max :INTEGER :=128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num:INTEGER  RANGE 0 TO 10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RIABLE f:INTEGER  RANGE 6 TO 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REAL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Real numbers ranging fr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-1.0E38~+1.0E38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ONSTANT max :REAL :=128.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num: REAL  RANGE 0.0 TO 1.0E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RIABLE f:REAL  RANGE 6.0 TO 9.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BIT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0920" y="1980720"/>
            <a:ext cx="85741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BIT :2-levellogic(‘0’,‘1’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tmp:BIT:=’0’;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GNAL x : B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x is declared as a one-digit signal of type B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503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IT_VECTO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664000"/>
            <a:ext cx="85741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tmp:BIT_VECTOR(0 TO1):=“01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s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IT_VECTO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5 DOWNTO 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BI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_VECTOR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:2-level logic (‘0’,‘1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3657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GNAL w : BIT_VECTOR (0TO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573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BOOL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TRU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0920" y="692280"/>
            <a:ext cx="8574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CHARACTER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haracter literals: Single ASCII character of such characters. Not synthes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52560" y="3357720"/>
            <a:ext cx="39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HARACTE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‘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’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2058480"/>
            <a:ext cx="74613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Ⅰ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Object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Ⅱ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Data type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Ⅲ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Operation actor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69520" y="476280"/>
            <a:ext cx="85741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STRING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tring literals: ASCII characters of such characters. Not synthes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TIABLE string_1 : STRING (0 TO 3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tring_1:= “a b c d”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Physical lite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82612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0 μ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00 n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 sec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8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inform physical quantities,like time , voltage, etc .  Useful In simulations .  Not  synthesiz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7440" y="692280"/>
            <a:ext cx="82598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SEVERITY LEVEL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not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arning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erro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87440" y="133524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NA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06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n-negative integers (from 0 to +2,147,483,64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D_LOGIC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D_LOGIC_VECTOR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0508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valued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EE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6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’ initial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1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0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dance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-stat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f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–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x:STD_LOGIC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x is declared as a one-digit (scalar) signal of type STD_LOG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y: STD_LOGIC_VECTOR (3 DOWNTO 0):= "0001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y is declared  as a 4-bit vector, with the left most bit being the MSB. The initial value (optional)of y is "0001".Notice that the ":=“ operator is used to establish the initial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uch data type defnitions can be found in the following packages/librar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andard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zh-CN" sz="2400" spc="-1" strike="noStrike">
                <a:solidFill>
                  <a:srgbClr val="ff3300"/>
                </a:solidFill>
                <a:latin typeface="Tahoma"/>
              </a:rPr>
              <a:t>std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BIT,BOOLEAN,INTEGER,andREAL datat 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116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STD_LOGIC and STD_ULOGIC data t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arith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SIGNED and UNSIGNED data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s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signed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unsig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User-Defined Data Typ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HDL also allows the user to define his/her own data ty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TYPE integer IS RANGE -2147483647 TO +2147483647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This is indeed the pre-defined type INTE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TYPE natural IS RANGE 0 TO +2147483647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This is indeed the pre-defined type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my_integer IS RANGE -32 TO 3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A user-defined subset of integ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bit IS ('0', '1'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This is indeed the pre-defined type 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my_logic IS ('0', '1', 'Z'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A user-defined subset of std_log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ubtyp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23520"/>
            <a:ext cx="84978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ain reason for using a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btyp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ther than specifying a new type is that, though operations between data of di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f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re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ypes are not allowed, they are allowed between a subtype and its corresponding bas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yp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（Ⅰ）</a:t>
            </a: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Object in VHD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Object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e used to keep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SIG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UBTYPE my_logic IS STD_LOGIC RANGE '0' TO 'Z';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Recall that STD_LOGIC=('X','0','1','Z','W','L','H','-')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Therefore, my_logic=('0','1','Z')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UBTYPE small_integer IS INTEGER RANGE -32 TO 32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A subtype of INTE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692280"/>
            <a:ext cx="83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Legal and illegal operations between types and sub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UBTYPE my_logic IS STD_LOGIC RANGE '0' TO '1'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a: B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b: STD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c: my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b &lt;= a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illegal (type mismatch: BIT versus STD_LOG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b &lt;= c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legal (same "base" type: STD_LOG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ata Conversion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19700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HDL does not allow direct operations (arithmetic, logical, etc.) between data of different types. Therefore, it is often necessary to convert data from one type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an be done in basically two ways: or we write a piece of VHDL code for that, or we invoke a FUNCTION from a pre-defined PACKAGE which is capable of doing it for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85760" y="987480"/>
            <a:ext cx="8735400" cy="5863320"/>
            <a:chOff x="185760" y="987480"/>
            <a:chExt cx="8735400" cy="5863320"/>
          </a:xfrm>
        </p:grpSpPr>
        <p:grpSp>
          <p:nvGrpSpPr>
            <p:cNvPr id="145" name=""/>
            <p:cNvGrpSpPr/>
            <p:nvPr/>
          </p:nvGrpSpPr>
          <p:grpSpPr>
            <a:xfrm>
              <a:off x="185760" y="987480"/>
              <a:ext cx="4536360" cy="837000"/>
              <a:chOff x="185760" y="987480"/>
              <a:chExt cx="4536360" cy="837000"/>
            </a:xfrm>
          </p:grpSpPr>
          <p:sp>
            <p:nvSpPr>
              <p:cNvPr id="146" name=""/>
              <p:cNvSpPr/>
              <p:nvPr/>
            </p:nvSpPr>
            <p:spPr>
              <a:xfrm>
                <a:off x="270720" y="987480"/>
                <a:ext cx="4366440" cy="8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functio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760" y="987480"/>
                <a:ext cx="4536360" cy="83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722480" y="987480"/>
              <a:ext cx="4198680" cy="837000"/>
              <a:chOff x="4722480" y="987480"/>
              <a:chExt cx="4198680" cy="837000"/>
            </a:xfrm>
          </p:grpSpPr>
          <p:sp>
            <p:nvSpPr>
              <p:cNvPr id="149" name=""/>
              <p:cNvSpPr/>
              <p:nvPr/>
            </p:nvSpPr>
            <p:spPr>
              <a:xfrm>
                <a:off x="4807440" y="987480"/>
                <a:ext cx="4028760" cy="8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2480" y="987480"/>
                <a:ext cx="4198680" cy="83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85760" y="1824840"/>
              <a:ext cx="4536360" cy="2233440"/>
              <a:chOff x="185760" y="1824840"/>
              <a:chExt cx="4536360" cy="2233440"/>
            </a:xfrm>
          </p:grpSpPr>
          <p:sp>
            <p:nvSpPr>
              <p:cNvPr id="152" name=""/>
              <p:cNvSpPr/>
              <p:nvPr/>
            </p:nvSpPr>
            <p:spPr>
              <a:xfrm>
                <a:off x="270720" y="1824840"/>
                <a:ext cx="4366440" cy="22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116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STD_LOGIC_VECTO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BIT_VECTO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STD_LOGIC 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BIT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5760" y="1824840"/>
                <a:ext cx="4536360" cy="22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722480" y="1824840"/>
              <a:ext cx="4198680" cy="2233440"/>
              <a:chOff x="4722480" y="1824840"/>
              <a:chExt cx="4198680" cy="2233440"/>
            </a:xfrm>
          </p:grpSpPr>
          <p:sp>
            <p:nvSpPr>
              <p:cNvPr id="155" name=""/>
              <p:cNvSpPr/>
              <p:nvPr/>
            </p:nvSpPr>
            <p:spPr>
              <a:xfrm>
                <a:off x="4807440" y="1824840"/>
                <a:ext cx="4028760" cy="22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ert BIT_VECTOR to STD_LOGIC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_VECTOR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2480" y="1824840"/>
                <a:ext cx="4198680" cy="22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85760" y="4059000"/>
              <a:ext cx="4536360" cy="1674720"/>
              <a:chOff x="185760" y="4059000"/>
              <a:chExt cx="4536360" cy="1674720"/>
            </a:xfrm>
          </p:grpSpPr>
          <p:sp>
            <p:nvSpPr>
              <p:cNvPr id="158" name=""/>
              <p:cNvSpPr/>
              <p:nvPr/>
            </p:nvSpPr>
            <p:spPr>
              <a:xfrm>
                <a:off x="270720" y="4059000"/>
                <a:ext cx="436644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ARIT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STD_LOGIC_VECTOR(A,bit length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INTEGE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5760" y="4059000"/>
                <a:ext cx="4536360" cy="167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722480" y="4059000"/>
              <a:ext cx="4198680" cy="1674720"/>
              <a:chOff x="4722480" y="4059000"/>
              <a:chExt cx="4198680" cy="1674720"/>
            </a:xfrm>
          </p:grpSpPr>
          <p:sp>
            <p:nvSpPr>
              <p:cNvPr id="161" name=""/>
              <p:cNvSpPr/>
              <p:nvPr/>
            </p:nvSpPr>
            <p:spPr>
              <a:xfrm>
                <a:off x="4807440" y="4059000"/>
                <a:ext cx="402876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UNSIGNED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IGNED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UNSIGNED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IGNED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22480" y="4059000"/>
                <a:ext cx="4198680" cy="167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5760" y="5734440"/>
              <a:ext cx="4536360" cy="1116360"/>
              <a:chOff x="185760" y="5734440"/>
              <a:chExt cx="4536360" cy="1116360"/>
            </a:xfrm>
          </p:grpSpPr>
          <p:sp>
            <p:nvSpPr>
              <p:cNvPr id="164" name=""/>
              <p:cNvSpPr/>
              <p:nvPr/>
            </p:nvSpPr>
            <p:spPr>
              <a:xfrm>
                <a:off x="270720" y="5734440"/>
                <a:ext cx="436644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UNSIGN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INTEGE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5760" y="5734440"/>
                <a:ext cx="4536360" cy="111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22480" y="5734440"/>
              <a:ext cx="4198680" cy="1116360"/>
              <a:chOff x="4722480" y="5734440"/>
              <a:chExt cx="4198680" cy="1116360"/>
            </a:xfrm>
          </p:grpSpPr>
          <p:sp>
            <p:nvSpPr>
              <p:cNvPr id="167" name=""/>
              <p:cNvSpPr/>
              <p:nvPr/>
            </p:nvSpPr>
            <p:spPr>
              <a:xfrm>
                <a:off x="4807440" y="5734440"/>
                <a:ext cx="402876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2480" y="5734440"/>
                <a:ext cx="4198680" cy="111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179280" y="981000"/>
            <a:ext cx="8748720" cy="58770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67564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 Data conversio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IBRARY ieee;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 ieee.std_logic_1164.all; USE ieee.std_logic_arith.all;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.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a: IN UNSIGNED (7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b: IN UNSIGNED (7 DOWNTO 0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y: OUT STD_LOGIC_VECTOR (7 DOWNTO 0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.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y&lt;= CONV_STD_LOGIC_VECTOR ((a+b), 8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Legal operation: a+b is converted from UNSIGNED --8-bit STD_LOGIC_VECTOR value, then assigned to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o y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1219320"/>
            <a:ext cx="7238880" cy="484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TITY sel1in4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ORT(a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_VECTOR(1 downto 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_VECTOR(3 downto 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: OU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sel1in4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RCHITECTURE  sel  OF  sel1in4 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&lt;=d(conv_integer(a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 s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476280"/>
            <a:ext cx="8820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ynthesizable data types.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ata types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Synthesizable values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BIT, BIT_VECTOR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0’, ‘1’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TD_LOGIC, STD_LOGIC_VECTOR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X’, ‘0’, ‘1’, ‘Z’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TD_ULOGIC, STD_ULOGIC_VECTOR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X’, ‘0’, ‘1’, ‘Z’ BOOLEAN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True, False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NATURAL                                  From 0 to 2, 147, 483, 6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INTEGER                    From -2,147,483,647 to +2,147,483,6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IGNED                      From -2,147,483,647 to +2,147,483,647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UNSIGNED                                From 0 to 2, 147, 483, 647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User-defined integer 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UBTYPE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Subset of any type (pre-or user-defined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Ⅲ）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perat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Assignment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re used to assign values to signals, variables, and constants. They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&lt;=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a value to a SIG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:=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a value to a VARIABLE, CONSTANT, or GENERIC.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so for establishing initial 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=&gt;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values to individual vector elements or with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476280"/>
            <a:ext cx="849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sider the following signal and variable decla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IGNAL x : STD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VARIABLE y : STD_LOGIC_VECTOR(3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IGNAL w: STD_LOGIC_VECTOR(0 TO 7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the following assignments are leg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x &lt;= '1'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'1' is assigned to SIGNAL x using "&lt;=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y := "0000"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"0000" is assigned to VARIABLE y using ":=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 &lt;= "10000000"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LSB is '1', the others are '0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 &lt;= (0 =&gt;'1', OTHERS =&gt;'0'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LSB is '1', the others are '0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Ⅲ）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perat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8930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Logic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d to perform logical operations. The data must be of type BIT, STD_LOGIC,or STD_ULOGIC (BIT_VECTOR, STD_LOGIC_VECTOR, or STD_ULOGIC_VECTOR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logical operator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AN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X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X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Notes: The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NO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operator has precedence over the others. The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XNOR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operator 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ntroduced in VHDL9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bject’ active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 in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Object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 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in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Object is declared in architecture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Examples: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NOT a AND b; -- (a'.b)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NOT (a AND b); -- (a.b)'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a NAND b; -- (a.b)'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1723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(3)Arithmetic Operators</a:t>
            </a:r>
            <a:br>
              <a:rPr sz="4000"/>
            </a:b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Used to perform arithmetic operations. The data can be of type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NTEGER, SIGNED, UNSIGNED, or REAL</a:t>
            </a: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.  Also, if the std_logic_signed or the std_logic_unsigned package of the ieee</a:t>
            </a:r>
            <a:br>
              <a:rPr sz="2800"/>
            </a:b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library is used, then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TD_LOGIC_VECTOR</a:t>
            </a: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 can also be employed directly in addition and subtraction operations</a:t>
            </a: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4724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+       —        *     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MOD     REM      **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Comparison Operator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d for making comparisons. The data can be of any of the types listed above. The  relational (comparison) operators a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=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/=Not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lt; Less t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gt; Greater t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lt;=Less than or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gt;=Greater than or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hift Operators</a:t>
            </a: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l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hift left logic – positions on the right are filled with ‘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rl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Shift right logic – positions on the left are filled with ‘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&amp;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989000"/>
            <a:ext cx="82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GNAL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D_LOGI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GNAL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D_LOGIC _VECTOR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TO 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 &lt;=  i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NOT 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 &lt;=  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&amp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 pre-defined, synthesizable data attributes are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OW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lower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HIG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upper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EF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leftmost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IGHT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rightmost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ENGT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ANG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EVERSE_RANG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range in reverse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976040" y="333360"/>
            <a:ext cx="509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Ⅳ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Data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1125360"/>
            <a:ext cx="8064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Consider the following sig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d : STD_LOGIC_VECTOR (7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LOW=0, d'HIGH=7, d'LEFT=7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IGHT=0, d'LENGTH=8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ANGE=(7 downto 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EVERSE_RANGE=(0 to 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76500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Consider the following sig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x: STD_LOGIC_VECTOR (0 TO 7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n all four LOOP statements below are synthesizable and equiva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0 TO 7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x'RANGE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x'LOW TO x'HIGH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0 TO x'LENGTH-1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et us consider a signal s. T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EVENT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true when an event occurs on 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ST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no event has occurred on 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ACTIV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s =‘1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QUIET &lt;time&gt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no event has occurred during the time spec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EVEN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time elapsed since last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ACTIV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time elapsed since last s =‘1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VALU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value of s before the last event;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041920" y="333360"/>
            <a:ext cx="52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Ⅴ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ignal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All four assignments shown below are synthesizable and equivalent. They return TRUE when an event (a change) occurs on clk, AND if such event is upward(in other words, when a rising edge occurs on cl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(clk'EVENT AND clk='1'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EVENT 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with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(NOT clk'STABLE AND clk='1'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STABL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with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WAIT UNTIL (clk'EVENT AND clk='1') 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EV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 with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RISING_EDGE(clk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call to a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CONSTANT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3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ONSTANT: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value in projet don‘t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orm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CONSTANT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name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CONSTANT pi : REAL :=3.14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CONSTANT Fbus : BIT_VECTOR := “1011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Constant can be evaluated one time and the value should  be accord with the defined data typ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Evaluate symbol is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4842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one constant is  primarily in order  to make  some volume easy to  read AND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stant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’ activ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06864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 architecture or proces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4160" y="1371240"/>
            <a:ext cx="825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can be abstracted as  hardware connection in circuit, correspond one connecting wire of hardware desig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华文楷体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SIGNAL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me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IGNAL reset : = STD_LOGIC : =’1’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IGNAL data 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TD_LOGIC_VECTOR (7 DOWNTO 0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ignal can be seriesly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valuated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and the value should  be accord with the defined data type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Evaluate symbol is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“&lt;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sig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luation of signal is not effective immediately, there are a certain time delay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 architectur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VARIABLE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9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Variable is mostly used in  local storage for the present dat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it is a partial volume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only in process statement, procedure statement and function statement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Form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VARIABLE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me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VARIABLE enable := STD_LOGIC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Variable can be seriesly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valuated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and the value should  be accord with the defined data type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Evaluate symbol is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“: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3:09:24Z</dcterms:created>
  <dc:creator>IBM</dc:creator>
  <dc:description/>
  <dc:language>en-US</dc:language>
  <cp:lastModifiedBy>Admin</cp:lastModifiedBy>
  <dcterms:modified xsi:type="dcterms:W3CDTF">2006-03-10T08:42:05Z</dcterms:modified>
  <cp:revision>12</cp:revision>
  <dc:subject/>
  <dc:title>第三章、VHDL语言要素</dc:title>
</cp:coreProperties>
</file>