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7410-AEAF-4F49-80CC-845BC67C9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6063-D50B-463E-B4B5-60BB7CA0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7FAB-03C5-4941-9444-24D1ACE3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66CB-3875-4204-A9D2-02F7EE07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784D-F78D-49B2-B0EB-6209F50F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B299-7EF1-4587-8991-0AB31C21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9AE0-B018-402C-BAB3-9EFB824B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9C62-FA3E-4F9C-98B8-EF67DC96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71BA-2980-464B-B15E-8C9573AA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3532-751C-4CCB-ACD0-76BFCEB9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C2B6-72F3-4DC2-BAB2-8F3BF510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9F95-16E2-47B8-9EA4-51D596EE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5FE8-A4FD-40D4-9085-DC4A1C14C9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5680" y="541440"/>
            <a:ext cx="6934320" cy="5771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76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HD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本输入设计方法初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57680" y="5562720"/>
            <a:ext cx="4334040" cy="1104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020000" y="152280"/>
            <a:ext cx="1218960" cy="685800"/>
          </a:xfrm>
          <a:prstGeom prst="wedgeRoundRectCallout">
            <a:avLst>
              <a:gd name="adj1" fmla="val -322134"/>
              <a:gd name="adj2" fmla="val 128009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为设计全加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新建一个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件夹作工作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248600" y="4495680"/>
            <a:ext cx="990360" cy="762120"/>
          </a:xfrm>
          <a:prstGeom prst="wedgeRoundRectCallout">
            <a:avLst>
              <a:gd name="adj1" fmla="val -207532"/>
              <a:gd name="adj2" fmla="val 200625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文件夹名取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My_prj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注意，不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用中文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87200"/>
            <a:ext cx="9144000" cy="6483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495680" y="3987720"/>
            <a:ext cx="3581640" cy="2184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19920" y="1828800"/>
            <a:ext cx="1218960" cy="304920"/>
          </a:xfrm>
          <a:prstGeom prst="wedgeRoundRectCallout">
            <a:avLst>
              <a:gd name="adj1" fmla="val -287888"/>
              <a:gd name="adj2" fmla="val 10939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选择此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67480" y="3243240"/>
            <a:ext cx="1219320" cy="304920"/>
          </a:xfrm>
          <a:prstGeom prst="wedgeRoundRectCallout">
            <a:avLst>
              <a:gd name="adj1" fmla="val -277606"/>
              <a:gd name="adj2" fmla="val 328125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消去这里的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68280"/>
            <a:ext cx="9144000" cy="6489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629400" y="3200400"/>
            <a:ext cx="990720" cy="304920"/>
          </a:xfrm>
          <a:prstGeom prst="wedgeRoundRectCallout">
            <a:avLst>
              <a:gd name="adj1" fmla="val -237819"/>
              <a:gd name="adj2" fmla="val 317189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编译出错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7714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7200" y="228600"/>
            <a:ext cx="6858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选择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VHDL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文本编译版本号和排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43200" y="55627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be0e3"/>
                </a:solidFill>
                <a:latin typeface="Times New Roman"/>
              </a:rPr>
              <a:t>图</a:t>
            </a:r>
            <a:r>
              <a:rPr b="1" lang="zh-CN" sz="1800" spc="-1" strike="noStrike">
                <a:solidFill>
                  <a:srgbClr val="bbe0e3"/>
                </a:solidFill>
                <a:latin typeface="Times New Roman"/>
              </a:rPr>
              <a:t>5-16  </a:t>
            </a:r>
            <a:r>
              <a:rPr b="1" lang="zh-CN" sz="1800" spc="-1" strike="noStrike">
                <a:solidFill>
                  <a:srgbClr val="bbe0e3"/>
                </a:solidFill>
                <a:latin typeface="Times New Roman"/>
              </a:rPr>
              <a:t>确定设计文件中的错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3276720"/>
            <a:ext cx="1218960" cy="304560"/>
          </a:xfrm>
          <a:prstGeom prst="wedgeRoundRectCallout">
            <a:avLst>
              <a:gd name="adj1" fmla="val -291925"/>
              <a:gd name="adj2" fmla="val -579689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打开错误提示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476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34120" y="1295280"/>
            <a:ext cx="1218960" cy="304920"/>
          </a:xfrm>
          <a:prstGeom prst="wedgeRoundRectCallout">
            <a:avLst>
              <a:gd name="adj1" fmla="val -317708"/>
              <a:gd name="adj2" fmla="val 352606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错误所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2286000"/>
            <a:ext cx="1219320" cy="304920"/>
          </a:xfrm>
          <a:prstGeom prst="wedgeRoundRectCallout">
            <a:avLst>
              <a:gd name="adj1" fmla="val -317708"/>
              <a:gd name="adj2" fmla="val 352606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错误所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293760"/>
            <a:ext cx="9144000" cy="6270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486400" y="1295280"/>
            <a:ext cx="1219320" cy="304920"/>
          </a:xfrm>
          <a:prstGeom prst="wedgeRoundRectCallout">
            <a:avLst>
              <a:gd name="adj1" fmla="val -317708"/>
              <a:gd name="adj2" fmla="val 352606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改正错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981080" y="1676520"/>
            <a:ext cx="3733920" cy="175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314280"/>
            <a:ext cx="9144000" cy="6467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971800" y="136440"/>
            <a:ext cx="1600200" cy="398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Times New Roman"/>
              </a:rPr>
              <a:t>完成编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358920"/>
            <a:ext cx="9144000" cy="6499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867280" y="3700440"/>
            <a:ext cx="2971800" cy="2395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495680" y="228600"/>
            <a:ext cx="1143000" cy="609480"/>
          </a:xfrm>
          <a:prstGeom prst="wedgeRoundRectCallout">
            <a:avLst>
              <a:gd name="adj1" fmla="val -340277"/>
              <a:gd name="adj2" fmla="val 112759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首先选择此项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为仿真测试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建一个文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76320"/>
            <a:ext cx="1447920" cy="45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序仿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2209680"/>
            <a:ext cx="1143000" cy="381240"/>
          </a:xfrm>
          <a:prstGeom prst="wedgeRoundRectCallout">
            <a:avLst>
              <a:gd name="adj1" fmla="val -109583"/>
              <a:gd name="adj2" fmla="val 750000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选择波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编辑器文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76280" y="519120"/>
            <a:ext cx="8191440" cy="5819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352680" y="2819520"/>
            <a:ext cx="5276880" cy="2981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086600" y="1600200"/>
            <a:ext cx="1219320" cy="609480"/>
          </a:xfrm>
          <a:prstGeom prst="wedgeRoundRectCallout">
            <a:avLst>
              <a:gd name="adj1" fmla="val -320703"/>
              <a:gd name="adj2" fmla="val -120314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从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SNF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文件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输入设计文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的信号节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5486400"/>
            <a:ext cx="1219320" cy="304920"/>
          </a:xfrm>
          <a:prstGeom prst="wedgeRoundRectCallout">
            <a:avLst>
              <a:gd name="adj1" fmla="val 433592"/>
              <a:gd name="adj2" fmla="val -811458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点击“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LI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396720"/>
            <a:ext cx="9144000" cy="6461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80880" y="4267080"/>
            <a:ext cx="838440" cy="381240"/>
          </a:xfrm>
          <a:prstGeom prst="wedgeRoundRectCallout">
            <a:avLst>
              <a:gd name="adj1" fmla="val 137689"/>
              <a:gd name="adj2" fmla="val -163750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SNF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文件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的信号节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5257800"/>
            <a:ext cx="1219320" cy="609480"/>
          </a:xfrm>
          <a:prstGeom prst="wedgeRoundRectCallout">
            <a:avLst>
              <a:gd name="adj1" fmla="val -225388"/>
              <a:gd name="adj2" fmla="val -264324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用此键选择左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中需要的信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进入右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5715000"/>
            <a:ext cx="1219320" cy="304920"/>
          </a:xfrm>
          <a:prstGeom prst="wedgeRoundRectCallout">
            <a:avLst>
              <a:gd name="adj1" fmla="val 350388"/>
              <a:gd name="adj2" fmla="val -2083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最后点击“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OK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406440"/>
            <a:ext cx="9144000" cy="6451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477120" y="3733920"/>
            <a:ext cx="1218960" cy="609480"/>
          </a:xfrm>
          <a:prstGeom prst="wedgeRoundRectCallout">
            <a:avLst>
              <a:gd name="adj1" fmla="val -248958"/>
              <a:gd name="adj2" fmla="val -499740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消去这里的勾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以便方便设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输入电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53341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be0e3"/>
                </a:solidFill>
                <a:latin typeface="Times New Roman"/>
              </a:rPr>
              <a:t>在</a:t>
            </a:r>
            <a:r>
              <a:rPr b="1" lang="zh-CN" sz="1800" spc="-1" strike="noStrike">
                <a:solidFill>
                  <a:srgbClr val="bbe0e3"/>
                </a:solidFill>
                <a:latin typeface="Times New Roman"/>
              </a:rPr>
              <a:t>Options</a:t>
            </a:r>
            <a:r>
              <a:rPr b="1" lang="zh-CN" sz="1800" spc="-1" strike="noStrike">
                <a:solidFill>
                  <a:srgbClr val="bbe0e3"/>
                </a:solidFill>
                <a:latin typeface="Times New Roman"/>
              </a:rPr>
              <a:t>菜单中消去网格对齐</a:t>
            </a:r>
            <a:r>
              <a:rPr b="1" lang="zh-CN" sz="1800" spc="-1" strike="noStrike">
                <a:solidFill>
                  <a:srgbClr val="bbe0e3"/>
                </a:solidFill>
                <a:latin typeface="Times New Roman"/>
              </a:rPr>
              <a:t>Snap to Grid</a:t>
            </a:r>
            <a:r>
              <a:rPr b="1" lang="zh-CN" sz="1800" spc="-1" strike="noStrike">
                <a:solidFill>
                  <a:srgbClr val="bbe0e3"/>
                </a:solidFill>
                <a:latin typeface="Times New Roman"/>
              </a:rPr>
              <a:t>的选择</a:t>
            </a:r>
            <a:r>
              <a:rPr b="1" lang="zh-CN" sz="1800" spc="-1" strike="noStrike">
                <a:solidFill>
                  <a:srgbClr val="bbe0e3"/>
                </a:solidFill>
                <a:latin typeface="Times New Roman"/>
              </a:rPr>
              <a:t>(</a:t>
            </a:r>
            <a:r>
              <a:rPr b="1" lang="zh-CN" sz="1800" spc="-1" strike="noStrike">
                <a:solidFill>
                  <a:srgbClr val="bbe0e3"/>
                </a:solidFill>
                <a:latin typeface="Times New Roman"/>
              </a:rPr>
              <a:t>消去对勾</a:t>
            </a:r>
            <a:r>
              <a:rPr b="1" lang="zh-CN" sz="1800" spc="-1" strike="noStrike">
                <a:solidFill>
                  <a:srgbClr val="bbe0e3"/>
                </a:solidFill>
                <a:latin typeface="Times New Roman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280" y="5334120"/>
            <a:ext cx="53341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5.4.1  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编辑输入并保存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VHDL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源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952960" y="3875040"/>
            <a:ext cx="3038760" cy="2449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4120" y="380880"/>
            <a:ext cx="914400" cy="457200"/>
          </a:xfrm>
          <a:prstGeom prst="wedgeRoundRectCallout">
            <a:avLst>
              <a:gd name="adj1" fmla="val -466842"/>
              <a:gd name="adj2" fmla="val 94444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新建一个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计文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67480" y="1219320"/>
            <a:ext cx="1447920" cy="685800"/>
          </a:xfrm>
          <a:prstGeom prst="wedgeRoundRectCallout">
            <a:avLst>
              <a:gd name="adj1" fmla="val -129935"/>
              <a:gd name="adj2" fmla="val 517361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使用文本输入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法设计，必须选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打开文本编辑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307800"/>
            <a:ext cx="9144000" cy="6473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67240" y="4386240"/>
            <a:ext cx="2405160" cy="1100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191120" y="5562720"/>
            <a:ext cx="1218960" cy="609480"/>
          </a:xfrm>
          <a:prstGeom prst="wedgeRoundRectCallout">
            <a:avLst>
              <a:gd name="adj1" fmla="val -240106"/>
              <a:gd name="adj2" fmla="val -521875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选择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END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调整仿真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区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91520" y="5638680"/>
            <a:ext cx="1218960" cy="457200"/>
          </a:xfrm>
          <a:prstGeom prst="wedgeRoundRectCallout">
            <a:avLst>
              <a:gd name="adj1" fmla="val -143097"/>
              <a:gd name="adj2" fmla="val -216319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选择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65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微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比较合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257040"/>
            <a:ext cx="9144000" cy="6524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090960" y="3537000"/>
            <a:ext cx="3614760" cy="1568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00200" y="2895480"/>
            <a:ext cx="1219320" cy="609840"/>
          </a:xfrm>
          <a:prstGeom prst="wedgeRoundRectCallout">
            <a:avLst>
              <a:gd name="adj1" fmla="val -161458"/>
              <a:gd name="adj2" fmla="val -74740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用此键改变仿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区域坐标到合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位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5181480"/>
            <a:ext cx="1219320" cy="609840"/>
          </a:xfrm>
          <a:prstGeom prst="wedgeRoundRectCallout">
            <a:avLst>
              <a:gd name="adj1" fmla="val -217708"/>
              <a:gd name="adj2" fmla="val -324740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点击‘</a:t>
            </a: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1’</a:t>
            </a: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，使拖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的电平为高电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2438280"/>
            <a:ext cx="1218960" cy="457200"/>
          </a:xfrm>
          <a:prstGeom prst="wedgeRoundRectCallout">
            <a:avLst>
              <a:gd name="adj1" fmla="val -413282"/>
              <a:gd name="adj2" fmla="val -122222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Times New Roman"/>
              </a:rPr>
              <a:t>先点击‘</a:t>
            </a:r>
            <a:r>
              <a:rPr b="1" lang="zh-CN" sz="1400" spc="-1" strike="noStrike">
                <a:solidFill>
                  <a:srgbClr val="ff3300"/>
                </a:solidFill>
                <a:latin typeface="Times New Roman"/>
              </a:rPr>
              <a:t>b’</a:t>
            </a:r>
            <a:r>
              <a:rPr b="1" lang="zh-CN" sz="1400" spc="-1" strike="noStrike">
                <a:solidFill>
                  <a:srgbClr val="ff3300"/>
                </a:solidFill>
                <a:latin typeface="Times New Roman"/>
              </a:rPr>
              <a:t>，将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Times New Roman"/>
              </a:rPr>
              <a:t>点为黑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5334120"/>
            <a:ext cx="1219320" cy="609480"/>
          </a:xfrm>
          <a:prstGeom prst="wedgeRoundRectCallout">
            <a:avLst>
              <a:gd name="adj1" fmla="val -84634"/>
              <a:gd name="adj2" fmla="val -202606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然后先点击此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将弹出时钟周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设置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828800" y="3733560"/>
            <a:ext cx="205740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895480"/>
            <a:ext cx="1218960" cy="457200"/>
          </a:xfrm>
          <a:prstGeom prst="wedgeRoundRectCallout">
            <a:avLst>
              <a:gd name="adj1" fmla="val -266925"/>
              <a:gd name="adj2" fmla="val 283680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Times New Roman"/>
              </a:rPr>
              <a:t>设置输入信号‘</a:t>
            </a:r>
            <a:r>
              <a:rPr b="1" lang="zh-CN" sz="1400" spc="-1" strike="noStrike">
                <a:solidFill>
                  <a:srgbClr val="ff3300"/>
                </a:solidFill>
                <a:latin typeface="Times New Roman"/>
              </a:rPr>
              <a:t>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Times New Roman"/>
              </a:rPr>
              <a:t>的周期为</a:t>
            </a:r>
            <a:r>
              <a:rPr b="1" lang="zh-CN" sz="1400" spc="-1" strike="noStrike">
                <a:solidFill>
                  <a:srgbClr val="ff3300"/>
                </a:solidFill>
                <a:latin typeface="Times New Roman"/>
              </a:rPr>
              <a:t>800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460440"/>
            <a:ext cx="9144000" cy="6397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162920" y="3124080"/>
            <a:ext cx="1218960" cy="457200"/>
          </a:xfrm>
          <a:prstGeom prst="wedgeRoundRectCallout">
            <a:avLst>
              <a:gd name="adj1" fmla="val -266925"/>
              <a:gd name="adj2" fmla="val 283680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设置输入信号‘</a:t>
            </a: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的周期为</a:t>
            </a: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2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272880"/>
            <a:ext cx="9144000" cy="6508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162920" y="2362320"/>
            <a:ext cx="1218960" cy="457200"/>
          </a:xfrm>
          <a:prstGeom prst="wedgeRoundRectCallout">
            <a:avLst>
              <a:gd name="adj1" fmla="val -582421"/>
              <a:gd name="adj2" fmla="val -394791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仿真波形文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存盘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343400" y="2819520"/>
            <a:ext cx="281952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450720"/>
            <a:ext cx="9144000" cy="6407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971800" y="3295800"/>
            <a:ext cx="3809880" cy="2724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572000" y="2971800"/>
            <a:ext cx="1219320" cy="228600"/>
          </a:xfrm>
          <a:prstGeom prst="wedgeRoundRectCallout">
            <a:avLst>
              <a:gd name="adj1" fmla="val -333592"/>
              <a:gd name="adj2" fmla="val -350000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选择仿真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5181480"/>
            <a:ext cx="1219320" cy="228600"/>
          </a:xfrm>
          <a:prstGeom prst="wedgeRoundRectCallout">
            <a:avLst>
              <a:gd name="adj1" fmla="val -311587"/>
              <a:gd name="adj2" fmla="val 191666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运行仿真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489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33520" y="152280"/>
            <a:ext cx="30477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5.4.4  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时序仿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37339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be0e3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bbe0e3"/>
                </a:solidFill>
                <a:latin typeface="Times New Roman"/>
              </a:rPr>
              <a:t>5-17  mux21a</a:t>
            </a:r>
            <a:r>
              <a:rPr b="1" lang="zh-CN" sz="2000" spc="-1" strike="noStrike">
                <a:solidFill>
                  <a:srgbClr val="bbe0e3"/>
                </a:solidFill>
                <a:latin typeface="Times New Roman"/>
              </a:rPr>
              <a:t>仿真波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304920"/>
            <a:ext cx="2895480" cy="45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脚锁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866880"/>
            <a:ext cx="7543800" cy="5991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00400" y="4114800"/>
            <a:ext cx="1219320" cy="457200"/>
          </a:xfrm>
          <a:prstGeom prst="wedgeRoundRectCallout">
            <a:avLst>
              <a:gd name="adj1" fmla="val -227736"/>
              <a:gd name="adj2" fmla="val 428472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可选择键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8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作为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路选择器的输入“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3648240"/>
            <a:ext cx="2210040" cy="337320"/>
          </a:xfrm>
          <a:prstGeom prst="rect">
            <a:avLst/>
          </a:prstGeom>
          <a:solidFill>
            <a:srgbClr val="ccff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选择实验电路结构图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19720" y="304920"/>
            <a:ext cx="1295280" cy="685800"/>
          </a:xfrm>
          <a:prstGeom prst="wedgeRoundRectCallout">
            <a:avLst>
              <a:gd name="adj1" fmla="val 223898"/>
              <a:gd name="adj2" fmla="val 170138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可选择输出“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的信号从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声器输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523520" y="4343400"/>
            <a:ext cx="167652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971800"/>
            <a:ext cx="1295280" cy="685800"/>
          </a:xfrm>
          <a:prstGeom prst="wedgeRoundRectCallout">
            <a:avLst>
              <a:gd name="adj1" fmla="val 223898"/>
              <a:gd name="adj2" fmla="val 170138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信号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a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和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b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两个不同频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的时钟信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0880" y="1967040"/>
            <a:ext cx="8534520" cy="4167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引脚对应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多路选择器信号     目标器件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EP1K30TC144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引脚号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s                                   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y                                   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b                                   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a                                    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514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800600" y="3200400"/>
            <a:ext cx="4181400" cy="3533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248520" y="152280"/>
            <a:ext cx="914400" cy="457200"/>
          </a:xfrm>
          <a:prstGeom prst="wedgeRoundRectCallout">
            <a:avLst>
              <a:gd name="adj1" fmla="val -264759"/>
              <a:gd name="adj2" fmla="val 165277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选择引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锁定选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2514600"/>
            <a:ext cx="533520" cy="380880"/>
          </a:xfrm>
          <a:prstGeom prst="wedgeRoundRectCallout">
            <a:avLst>
              <a:gd name="adj1" fmla="val -418152"/>
              <a:gd name="adj2" fmla="val 188333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引脚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19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562720" y="1828800"/>
            <a:ext cx="914400" cy="457200"/>
          </a:xfrm>
          <a:prstGeom prst="wedgeRoundRectCallout">
            <a:avLst>
              <a:gd name="adj1" fmla="val -264759"/>
              <a:gd name="adj2" fmla="val 165277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此处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信号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2590920"/>
            <a:ext cx="914400" cy="457200"/>
          </a:xfrm>
          <a:prstGeom prst="wedgeRoundRectCallout">
            <a:avLst>
              <a:gd name="adj1" fmla="val -264759"/>
              <a:gd name="adj2" fmla="val 165277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此处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引脚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72400" y="4876920"/>
            <a:ext cx="990720" cy="609480"/>
          </a:xfrm>
          <a:prstGeom prst="wedgeRoundRectCallout">
            <a:avLst>
              <a:gd name="adj1" fmla="val -132370"/>
              <a:gd name="adj2" fmla="val 73439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按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“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ADD”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即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38880" y="2743200"/>
            <a:ext cx="1219320" cy="838080"/>
          </a:xfrm>
          <a:prstGeom prst="wedgeRoundRectCallout">
            <a:avLst>
              <a:gd name="adj1" fmla="val -173569"/>
              <a:gd name="adj2" fmla="val 50379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注意引脚属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错误引脚名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无正确属性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74760"/>
            <a:ext cx="9144000" cy="6483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505320" y="640080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be0e3"/>
                </a:solidFill>
                <a:latin typeface="Times New Roman"/>
              </a:rPr>
              <a:t>图</a:t>
            </a:r>
            <a:r>
              <a:rPr b="1" lang="zh-CN" sz="1600" spc="-1" strike="noStrike">
                <a:solidFill>
                  <a:srgbClr val="bbe0e3"/>
                </a:solidFill>
                <a:latin typeface="Times New Roman"/>
              </a:rPr>
              <a:t>5-13  </a:t>
            </a:r>
            <a:r>
              <a:rPr b="1" lang="zh-CN" sz="1600" spc="-1" strike="noStrike">
                <a:solidFill>
                  <a:srgbClr val="bbe0e3"/>
                </a:solidFill>
                <a:latin typeface="Times New Roman"/>
              </a:rPr>
              <a:t>在文本编辑窗中输入</a:t>
            </a:r>
            <a:r>
              <a:rPr b="1" lang="zh-CN" sz="1600" spc="-1" strike="noStrike">
                <a:solidFill>
                  <a:srgbClr val="bbe0e3"/>
                </a:solidFill>
                <a:latin typeface="Times New Roman"/>
              </a:rPr>
              <a:t>VHDL</a:t>
            </a:r>
            <a:r>
              <a:rPr b="1" lang="zh-CN" sz="1600" spc="-1" strike="noStrike">
                <a:solidFill>
                  <a:srgbClr val="bbe0e3"/>
                </a:solidFill>
                <a:latin typeface="Times New Roman"/>
              </a:rPr>
              <a:t>文件并存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350532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7632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be0e3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bbe0e3"/>
                </a:solidFill>
                <a:latin typeface="Times New Roman"/>
              </a:rPr>
              <a:t>建立文本编辑器对话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095880"/>
            <a:ext cx="990720" cy="228600"/>
          </a:xfrm>
          <a:prstGeom prst="wedgeRoundRectCallout">
            <a:avLst>
              <a:gd name="adj1" fmla="val 218750"/>
              <a:gd name="adj2" fmla="val -218055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文本编辑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3048120"/>
            <a:ext cx="1447920" cy="533160"/>
          </a:xfrm>
          <a:prstGeom prst="wedgeRoundRectCallout">
            <a:avLst>
              <a:gd name="adj1" fmla="val -168967"/>
              <a:gd name="adj2" fmla="val -316962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用键盘输入设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文件：多路选择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467480" y="152280"/>
            <a:ext cx="1524240" cy="457200"/>
          </a:xfrm>
          <a:prstGeom prst="wedgeRoundRectCallout">
            <a:avLst>
              <a:gd name="adj1" fmla="val -121148"/>
              <a:gd name="adj2" fmla="val 321875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存盘文件名必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取为：</a:t>
            </a: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mux21a.v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4267080"/>
            <a:ext cx="1143000" cy="609840"/>
          </a:xfrm>
          <a:prstGeom prst="wedgeRoundRectCallout">
            <a:avLst>
              <a:gd name="adj1" fmla="val 320972"/>
              <a:gd name="adj2" fmla="val -262759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注意，要存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自己建立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文件夹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669960"/>
            <a:ext cx="9144000" cy="6188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257800" y="1981080"/>
            <a:ext cx="1371600" cy="762120"/>
          </a:xfrm>
          <a:prstGeom prst="wedgeRoundRectCallout">
            <a:avLst>
              <a:gd name="adj1" fmla="val -109490"/>
              <a:gd name="adj2" fmla="val 68750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再编译一次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将引脚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进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368280"/>
            <a:ext cx="9144000" cy="6489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191120" y="3387600"/>
            <a:ext cx="3352680" cy="32702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685800"/>
            <a:ext cx="1219320" cy="1295280"/>
          </a:xfrm>
          <a:prstGeom prst="wedgeRoundRectCallout">
            <a:avLst>
              <a:gd name="adj1" fmla="val -188930"/>
              <a:gd name="adj2" fmla="val 99879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选择编程器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准备将设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好的半加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文件下载到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器件中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3962520"/>
            <a:ext cx="609840" cy="304560"/>
          </a:xfrm>
          <a:prstGeom prst="wedgeRoundRectCallout">
            <a:avLst>
              <a:gd name="adj1" fmla="val -183856"/>
              <a:gd name="adj2" fmla="val 96875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编程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724280" y="4319640"/>
            <a:ext cx="3353040" cy="2309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934320" y="914400"/>
            <a:ext cx="1143000" cy="762120"/>
          </a:xfrm>
          <a:prstGeom prst="wedgeRoundRectCallout">
            <a:avLst>
              <a:gd name="adj1" fmla="val -307500"/>
              <a:gd name="adj2" fmla="val 29374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在编程窗打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的情况下选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下载方式设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5791320"/>
            <a:ext cx="838440" cy="457200"/>
          </a:xfrm>
          <a:prstGeom prst="wedgeRoundRectCallout">
            <a:avLst>
              <a:gd name="adj1" fmla="val 428597"/>
              <a:gd name="adj2" fmla="val -130555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选择此项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载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9144000" cy="6451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315200" y="3276720"/>
            <a:ext cx="990720" cy="609480"/>
          </a:xfrm>
          <a:prstGeom prst="wedgeRoundRectCallout">
            <a:avLst>
              <a:gd name="adj1" fmla="val -261861"/>
              <a:gd name="adj2" fmla="val 80731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下载（配置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成功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476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705720" y="1295280"/>
            <a:ext cx="1218960" cy="838440"/>
          </a:xfrm>
          <a:prstGeom prst="wedgeRoundRectCallout">
            <a:avLst>
              <a:gd name="adj1" fmla="val -365495"/>
              <a:gd name="adj2" fmla="val 86740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文件存盘后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关键词将改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颜色！否则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件名一定有错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9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6324480"/>
            <a:ext cx="46479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5.4.2  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将当前设计设定为工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482904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be0e3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bbe0e3"/>
                </a:solidFill>
                <a:latin typeface="Times New Roman"/>
              </a:rPr>
              <a:t>5-14  </a:t>
            </a:r>
            <a:r>
              <a:rPr b="1" lang="zh-CN" sz="2000" spc="-1" strike="noStrike">
                <a:solidFill>
                  <a:srgbClr val="bbe0e3"/>
                </a:solidFill>
                <a:latin typeface="Times New Roman"/>
              </a:rPr>
              <a:t>设定当前文件为工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2085840"/>
            <a:ext cx="914400" cy="304920"/>
          </a:xfrm>
          <a:prstGeom prst="wedgeRoundRectCallout">
            <a:avLst>
              <a:gd name="adj1" fmla="val -213717"/>
              <a:gd name="adj2" fmla="val -575523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首先点击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2390760"/>
            <a:ext cx="1218960" cy="762120"/>
          </a:xfrm>
          <a:prstGeom prst="wedgeRoundRectCallout">
            <a:avLst>
              <a:gd name="adj1" fmla="val -184634"/>
              <a:gd name="adj2" fmla="val -270833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然后选择此项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将当前的原理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设计文件设置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工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485640"/>
            <a:ext cx="1066680" cy="457200"/>
          </a:xfrm>
          <a:prstGeom prst="wedgeRoundRectCallout">
            <a:avLst>
              <a:gd name="adj1" fmla="val -423958"/>
              <a:gd name="adj2" fmla="val -126041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最后注意此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径指向的改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36600"/>
            <a:ext cx="9144000" cy="6521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248520" y="762120"/>
            <a:ext cx="1371600" cy="457200"/>
          </a:xfrm>
          <a:prstGeom prst="wedgeRoundRectCallout">
            <a:avLst>
              <a:gd name="adj1" fmla="val -340856"/>
              <a:gd name="adj2" fmla="val -126041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注意，此路径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向当前的工程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336600"/>
            <a:ext cx="9144000" cy="6521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705720" y="1219320"/>
            <a:ext cx="1066680" cy="457200"/>
          </a:xfrm>
          <a:prstGeom prst="wedgeRoundRectCallout">
            <a:avLst>
              <a:gd name="adj1" fmla="val -423958"/>
              <a:gd name="adj2" fmla="val -126041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首先选择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33920" y="3386160"/>
            <a:ext cx="5105160" cy="2757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3520" y="3124080"/>
            <a:ext cx="1218960" cy="609840"/>
          </a:xfrm>
          <a:prstGeom prst="wedgeRoundRectCallout">
            <a:avLst>
              <a:gd name="adj1" fmla="val 309245"/>
              <a:gd name="adj2" fmla="val 126824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器件系列选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窗，选择</a:t>
            </a: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ACEX1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系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4572000"/>
            <a:ext cx="1219320" cy="609480"/>
          </a:xfrm>
          <a:prstGeom prst="wedgeRoundRectCallout">
            <a:avLst>
              <a:gd name="adj1" fmla="val 249481"/>
              <a:gd name="adj2" fmla="val 43231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根据实验板上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目标器件型号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择，如选</a:t>
            </a: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EP1K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5257800"/>
            <a:ext cx="1371600" cy="990720"/>
          </a:xfrm>
          <a:prstGeom prst="wedgeRoundRectCallout">
            <a:avLst>
              <a:gd name="adj1" fmla="val 194097"/>
              <a:gd name="adj2" fmla="val -8495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注意，首先消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这里的勾，以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使所有速度级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的器件都能显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出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505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600200" y="3276720"/>
            <a:ext cx="7400880" cy="1933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419720" y="1447920"/>
            <a:ext cx="1218960" cy="304560"/>
          </a:xfrm>
          <a:prstGeom prst="wedgeRoundRectCallout">
            <a:avLst>
              <a:gd name="adj1" fmla="val -290884"/>
              <a:gd name="adj2" fmla="val 128125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选择编译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43800" y="5130720"/>
            <a:ext cx="533520" cy="304920"/>
          </a:xfrm>
          <a:prstGeom prst="wedgeRoundRectCallout">
            <a:avLst>
              <a:gd name="adj1" fmla="val -830060"/>
              <a:gd name="adj2" fmla="val -436458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编译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355680"/>
            <a:ext cx="9144000" cy="6502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594400" y="2457360"/>
            <a:ext cx="3321000" cy="432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6320" y="0"/>
            <a:ext cx="48006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Times New Roman"/>
              </a:rPr>
              <a:t>选择</a:t>
            </a:r>
            <a:r>
              <a:rPr b="1" lang="zh-CN" sz="1800" spc="-1" strike="noStrike">
                <a:solidFill>
                  <a:srgbClr val="800000"/>
                </a:solidFill>
                <a:latin typeface="Times New Roman"/>
              </a:rPr>
              <a:t>VHDL</a:t>
            </a:r>
            <a:r>
              <a:rPr b="1" lang="zh-CN" sz="1800" spc="-1" strike="noStrike">
                <a:solidFill>
                  <a:srgbClr val="800000"/>
                </a:solidFill>
                <a:latin typeface="Times New Roman"/>
              </a:rPr>
              <a:t>文本编译版本号和排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60199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be0e3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bbe0e3"/>
                </a:solidFill>
                <a:latin typeface="Times New Roman"/>
              </a:rPr>
              <a:t>5-15  </a:t>
            </a:r>
            <a:r>
              <a:rPr b="1" lang="zh-CN" sz="2000" spc="-1" strike="noStrike">
                <a:solidFill>
                  <a:srgbClr val="bbe0e3"/>
                </a:solidFill>
                <a:latin typeface="Times New Roman"/>
              </a:rPr>
              <a:t>设定</a:t>
            </a:r>
            <a:r>
              <a:rPr b="1" lang="zh-CN" sz="2000" spc="-1" strike="noStrike">
                <a:solidFill>
                  <a:srgbClr val="bbe0e3"/>
                </a:solidFill>
                <a:latin typeface="Times New Roman"/>
              </a:rPr>
              <a:t>VHDL</a:t>
            </a:r>
            <a:r>
              <a:rPr b="1" lang="zh-CN" sz="2000" spc="-1" strike="noStrike">
                <a:solidFill>
                  <a:srgbClr val="bbe0e3"/>
                </a:solidFill>
                <a:latin typeface="Times New Roman"/>
              </a:rPr>
              <a:t>编译版本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1523880"/>
            <a:ext cx="762120" cy="304920"/>
          </a:xfrm>
          <a:prstGeom prst="wedgeRoundRectCallout">
            <a:avLst>
              <a:gd name="adj1" fmla="val -466041"/>
              <a:gd name="adj2" fmla="val 113541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选择此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809880"/>
            <a:ext cx="1752480" cy="304920"/>
          </a:xfrm>
          <a:prstGeom prst="wedgeRoundRectCallout">
            <a:avLst>
              <a:gd name="adj1" fmla="val 206157"/>
              <a:gd name="adj2" fmla="val -298439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选择</a:t>
            </a: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VHDL1993</a:t>
            </a: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 SYSTEM</cp:lastModifiedBy>
  <dcterms:modified xsi:type="dcterms:W3CDTF">2005-11-07T11:20:0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