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705-A0CC-4AF2-9A5D-F8930FA0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A5D-0980-41EE-8122-A5938D5D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D4F-D941-43F4-BE01-FF0BDB4F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07F-9172-4ED8-A5FE-5FEF9FFA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3EF-4C1A-4C30-9BDE-41C9CDA6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E777-86FB-44D7-BDD6-4DC359A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F395-C883-43AE-808D-ABA70848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3B8E-DFAE-4C3B-AD2F-690F770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912E-CA01-44EE-AC40-4DF59D6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16A7-E0C2-4C08-8C4A-7A89A36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6419-4C92-4FE6-972C-DAEFA15D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7B7-E5E3-4BA4-A66B-D3A3C5A0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19B7-E7FB-413D-AF39-F2E4FEF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E92A-56DE-4F7F-9206-8FA58AD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03E-2CAA-4325-A462-D18849A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596B-130B-40C0-891D-786C0EA1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AE6F-0ADD-41DB-A44D-7AAD1629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826-C526-491F-AFB8-C5C4DB46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98C-A8C0-4E77-ADA8-D3AE635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596-BAAC-4A16-9BB4-25B6BF3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A85-5217-4219-9C8B-9EB864D6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E1F-8369-4638-8EED-D092E51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F22-9FEB-4CED-8041-DD8705EF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42E-1EC9-42DC-B69E-5E47643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A683-9F74-4D19-A697-E6A6A934D097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6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9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1249-BE94-4CAD-8178-08644BD60213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6765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77336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b05"/>
                </a:solidFill>
                <a:latin typeface="Times New Roman"/>
              </a:rPr>
              <a:t>Chapter 4   </a:t>
            </a:r>
            <a:r>
              <a:rPr b="1" lang="en-US" sz="4000" spc="-1" strike="noStrike">
                <a:solidFill>
                  <a:srgbClr val="fd0b05"/>
                </a:solidFill>
                <a:latin typeface="Times New Roman"/>
              </a:rPr>
              <a:t>Combinational logic circuit DESig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1371600"/>
            <a:ext cx="8076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2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4 OR I5 OR I6 OR I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1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2 OR I3 OR I6 OR I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0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1 OR I3 OR I5 OR I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89548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2" name="8-3编码器波形" descr=""/>
          <p:cNvPicPr/>
          <p:nvPr/>
        </p:nvPicPr>
        <p:blipFill>
          <a:blip r:embed="rId1"/>
          <a:stretch/>
        </p:blipFill>
        <p:spPr>
          <a:xfrm>
            <a:off x="87480" y="380880"/>
            <a:ext cx="8839080" cy="5559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6165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219320"/>
            <a:ext cx="8001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_VECTOR(2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533520"/>
            <a:ext cx="7696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10000000"=&gt; A &lt;=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1000000"=&gt; A &lt;="1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100000"=&gt; A &lt;="1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10000"=&gt; A &lt;="1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01000"=&gt; A &lt;="0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00100"=&gt; A &lt;="0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00010"=&gt; A &lt;="0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OTHER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&gt; A &lt;="0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1" name="8-3编码器波形ZX" descr=""/>
          <p:cNvPicPr/>
          <p:nvPr/>
        </p:nvPicPr>
        <p:blipFill>
          <a:blip r:embed="rId1"/>
          <a:stretch/>
        </p:blipFill>
        <p:spPr>
          <a:xfrm>
            <a:off x="95400" y="380880"/>
            <a:ext cx="8762760" cy="4648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3880" y="685800"/>
            <a:ext cx="59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4.3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ority encod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78520" y="2021040"/>
            <a:ext cx="4575960" cy="4174920"/>
            <a:chOff x="2378520" y="2021040"/>
            <a:chExt cx="4575960" cy="4174920"/>
          </a:xfrm>
        </p:grpSpPr>
        <p:sp>
          <p:nvSpPr>
            <p:cNvPr id="205" name=""/>
            <p:cNvSpPr/>
            <p:nvPr/>
          </p:nvSpPr>
          <p:spPr>
            <a:xfrm flipH="1">
              <a:off x="2717640" y="409716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17640" y="225108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717640" y="501984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717640" y="455760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717640" y="317340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717640" y="271296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717640" y="363528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717640" y="548172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717640" y="594216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533920" y="455760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533920" y="501984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509800" y="2943360"/>
              <a:ext cx="9241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509800" y="3865680"/>
              <a:ext cx="9241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509800" y="3405240"/>
              <a:ext cx="9241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9960" y="2021040"/>
              <a:ext cx="1846440" cy="417492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61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2320" y="4281480"/>
              <a:ext cx="148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Priority encoder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82840" y="52736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2840" y="34275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86160" y="5411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82840" y="2066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86160" y="4950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82840" y="481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2840" y="391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86160" y="2158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82840" y="29671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2840" y="43736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82840" y="25272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0080" y="379728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8line-3line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6160" y="4005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86160" y="35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86160" y="310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86160" y="4465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47280" y="338148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4148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280" y="437364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1880" y="4835520"/>
              <a:ext cx="372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O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40840" y="3197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0840" y="27352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32720" y="3727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32720" y="33354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0840" y="36352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2720" y="2873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8520" y="578160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838080"/>
            <a:ext cx="70102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3 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5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6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G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O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1     1     1     1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 1     1     1     1     1     1     1     1          1     1     1     1     0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     0     0     0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     0     0     1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     0     1     0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1          0     1     1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1     1          1     0     0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1     1     1          1     0     1     0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0    1     1     1     1     1     1            1     1     0     0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0     1    1     1     1     1     1     1            1     1     1     0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193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8039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8380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334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572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572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095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38080" y="614520"/>
                <a:ext cx="723924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62120" y="2606760"/>
                <a:ext cx="73911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85800" y="4572000"/>
                <a:ext cx="66294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371600" y="228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ogical express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2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66680" y="457200"/>
                <a:ext cx="62485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6338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914400" y="1981080"/>
                <a:ext cx="5486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28600"/>
            <a:ext cx="83822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I7,I6,I5,I4,I3,I2,I1,I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E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2,A1,A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S,E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2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EI OR (I7 AND I6 AND I5 AND I4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1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EI OR (I7 AND I6 AND I3 AND I2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OR (I7 AND I6 AND NOT I5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OR (I7 AND I6 AND NOT I4) 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6560" y="189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620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4.1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Gate Circui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3360" y="13064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two feed nonequality gat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22320" y="2449440"/>
                <a:ext cx="2590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74760" y="34401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ogical symbo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7432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89548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8380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0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I OR (I7 AND NOT I6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 (I7 AND I5 AND NOT I4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 (I7 AND I5 AND I3 AND I1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 (I7 AND I5 AND I3 AND NOT I2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S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I OR (I7 AND I6 AND I5 AND I4 AND I3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D I2 AND I1 AND I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O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I OR NOT(I7 AND I6 AND I5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D I4 AND I3 AND I2 AND I1 AND I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8-3优先编码器波形" descr=""/>
          <p:cNvPicPr/>
          <p:nvPr/>
        </p:nvPicPr>
        <p:blipFill>
          <a:blip r:embed="rId1"/>
          <a:stretch/>
        </p:blipFill>
        <p:spPr>
          <a:xfrm>
            <a:off x="152280" y="19080"/>
            <a:ext cx="8763120" cy="6248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26920" y="6165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11280" y="765000"/>
            <a:ext cx="8076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s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llega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0XXXXXXX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=&gt;A&lt;=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000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2133720"/>
            <a:ext cx="8153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iority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 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 DOWNTO 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_VECTOR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 DOWNTO 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S,E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iority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0773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iority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(EI,I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I='1'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="11111111"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04920"/>
            <a:ext cx="8001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7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6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5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57200"/>
            <a:ext cx="79250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4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3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2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4400" y="609480"/>
            <a:ext cx="7086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1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0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84" name="8-3优先编码器波形ZX" descr=""/>
          <p:cNvPicPr/>
          <p:nvPr/>
        </p:nvPicPr>
        <p:blipFill>
          <a:blip r:embed="rId1"/>
          <a:stretch/>
        </p:blipFill>
        <p:spPr>
          <a:xfrm>
            <a:off x="95400" y="380880"/>
            <a:ext cx="89154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19320" y="5562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21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5.4    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ecod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590200" y="1519200"/>
            <a:ext cx="4339800" cy="3868920"/>
            <a:chOff x="2590200" y="1519200"/>
            <a:chExt cx="4339800" cy="3868920"/>
          </a:xfrm>
        </p:grpSpPr>
        <p:sp>
          <p:nvSpPr>
            <p:cNvPr id="289" name=""/>
            <p:cNvSpPr/>
            <p:nvPr/>
          </p:nvSpPr>
          <p:spPr>
            <a:xfrm flipH="1">
              <a:off x="3103200" y="391320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103200" y="434016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03200" y="220356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103200" y="476712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03200" y="305748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103200" y="263052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666760" y="455472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666760" y="198900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66760" y="412740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666760" y="327168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666760" y="241776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666760" y="369900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666760" y="498168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666760" y="284472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9280" y="1519200"/>
              <a:ext cx="1707840" cy="386892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70120" y="3807000"/>
              <a:ext cx="104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coder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2680" y="3400560"/>
              <a:ext cx="93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-8LINE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69040" y="295128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4138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0440" y="2139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98200" y="2011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8200" y="2438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90440" y="2567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8200" y="284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90440" y="29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33400" y="3763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04760" y="3849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2520" y="4168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90200" y="4575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81720" y="4254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1560" y="466092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78080" y="28018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00400" y="4938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1880" y="3976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00400" y="3635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00400" y="19256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1880" y="1839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78080" y="2352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1880" y="3549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71880" y="4809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71880" y="43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188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71880" y="26733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71880" y="2266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20920" y="4489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080" y="4062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78080" y="3228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609480"/>
            <a:ext cx="739116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B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1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1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1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1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1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0    0       0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0    1       1      0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1    0       1      1       0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1    1       1      1       1       0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0    0       1      1       1       1       0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0    1       1      1       1       1       1       0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1    0       1      1       1       1       1       1       0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1    1       1      1       1       1       1       1       1      0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1066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609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1096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6094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2286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760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PU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61722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62611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609480"/>
            <a:ext cx="525780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a,b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 &lt;= a XOR b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23920" y="2133720"/>
            <a:ext cx="2076480" cy="2895480"/>
            <a:chOff x="1123920" y="2133720"/>
            <a:chExt cx="2076480" cy="2895480"/>
          </a:xfrm>
        </p:grpSpPr>
        <p:sp>
          <p:nvSpPr>
            <p:cNvPr id="124" name=""/>
            <p:cNvSpPr/>
            <p:nvPr/>
          </p:nvSpPr>
          <p:spPr>
            <a:xfrm>
              <a:off x="1371600" y="2666880"/>
              <a:ext cx="1760400" cy="23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     b       y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       0         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       1         1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       0         1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       1         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123920" y="2133720"/>
              <a:ext cx="2076480" cy="2895480"/>
              <a:chOff x="1123920" y="2133720"/>
              <a:chExt cx="2076480" cy="2895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123920" y="3124080"/>
                <a:ext cx="2057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19320" y="5029200"/>
                <a:ext cx="19047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3000" y="2743200"/>
                <a:ext cx="2057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38280" y="2743200"/>
                <a:ext cx="0" cy="2286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28800" y="2743200"/>
                <a:ext cx="0" cy="2286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04000" y="213372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truth table</a:t>
                </a: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990720"/>
            <a:ext cx="74674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1,G2A,G2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(2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_VECTOR(7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1,G2A,G2B,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(G1='1' AND G2A='0' AND G2B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152280"/>
            <a:ext cx="792468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AS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0" =&gt; Y &lt;="111111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1" =&gt; Y &lt;="111111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0" =&gt; Y &lt;="111110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1" =&gt; Y &lt;="11110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100" =&gt; Y &lt;="1110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101" =&gt; Y &lt;="110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110" =&gt; Y &lt;="101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OTHERS =&gt; Y &lt;="011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CAS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E               Y &lt;="111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718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54" name="138译码器波形ZX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26920" y="5661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380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5.5  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Multichannel data select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100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354400" y="1325520"/>
            <a:ext cx="4392000" cy="5045040"/>
            <a:chOff x="2354400" y="1325520"/>
            <a:chExt cx="4392000" cy="5045040"/>
          </a:xfrm>
        </p:grpSpPr>
        <p:sp>
          <p:nvSpPr>
            <p:cNvPr id="361" name=""/>
            <p:cNvSpPr/>
            <p:nvPr/>
          </p:nvSpPr>
          <p:spPr>
            <a:xfrm flipH="1">
              <a:off x="2622240" y="4944960"/>
              <a:ext cx="824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613480" y="343368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746440" y="196380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746440" y="409248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746440" y="324180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746440" y="153828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746440" y="366696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46440" y="238932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746440" y="281628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746440" y="451800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592240" y="4092480"/>
              <a:ext cx="824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46440" y="577548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46440" y="620064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746440" y="534816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19960" y="3965400"/>
              <a:ext cx="185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91000" y="1325520"/>
              <a:ext cx="1981080" cy="504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4840" y="39020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54400" y="4795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36920" y="1452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4840" y="1793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4840" y="13683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36920" y="1879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61360" y="3348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14840" y="39654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4840" y="26240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3840" y="330516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4151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36920" y="2751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64840" y="34974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64840" y="21985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61360" y="39654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36920" y="3581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64840" y="3071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36920" y="3156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36920" y="2325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36920" y="44546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36920" y="4029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4840" y="4327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98840" y="56894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98840" y="526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7200" y="5965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37200" y="51354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8840" y="6051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7200" y="5560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5760" y="4859280"/>
              <a:ext cx="165240" cy="16992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09480" y="914400"/>
            <a:ext cx="79250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ab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dres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Y      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0 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0  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0      0 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0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0      0 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1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0      1 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2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0      1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3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0 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4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0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5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5   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1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6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1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7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29200" y="2438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29718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3352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38862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43434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52578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57150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9144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18288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14241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95280" y="60958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3880" y="4856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outpu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4572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572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62485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x8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1066680"/>
            <a:ext cx="75438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x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 (2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D0,D1,D2,D3,D4,D5,D6,D7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x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D0,D1,D2,D3,D4,D5,D6,D7,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04760"/>
            <a:ext cx="77724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G 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1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00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01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10")THEN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380880"/>
            <a:ext cx="74674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11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100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101")THEN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110"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80880"/>
            <a:ext cx="70866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13840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7" name="8选1数据选择器波形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756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26920" y="6165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228600"/>
            <a:ext cx="792468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VARIABL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STD_LOGIC_VECTOR(1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: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838080"/>
            <a:ext cx="7162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3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2,A1,A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D0,D1,D2,D3,D4,D5,D6,D7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3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3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STD_LOGIC_VECTOR(3 DOWNTO 0);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304920"/>
            <a:ext cx="79250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lt;=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comb,D0,D1,D2,D3,D4,D5,D6,D7,G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AS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00" =&gt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01" =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10" =&gt;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457200"/>
            <a:ext cx="8001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11" =&gt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00" =&gt;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01" =&gt;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10" =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533520"/>
            <a:ext cx="723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11" =&gt;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OTHERS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=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A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84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4" name="8选1数据选择器波形3" descr=""/>
          <p:cNvPicPr/>
          <p:nvPr/>
        </p:nvPicPr>
        <p:blipFill>
          <a:blip r:embed="rId1"/>
          <a:stretch/>
        </p:blipFill>
        <p:spPr>
          <a:xfrm>
            <a:off x="133200" y="304920"/>
            <a:ext cx="8839440" cy="53337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7621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b05"/>
                </a:solidFill>
                <a:latin typeface="Times New Roman"/>
              </a:rPr>
              <a:t>5.6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umeric comparat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523880"/>
            <a:ext cx="77724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xampl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are two 4_bit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f A&gt;B  then YA=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A&lt;B then YB=1,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A=B  then YC=1,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49320"/>
            <a:ext cx="769644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mp4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A,YB,YC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mp4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mp4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A &gt; B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A 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0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C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80880"/>
            <a:ext cx="7696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A &lt; B) 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A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1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C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A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0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C 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7" name="数值比较器波形" descr=""/>
          <p:cNvPicPr/>
          <p:nvPr/>
        </p:nvPicPr>
        <p:blipFill>
          <a:blip r:embed="rId1"/>
          <a:stretch/>
        </p:blipFill>
        <p:spPr>
          <a:xfrm>
            <a:off x="171360" y="171360"/>
            <a:ext cx="8763120" cy="47815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b05"/>
                </a:solidFill>
                <a:latin typeface="Times New Roman"/>
              </a:rPr>
              <a:t>5.7   </a:t>
            </a:r>
            <a:r>
              <a:rPr b="1" lang="en-US" sz="4000" spc="-1" strike="noStrike">
                <a:solidFill>
                  <a:srgbClr val="fd0b05"/>
                </a:solidFill>
                <a:latin typeface="Arial"/>
              </a:rPr>
              <a:t>Adder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9640" y="1413000"/>
            <a:ext cx="8001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Ci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690480" y="2565360"/>
          <a:ext cx="297972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565360"/>
                    <a:ext cx="297972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6155640" y="22939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859280" y="2781360"/>
          <a:ext cx="3456000" cy="3832200"/>
        </p:xfrm>
        <a:graphic>
          <a:graphicData uri="http://schemas.openxmlformats.org/drawingml/2006/table">
            <a:tbl>
              <a:tblPr/>
              <a:tblGrid>
                <a:gridCol w="2433600"/>
                <a:gridCol w="1022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     B     C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    F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0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1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0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1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066680"/>
            <a:ext cx="7848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CAS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0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0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THERS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=&gt; y &lt;='X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CAS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ROCESS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880" y="380880"/>
            <a:ext cx="83822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UNSIGNED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er8_v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:IN STD_LOGIC_VECTOR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:IN STD_LOGIC_VECTOR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in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:OUT STD_LOGIC_VECTOR(7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er8_v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er8_v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Sin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STD_LOGIC_VECTOR(8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A,B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STD_LOGIC_VECTOR(8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14400"/>
            <a:ext cx="914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A &lt;='0'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A(7 DOWNTO 0);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B &lt;='0'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B(7 DOWNTO 0)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t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AA + BB + Cin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(7 DOWNTO 0) &lt;= Sint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Sint(8);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8位加法器波形" descr=""/>
          <p:cNvPicPr/>
          <p:nvPr/>
        </p:nvPicPr>
        <p:blipFill>
          <a:blip r:embed="rId1"/>
          <a:stretch/>
        </p:blipFill>
        <p:spPr>
          <a:xfrm>
            <a:off x="133200" y="38088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336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5" name="异或门波形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15400" cy="4953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205740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80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4.2    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Encoder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956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72360" y="1517760"/>
            <a:ext cx="4254480" cy="3371760"/>
            <a:chOff x="1872360" y="1517760"/>
            <a:chExt cx="4254480" cy="3371760"/>
          </a:xfrm>
        </p:grpSpPr>
        <p:sp>
          <p:nvSpPr>
            <p:cNvPr id="141" name=""/>
            <p:cNvSpPr/>
            <p:nvPr/>
          </p:nvSpPr>
          <p:spPr>
            <a:xfrm flipH="1">
              <a:off x="2245680" y="172728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45680" y="214632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245680" y="2565360"/>
              <a:ext cx="878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245680" y="298296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45680" y="340200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45680" y="3821040"/>
              <a:ext cx="878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45680" y="4240080"/>
              <a:ext cx="878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245680" y="465948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898880" y="2774880"/>
              <a:ext cx="877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98880" y="3192480"/>
              <a:ext cx="877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98880" y="3611520"/>
              <a:ext cx="877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1517760"/>
              <a:ext cx="1754280" cy="33717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2360" y="15588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72360" y="19782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72360" y="2376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2360" y="27957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2360" y="323532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72360" y="44704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2360" y="4051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2360" y="3654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2160" y="1643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2160" y="20620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2160" y="2921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2160" y="25020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2160" y="3319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2160" y="37368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2160" y="41767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2160" y="45957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20840" y="2585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20840" y="3005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0840" y="3402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7760" y="2711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7760" y="3130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7760" y="3486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32400" y="277488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8line-3line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3600" y="3192480"/>
              <a:ext cx="96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coder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533520"/>
            <a:ext cx="601956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3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5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6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0     0    0    0     0    0             0    0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0     0    0    0     0    0             0    0     1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0    0    0     0    0             0    1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0    0     0    0             0    1     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0     0    0             1    0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0    0             1    0     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0    0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0             1    1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0    0     0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1     1    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948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06668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41008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52280"/>
            <a:ext cx="0" cy="5257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uth table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4112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28600"/>
            <a:ext cx="6248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ogical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9051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819520"/>
            <a:ext cx="7162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I0,I1,I2,I3,I4,I5,I6,I7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0,A1,A2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09:02:01Z</dcterms:created>
  <dc:creator>fap</dc:creator>
  <dc:description/>
  <dc:language>en-US</dc:language>
  <cp:lastModifiedBy>Admin</cp:lastModifiedBy>
  <dcterms:modified xsi:type="dcterms:W3CDTF">2006-03-24T10:03:45Z</dcterms:modified>
  <cp:revision>270</cp:revision>
  <dc:subject/>
  <dc:title>  第一章  数字电路基础 </dc:title>
</cp:coreProperties>
</file>