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29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png" ContentType="image/png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063C-4D91-419F-AA96-F94DEA26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8EA2-1613-4EB1-874B-17742BF4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DAEE-8C89-4436-A955-B9AD7518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686-F52C-4BB9-B1FE-88E3BAC0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14BF-97F1-442A-875C-BBC705BF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7332-4B63-4868-8B7A-9049D544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EBDF-3DE3-490B-8DDC-989FC683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A13D-6796-408A-86EB-5582BD6C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2C06-D322-4DD4-A3B9-ECF3F6AD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4283-6606-4F25-B45D-102D04FA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2435-5314-41FF-8BE5-050A5FC2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14A-FF28-44F8-B935-DB2FE895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61DD-D3C8-407D-BC5B-F8149696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E172-CCAF-4670-A93A-03741F7E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6D37-8B38-4097-BBF3-B54AEE9A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77B4-B4F7-439A-8E23-93A2D93B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B9D2-57C1-4486-B6E6-CD4E76E1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7148-E9F4-40C4-985F-D458F71F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AF4B-1D1A-4522-957A-7267D156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1B45-969C-4820-BF99-6580EFDD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620D-A158-4FB2-B8BB-71E95C71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AC08-130B-4ABE-BDB1-198B896D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86C1-E688-46F3-B2AC-AC267D2A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D94A-CF07-4607-AB43-2691CD1F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1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AE5A-4699-4452-AD73-06E035CA7DB8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46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69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5DC4-549C-4705-8726-864FAE9B826A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989000"/>
            <a:ext cx="85406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0b05"/>
                </a:solidFill>
                <a:latin typeface="Tahoma"/>
              </a:rPr>
              <a:t>Chapter 5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 Sequential circuit 'vhdl description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）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Register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바탕"/>
                <a:ea typeface="바탕"/>
              </a:rPr>
              <a:t>REG with asynchronous set / reset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990720" y="2895480"/>
            <a:ext cx="6242040" cy="3208320"/>
            <a:chOff x="990720" y="2895480"/>
            <a:chExt cx="6242040" cy="3208320"/>
          </a:xfrm>
        </p:grpSpPr>
        <p:grpSp>
          <p:nvGrpSpPr>
            <p:cNvPr id="384" name=""/>
            <p:cNvGrpSpPr/>
            <p:nvPr/>
          </p:nvGrpSpPr>
          <p:grpSpPr>
            <a:xfrm>
              <a:off x="995400" y="2900160"/>
              <a:ext cx="6232680" cy="3198960"/>
              <a:chOff x="995400" y="2900160"/>
              <a:chExt cx="6232680" cy="3198960"/>
            </a:xfrm>
          </p:grpSpPr>
          <p:grpSp>
            <p:nvGrpSpPr>
              <p:cNvPr id="385" name=""/>
              <p:cNvGrpSpPr/>
              <p:nvPr/>
            </p:nvGrpSpPr>
            <p:grpSpPr>
              <a:xfrm>
                <a:off x="995400" y="2900160"/>
                <a:ext cx="1041480" cy="639720"/>
                <a:chOff x="995400" y="2900160"/>
                <a:chExt cx="1041480" cy="639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1063800" y="2900160"/>
                  <a:ext cx="904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en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995400" y="2900160"/>
                  <a:ext cx="1041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2036880" y="2900160"/>
                <a:ext cx="1042920" cy="639720"/>
                <a:chOff x="2036880" y="2900160"/>
                <a:chExt cx="1042920" cy="6397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2104920" y="2900160"/>
                  <a:ext cx="9064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set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036880" y="2900160"/>
                  <a:ext cx="1042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3079800" y="2900160"/>
                <a:ext cx="1069920" cy="639720"/>
                <a:chOff x="3079800" y="2900160"/>
                <a:chExt cx="1069920" cy="639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3148200" y="2900160"/>
                  <a:ext cx="9334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reset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079800" y="2900160"/>
                  <a:ext cx="1069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4149720" y="2900160"/>
                <a:ext cx="1022400" cy="639720"/>
                <a:chOff x="4149720" y="2900160"/>
                <a:chExt cx="1022400" cy="6397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218120" y="2900160"/>
                  <a:ext cx="885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d(n)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4149720" y="2900160"/>
                  <a:ext cx="1022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5172120" y="2900160"/>
                <a:ext cx="1046160" cy="639720"/>
                <a:chOff x="5172120" y="2900160"/>
                <a:chExt cx="1046160" cy="6397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5240520" y="2900160"/>
                  <a:ext cx="9093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clk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172120" y="2900160"/>
                  <a:ext cx="1046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6218280" y="2900160"/>
                <a:ext cx="1009800" cy="639720"/>
                <a:chOff x="6218280" y="2900160"/>
                <a:chExt cx="1009800" cy="6397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6286680" y="2900160"/>
                  <a:ext cx="873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q(n)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218280" y="2900160"/>
                  <a:ext cx="1009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995400" y="3539880"/>
                <a:ext cx="1041480" cy="639720"/>
                <a:chOff x="995400" y="3539880"/>
                <a:chExt cx="1041480" cy="6397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1063800" y="3539880"/>
                  <a:ext cx="904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995400" y="3539880"/>
                  <a:ext cx="1041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2036880" y="3539880"/>
                <a:ext cx="1042920" cy="639720"/>
                <a:chOff x="2036880" y="3539880"/>
                <a:chExt cx="1042920" cy="6397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2104920" y="3539880"/>
                  <a:ext cx="9064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036880" y="3539880"/>
                  <a:ext cx="1042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3079800" y="3539880"/>
                <a:ext cx="1069920" cy="639720"/>
                <a:chOff x="3079800" y="3539880"/>
                <a:chExt cx="1069920" cy="6397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148200" y="3539880"/>
                  <a:ext cx="9334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079800" y="3539880"/>
                  <a:ext cx="1069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4149720" y="3539880"/>
                <a:ext cx="1022400" cy="639720"/>
                <a:chOff x="4149720" y="3539880"/>
                <a:chExt cx="1022400" cy="6397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218120" y="3539880"/>
                  <a:ext cx="885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149720" y="3539880"/>
                  <a:ext cx="1022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5172120" y="3539880"/>
                <a:ext cx="1046160" cy="639720"/>
                <a:chOff x="5172120" y="3539880"/>
                <a:chExt cx="1046160" cy="6397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5240520" y="3539880"/>
                  <a:ext cx="9093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宋体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172120" y="3539880"/>
                  <a:ext cx="1046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6218280" y="3539880"/>
                <a:ext cx="1009800" cy="639720"/>
                <a:chOff x="6218280" y="3539880"/>
                <a:chExt cx="1009800" cy="6397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6286680" y="3539880"/>
                  <a:ext cx="873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218280" y="3539880"/>
                  <a:ext cx="1009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995400" y="4179600"/>
                <a:ext cx="1041480" cy="639720"/>
                <a:chOff x="995400" y="4179600"/>
                <a:chExt cx="1041480" cy="6397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1063800" y="4179600"/>
                  <a:ext cx="904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995400" y="4179600"/>
                  <a:ext cx="1041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2036880" y="4179600"/>
                <a:ext cx="1042920" cy="639720"/>
                <a:chOff x="2036880" y="4179600"/>
                <a:chExt cx="1042920" cy="6397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2104920" y="4179600"/>
                  <a:ext cx="9064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036880" y="4179600"/>
                  <a:ext cx="1042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3079800" y="4179600"/>
                <a:ext cx="1069920" cy="639720"/>
                <a:chOff x="3079800" y="4179600"/>
                <a:chExt cx="1069920" cy="6397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148200" y="4179600"/>
                  <a:ext cx="9334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079800" y="4179600"/>
                  <a:ext cx="1069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4149720" y="4179600"/>
                <a:ext cx="1022400" cy="639720"/>
                <a:chOff x="4149720" y="4179600"/>
                <a:chExt cx="1022400" cy="6397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4218120" y="4179600"/>
                  <a:ext cx="885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149720" y="4179600"/>
                  <a:ext cx="1022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5172120" y="4179600"/>
                <a:ext cx="1046160" cy="639720"/>
                <a:chOff x="5172120" y="4179600"/>
                <a:chExt cx="1046160" cy="6397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5240520" y="4179600"/>
                  <a:ext cx="9093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宋体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172120" y="4179600"/>
                  <a:ext cx="1046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6218280" y="4179600"/>
                <a:ext cx="1009800" cy="639720"/>
                <a:chOff x="6218280" y="4179600"/>
                <a:chExt cx="1009800" cy="6397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6286680" y="4179600"/>
                  <a:ext cx="873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218280" y="4179600"/>
                  <a:ext cx="1009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995400" y="4819320"/>
                <a:ext cx="1041480" cy="639720"/>
                <a:chOff x="995400" y="4819320"/>
                <a:chExt cx="1041480" cy="6397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1063800" y="4819320"/>
                  <a:ext cx="904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995400" y="4819320"/>
                  <a:ext cx="1041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2036880" y="4819320"/>
                <a:ext cx="1042920" cy="639720"/>
                <a:chOff x="2036880" y="4819320"/>
                <a:chExt cx="1042920" cy="6397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2104920" y="4819320"/>
                  <a:ext cx="9064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2036880" y="4819320"/>
                  <a:ext cx="1042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079800" y="4819320"/>
                <a:ext cx="1069920" cy="639720"/>
                <a:chOff x="3079800" y="4819320"/>
                <a:chExt cx="1069920" cy="6397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148200" y="4819320"/>
                  <a:ext cx="9334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079800" y="4819320"/>
                  <a:ext cx="1069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4149720" y="4819320"/>
                <a:ext cx="1022400" cy="639720"/>
                <a:chOff x="4149720" y="4819320"/>
                <a:chExt cx="1022400" cy="6397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4218120" y="4819320"/>
                  <a:ext cx="885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149720" y="4819320"/>
                  <a:ext cx="1022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5172120" y="4819320"/>
                <a:ext cx="1046160" cy="639720"/>
                <a:chOff x="5172120" y="4819320"/>
                <a:chExt cx="1046160" cy="6397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5240520" y="4819320"/>
                  <a:ext cx="9093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宋体"/>
                    </a:rPr>
                    <a:t>↑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172120" y="4819320"/>
                  <a:ext cx="1046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6218280" y="4819320"/>
                <a:ext cx="1009800" cy="639720"/>
                <a:chOff x="6218280" y="4819320"/>
                <a:chExt cx="1009800" cy="6397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6286680" y="4819320"/>
                  <a:ext cx="873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d(n)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218280" y="4819320"/>
                  <a:ext cx="1009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995400" y="5459040"/>
                <a:ext cx="1041480" cy="640080"/>
                <a:chOff x="995400" y="5459040"/>
                <a:chExt cx="1041480" cy="64008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1063800" y="5459040"/>
                  <a:ext cx="9046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995400" y="5459040"/>
                  <a:ext cx="10414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2036880" y="5459040"/>
                <a:ext cx="1042920" cy="640080"/>
                <a:chOff x="2036880" y="5459040"/>
                <a:chExt cx="1042920" cy="64008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2104920" y="5459040"/>
                  <a:ext cx="9064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036880" y="5459040"/>
                  <a:ext cx="10429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3079800" y="5459040"/>
                <a:ext cx="1069920" cy="640080"/>
                <a:chOff x="3079800" y="5459040"/>
                <a:chExt cx="1069920" cy="64008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3148200" y="5459040"/>
                  <a:ext cx="9334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079800" y="5459040"/>
                  <a:ext cx="10699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4149720" y="5459040"/>
                <a:ext cx="1022400" cy="640080"/>
                <a:chOff x="4149720" y="5459040"/>
                <a:chExt cx="1022400" cy="6400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4218120" y="5459040"/>
                  <a:ext cx="8856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149720" y="5459040"/>
                  <a:ext cx="102240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5172120" y="5459040"/>
                <a:ext cx="1046160" cy="640080"/>
                <a:chOff x="5172120" y="5459040"/>
                <a:chExt cx="1046160" cy="64008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5240520" y="5459040"/>
                  <a:ext cx="90936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宋体"/>
                    </a:rPr>
                    <a:t>↑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172120" y="5459040"/>
                  <a:ext cx="10461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6218280" y="5459040"/>
                <a:ext cx="1009800" cy="640080"/>
                <a:chOff x="6218280" y="5459040"/>
                <a:chExt cx="1009800" cy="6400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6286680" y="5459040"/>
                  <a:ext cx="8730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保持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218280" y="5459040"/>
                  <a:ext cx="100980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5" name=""/>
            <p:cNvSpPr/>
            <p:nvPr/>
          </p:nvSpPr>
          <p:spPr>
            <a:xfrm>
              <a:off x="990720" y="2895480"/>
              <a:ext cx="6242040" cy="3208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2362320" y="0"/>
            <a:ext cx="6781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LIBRARY IEEE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USE IEEE.STD_LOGIC_1164.ALL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TITY registern I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GENERIC (n:INTEGER:=1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ORT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 : IN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TD_LOGIC_VECTOR(n DOWNTO 0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lk,en,set,reset : IN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TD_LOGIC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 : BUFFER STD_LOGIC_VECTOR(n DOWNTO 0)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 registern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RCHITECTURE a OF  registern I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ROCESS (clk,set,reset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F (set='0' AND reset='1')  THE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q&lt;=(OTHERS=&gt;'1');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LSIF (set='1' AND reset='0')  THE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q&lt;=(OTHERS=&gt;'0'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LSIF (clk'EVENT AND clk='1')  THE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F (en='1' )  THE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&lt;=d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LSE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&lt;=q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PROCESS 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a;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rcRect l="2953" t="12795" r="2215" b="62008"/>
          <a:stretch/>
        </p:blipFill>
        <p:spPr>
          <a:xfrm>
            <a:off x="0" y="1371600"/>
            <a:ext cx="9144000" cy="27432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94328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07648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523880" y="16765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676520" y="1600200"/>
            <a:ext cx="0" cy="259092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1676520"/>
            <a:ext cx="0" cy="259056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24080" y="16765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33920" y="1676520"/>
            <a:ext cx="0" cy="259056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52880" y="1600200"/>
            <a:ext cx="0" cy="259092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562720" y="16765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400800" y="16765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553080" y="1676520"/>
            <a:ext cx="0" cy="2666880"/>
          </a:xfrm>
          <a:prstGeom prst="line">
            <a:avLst/>
          </a:prstGeom>
          <a:ln w="3816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848720" y="1676520"/>
            <a:ext cx="0" cy="2666880"/>
          </a:xfrm>
          <a:prstGeom prst="line">
            <a:avLst/>
          </a:prstGeom>
          <a:ln w="3816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001000" y="1676520"/>
            <a:ext cx="0" cy="2666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763120" y="1676520"/>
            <a:ext cx="0" cy="2666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07648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rcRect l="2953" t="12795" r="2215" b="62008"/>
          <a:stretch/>
        </p:blipFill>
        <p:spPr>
          <a:xfrm>
            <a:off x="0" y="441972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826920" y="4762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）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shift register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380880" y="2743200"/>
          <a:ext cx="845820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743200"/>
                    <a:ext cx="84582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COMPONENT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tatement 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COMPONENT &lt;name&gt;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[GENERIC&lt;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parameter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&gt;;]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PORT &lt;  &gt;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；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END COMPONENT;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00" name=""/>
          <p:cNvSpPr/>
          <p:nvPr/>
        </p:nvSpPr>
        <p:spPr>
          <a:xfrm>
            <a:off x="914400" y="4267080"/>
            <a:ext cx="7086600" cy="21283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COMPONENT d_ff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PORT( clk, d :  IN</a:t>
            </a: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STD_LOGIC;</a:t>
            </a: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q : OUT</a:t>
            </a: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STD_LOGIC)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END COMPONENT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MPonent instantiation statement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74880" y="3505320"/>
            <a:ext cx="7340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&lt;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label name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&gt;:&lt; COMPONENT name &gt;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[GENERIC MAP (  ) ]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PORT MAP ( );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mapping method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610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0b05"/>
                </a:solidFill>
                <a:latin typeface="Tahoma"/>
              </a:rPr>
              <a:t>Position map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749880" y="2708280"/>
            <a:ext cx="61714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dffx:d_ff PORT MAP(clk,d,qq(i));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75120" y="5715000"/>
            <a:ext cx="83066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dffx:d_ff PORT MAP(clk=&gt;clk,d=&gt;d,q=&gt;q(i));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" y="4343400"/>
            <a:ext cx="8686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华文隶书"/>
              </a:rPr>
              <a:t>Name map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0b05"/>
                </a:solidFill>
                <a:latin typeface="华文楷体"/>
                <a:ea typeface="华文楷体"/>
              </a:rPr>
              <a:t>GENERATE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华文楷体"/>
                <a:ea typeface="华文楷体"/>
              </a:rPr>
              <a:t>[Lable</a:t>
            </a:r>
            <a:r>
              <a:rPr b="1" lang="en-US" sz="3200" spc="-1" strike="noStrike">
                <a:solidFill>
                  <a:srgbClr val="ffcc00"/>
                </a:solidFill>
                <a:latin typeface="华文楷体"/>
                <a:ea typeface="华文楷体"/>
              </a:rPr>
              <a:t>：</a:t>
            </a:r>
            <a:r>
              <a:rPr b="1" lang="en-US" sz="3200" spc="-1" strike="noStrike">
                <a:solidFill>
                  <a:srgbClr val="ffcc00"/>
                </a:solidFill>
                <a:latin typeface="华文楷体"/>
                <a:ea typeface="华文楷体"/>
              </a:rPr>
              <a:t>] &lt; &gt; GENERAT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华文楷体"/>
                <a:ea typeface="华文楷体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华文楷体"/>
                <a:ea typeface="华文楷体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华文楷体"/>
                <a:ea typeface="华文楷体"/>
              </a:rPr>
              <a:t>&lt;  &gt;</a:t>
            </a:r>
            <a:r>
              <a:rPr b="1" lang="en-US" sz="3200" spc="-1" strike="noStrike">
                <a:solidFill>
                  <a:srgbClr val="ffcc00"/>
                </a:solidFill>
                <a:latin typeface="华文楷体"/>
                <a:ea typeface="华文楷体"/>
              </a:rPr>
              <a:t>；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华文楷体"/>
                <a:ea typeface="华文楷体"/>
              </a:rPr>
              <a:t>END GENERATE;</a:t>
            </a:r>
            <a:r>
              <a:rPr b="0" lang="en-US" sz="3200" spc="-1" strike="noStrike">
                <a:solidFill>
                  <a:srgbClr val="ffcc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04920" y="1066680"/>
            <a:ext cx="8229600" cy="1434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[lable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] FOR i IN rang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ENER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&lt;  &gt;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；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END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[lable]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；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04920" y="2590920"/>
            <a:ext cx="7696080" cy="1556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0b05"/>
                </a:solidFill>
                <a:latin typeface="华文楷体"/>
                <a:ea typeface="华文楷体"/>
              </a:rPr>
              <a:t>[</a:t>
            </a:r>
            <a:r>
              <a:rPr b="1" lang="en-US" sz="2400" spc="-1" strike="noStrike">
                <a:solidFill>
                  <a:srgbClr val="fd0b05"/>
                </a:solidFill>
                <a:latin typeface="Times New Roman"/>
              </a:rPr>
              <a:t>lable</a:t>
            </a:r>
            <a:r>
              <a:rPr b="0" lang="en-US" sz="2400" spc="-1" strike="noStrike">
                <a:solidFill>
                  <a:srgbClr val="fd0b05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d0b05"/>
                </a:solidFill>
                <a:latin typeface="华文楷体"/>
                <a:ea typeface="华文楷体"/>
              </a:rPr>
              <a:t>：</a:t>
            </a:r>
            <a:r>
              <a:rPr b="1" lang="en-US" sz="3200" spc="-1" strike="noStrike">
                <a:solidFill>
                  <a:srgbClr val="fd0b05"/>
                </a:solidFill>
                <a:latin typeface="华文楷体"/>
                <a:ea typeface="华文楷体"/>
              </a:rPr>
              <a:t>] IF </a:t>
            </a:r>
            <a:r>
              <a:rPr b="1" lang="en-US" sz="3200" spc="-1" strike="noStrike">
                <a:solidFill>
                  <a:srgbClr val="fd0b05"/>
                </a:solidFill>
                <a:latin typeface="华文楷体"/>
                <a:ea typeface="华文楷体"/>
              </a:rPr>
              <a:t>〈</a:t>
            </a:r>
            <a:r>
              <a:rPr b="1" lang="en-US" sz="3200" spc="-1" strike="noStrike">
                <a:solidFill>
                  <a:srgbClr val="fd0b05"/>
                </a:solidFill>
                <a:latin typeface="华文楷体"/>
                <a:ea typeface="华文楷体"/>
              </a:rPr>
              <a:t>condition</a:t>
            </a:r>
            <a:r>
              <a:rPr b="1" lang="en-US" sz="3200" spc="-1" strike="noStrike">
                <a:solidFill>
                  <a:srgbClr val="fd0b05"/>
                </a:solidFill>
                <a:latin typeface="华文楷体"/>
                <a:ea typeface="华文楷体"/>
              </a:rPr>
              <a:t>〉 </a:t>
            </a:r>
            <a:r>
              <a:rPr b="1" lang="en-US" sz="3200" spc="-1" strike="noStrike">
                <a:solidFill>
                  <a:srgbClr val="fd0b05"/>
                </a:solidFill>
                <a:latin typeface="Times New Roman"/>
              </a:rPr>
              <a:t>GENERAT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0b05"/>
                </a:solidFill>
                <a:latin typeface="华文楷体"/>
                <a:ea typeface="华文楷体"/>
              </a:rPr>
              <a:t>    </a:t>
            </a:r>
            <a:r>
              <a:rPr b="1" lang="en-US" sz="3200" spc="-1" strike="noStrike">
                <a:solidFill>
                  <a:srgbClr val="fd0b05"/>
                </a:solidFill>
                <a:latin typeface="华文楷体"/>
                <a:ea typeface="华文楷体"/>
              </a:rPr>
              <a:t>〈〉</a:t>
            </a:r>
            <a:r>
              <a:rPr b="1" lang="en-US" sz="3200" spc="-1" strike="noStrike">
                <a:solidFill>
                  <a:srgbClr val="fd0b05"/>
                </a:solidFill>
                <a:latin typeface="华文楷体"/>
                <a:ea typeface="华文楷体"/>
              </a:rPr>
              <a:t>;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0b05"/>
                </a:solidFill>
                <a:latin typeface="华文楷体"/>
                <a:ea typeface="华文楷体"/>
              </a:rPr>
              <a:t>END </a:t>
            </a:r>
            <a:r>
              <a:rPr b="1" lang="en-US" sz="3200" spc="-1" strike="noStrike">
                <a:solidFill>
                  <a:srgbClr val="fd0b05"/>
                </a:solidFill>
                <a:latin typeface="Times New Roman"/>
              </a:rPr>
              <a:t>GENERATE[</a:t>
            </a:r>
            <a:r>
              <a:rPr b="1" lang="en-US" sz="2400" spc="-1" strike="noStrike">
                <a:solidFill>
                  <a:srgbClr val="fd0b05"/>
                </a:solidFill>
                <a:latin typeface="Times New Roman"/>
              </a:rPr>
              <a:t>lable</a:t>
            </a:r>
            <a:r>
              <a:rPr b="1" lang="en-US" sz="3200" spc="-1" strike="noStrike">
                <a:solidFill>
                  <a:srgbClr val="fd0b05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fd0b05"/>
                </a:solidFill>
                <a:latin typeface="华文楷体"/>
                <a:ea typeface="华文楷体"/>
              </a:rPr>
              <a:t>;</a:t>
            </a:r>
            <a:r>
              <a:rPr b="0" lang="en-US" sz="3200" spc="-1" strike="noStrike">
                <a:solidFill>
                  <a:srgbClr val="fd0b05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34320" y="1828800"/>
            <a:ext cx="1981080" cy="533520"/>
          </a:xfrm>
          <a:prstGeom prst="wedgeRoundRectCallout">
            <a:avLst>
              <a:gd name="adj1" fmla="val -130208"/>
              <a:gd name="adj2" fmla="val -75296"/>
              <a:gd name="adj3" fmla="val 16667"/>
            </a:avLst>
          </a:prstGeom>
          <a:solidFill>
            <a:srgbClr val="ff0000"/>
          </a:solidFill>
          <a:ln cap="sq" w="1260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FO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477120" y="3809880"/>
            <a:ext cx="1752480" cy="533520"/>
          </a:xfrm>
          <a:prstGeom prst="wedgeRoundRectCallout">
            <a:avLst>
              <a:gd name="adj1" fmla="val -70472"/>
              <a:gd name="adj2" fmla="val -160120"/>
              <a:gd name="adj3" fmla="val 16667"/>
            </a:avLst>
          </a:prstGeom>
          <a:solidFill>
            <a:srgbClr val="ff9900"/>
          </a:solidFill>
          <a:ln cap="sq" w="1260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4920" y="4495680"/>
            <a:ext cx="7238880" cy="2064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g1: IF(i=0) GENERAT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dffx:d_ff PORT MAP(clk,d,qq(i));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END GENERATE g1;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01464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0"/>
            <a:ext cx="5029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BRARY IEEE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 IEEE.STD_LOGIC_1164.ALL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TITY shiftn I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IC (n:INTEGER:=2);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RT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,clk: 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D_LOGIC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 : OU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D_LOGIC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 shiftn; 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CHITECTURE a OF shiftn I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ONENT d_ff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RT( clk, d :  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D_LOGIC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 : OU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D_LOGIC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 COMPONENT;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GNAL qq : STD_LOGIC_VECTOR(0 TO n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&lt;=qq(n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bel1: FOR i IN 0 TO n GENERAT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1: IF(i=0) GENERAT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ffx:d_ff PORT MAP(clk,d,qq(i)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 GENERATE g1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2: IF(i/=0) GENERAT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ffx:d_ff PORT MAP(clk,qq(i-1),qq(i)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 GENERATE g2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 GENERATE label1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 a;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0" y="0"/>
          <a:ext cx="4038480" cy="18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038480" cy="18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292360" y="4266720"/>
            <a:ext cx="3600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）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 flip-flop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99880"/>
            <a:ext cx="6477120" cy="66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LIBRARY IEEE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USE IEEE.STD_LOGIC_1164.ALL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TITY d_ff I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ORT( clk,d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 IN   STD_LOGIC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,qd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OUT  STD_LOGIC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d_ff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RCHITECTURE a OF d_ff IS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ROCESS(clk,d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F (clk'EVENT AND clk='1')  THE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&lt;=d;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d&lt;=NOT d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PROCESS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a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7559" t="16378" r="76539" b="70557"/>
          <a:stretch/>
        </p:blipFill>
        <p:spPr>
          <a:xfrm>
            <a:off x="6095880" y="762120"/>
            <a:ext cx="22860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2362320" y="0"/>
            <a:ext cx="6781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RCHITECTURE aa OF shiftn I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GNAL tmp : STD_LOGIC_VECTOR(0 TO n)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q&lt;=tmp(n)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OCESS(clk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(clk'EVENT AND clk='1') THE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mp(0)&lt;=d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OR i IN 1 TO n LOOP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mp(i)&lt;=tmp(i-1)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D LOOP ;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D PROCESS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D aa;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1066680" y="5410080"/>
          <a:ext cx="518184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410080"/>
                    <a:ext cx="518184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94328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08584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rcRect l="3779" t="16378" r="1890" b="52913"/>
          <a:stretch/>
        </p:blipFill>
        <p:spPr>
          <a:xfrm>
            <a:off x="0" y="1752480"/>
            <a:ext cx="9144000" cy="27972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2057400" y="21337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895480" y="21337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200400" y="21337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505320" y="21337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733920" y="21337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038480" y="21337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"/>
          <p:cNvGraphicFramePr/>
          <p:nvPr/>
        </p:nvGraphicFramePr>
        <p:xfrm>
          <a:off x="304920" y="1828800"/>
          <a:ext cx="853416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853416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286000" y="228600"/>
            <a:ext cx="6477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LIBRARY IEEE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USE IEEE.STD_LOGIC_1164.ALL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TITY shiftb I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GENERIC (n:INTEGER:=2);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ORT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,clk: IN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TD_LOGIC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 : BUFFER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TD_LOGIC_VECTOR(0 TO n)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shiftb; 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RCHITECTURE a OF shiftb I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OMPONENT d_ff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ORT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lk, d: IN  STD_LOGIC;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  : OUT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TD_LOGIC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COMPONENT;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label1: FOR i IN 0 TO n GENERAT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g1: IF(i=0) GENERAT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ffx:d_ff PORT MAP(clk=&gt;clk,d=&gt;d,q=&gt;q(i)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GENERATE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g2: IF(i/=0) GENERAT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ffx:d_ff PORT MAP(clk=&gt;clk,d=&gt;q(i-1),q=&gt;q(i)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GENERATE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GENERATE 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a;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04920" y="228600"/>
            <a:ext cx="6705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RCHITECTURE aa OF shiftb I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OCESS(clk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(clk'EVENT AND clk='1') THE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q(0)&lt;=d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OR i IN 1 TO n LOOP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q(i)&lt;=q(i-1)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D LOOP ;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D PROCESS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D aa;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0" y="4906800"/>
          <a:ext cx="5181480" cy="19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906800"/>
                    <a:ext cx="518148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207648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rcRect l="4252" t="17638" r="23622" b="56699"/>
          <a:stretch/>
        </p:blipFill>
        <p:spPr>
          <a:xfrm>
            <a:off x="0" y="2209680"/>
            <a:ext cx="9144000" cy="242568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523880" y="24382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05120" y="24382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362320" y="24382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819520" y="24382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200400" y="24382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657600" y="24382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Reentrant shift register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304920" y="1219320"/>
            <a:ext cx="815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BRARY IEEE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SE IEEE.STD_LOGIC_1164.ALL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TITY shiftx I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RT(  clk,load : IN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STD_LOGIC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 : IN  STD_LOGIC_VECTOR(3 DOWNTO 0)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q : OUT  STD_LOGIC_VECTOR(3 DOWNTO 0))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D shiftx;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685800" y="3844800"/>
          <a:ext cx="6400800" cy="28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844800"/>
                    <a:ext cx="640080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838080" y="1219320"/>
            <a:ext cx="7239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RCHITECTURE aa OF shiftx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IGNAL tmp : STD_LOGIC_VECTOR(3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q&lt;=tmp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OCESS(clk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F(clk'EVENT AND clk='1') 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F(load='0') 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mp&lt;=d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LSE     tmp(0)&lt;=tmp(3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mp(3 downto 1)&lt;=tmp(2 downto 0)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PROCESS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aa;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rcRect l="2953" t="12795" r="20670" b="57087"/>
          <a:stretch/>
        </p:blipFill>
        <p:spPr>
          <a:xfrm>
            <a:off x="0" y="2133720"/>
            <a:ext cx="9144000" cy="270828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19432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0492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10492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523880" y="23623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057400" y="23623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14600" y="23623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48120" y="23623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505320" y="23623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038480" y="23623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07648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572000" y="23623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28720" y="1022400"/>
            <a:ext cx="73404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）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COUNTER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48769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ynchronous up_down counter</a:t>
            </a:r>
            <a:endParaRPr b="0" lang="en-US" sz="2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" y="3124080"/>
            <a:ext cx="8915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BRARY IEEE;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USE IEEE.STD_LOGIC_1164.ALL;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USE IEEE.STD_LOGIC_UNSIGNED.ALL;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NTITY updowncounter I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ORT( clk, updown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: IN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STD_LOGIC;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q:OUT STD_LOGIC_VECTOR(2 DOWNTO 0));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ND updowncounter;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rcRect l="7559" t="15118" r="70870" b="71817"/>
          <a:stretch/>
        </p:blipFill>
        <p:spPr>
          <a:xfrm>
            <a:off x="5867280" y="1600200"/>
            <a:ext cx="3048120" cy="134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3779" t="16378" r="4724" b="60479"/>
          <a:stretch/>
        </p:blipFill>
        <p:spPr>
          <a:xfrm>
            <a:off x="0" y="198108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3880" y="24382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24382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24382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24382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24382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24382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24382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24382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24382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380880" y="1295280"/>
            <a:ext cx="8305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RCHITECTURE a OF updowncounter IS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GNAL counter : STD_LOGIC_VECTOR(2 DOWNTO 0)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q&lt;=counter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OCESS(clk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(clk'EVENT AND clk='1')  THE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(updown='1') THE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unter&lt;=counter+'1'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L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unter&lt;=counter-'1'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D PROCESS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D a;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rcRect l="7559" t="15118" r="70870" b="71817"/>
          <a:stretch/>
        </p:blipFill>
        <p:spPr>
          <a:xfrm>
            <a:off x="6095880" y="5511960"/>
            <a:ext cx="3048120" cy="134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19432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rcRect l="4252" t="17638" r="23622" b="44094"/>
          <a:stretch/>
        </p:blipFill>
        <p:spPr>
          <a:xfrm>
            <a:off x="0" y="225900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5562720" y="2514600"/>
            <a:ext cx="75960" cy="3657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26920" y="602136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바탕"/>
                <a:ea typeface="바탕"/>
              </a:rPr>
              <a:t>Asynchronous counter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1042920" y="765000"/>
            <a:ext cx="7086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LIBRARY IEEE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USE IEEE.STD_LOGIC_1164.ALL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TITY d_ffr I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ORT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lk,d,clr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 IN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STD_LOGIC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,qd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 OUT  STD_LOGIC  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d_ffr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RCHITECTURE a OF d_ffr IS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ROCESS(clk,clr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F (clr='0')  THE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&lt;='0'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d&lt;='1'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LSIF (clk'EVENT AND clk='1')  THE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&lt;=d;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d&lt;=NOT d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PROCESS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a;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94328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09556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rcRect l="2953" t="12795" r="2953" b="66442"/>
          <a:stretch/>
        </p:blipFill>
        <p:spPr>
          <a:xfrm>
            <a:off x="0" y="1447920"/>
            <a:ext cx="9144000" cy="27367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1295280" y="17524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676520" y="17524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33720" y="17524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209680" y="1752480"/>
            <a:ext cx="0" cy="243864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19520" y="1752480"/>
            <a:ext cx="0" cy="243864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95480" y="17524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352680" y="182880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733920" y="19051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19810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22334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533520" y="2057400"/>
          <a:ext cx="8229600" cy="37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229600" cy="37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2895480" y="0"/>
            <a:ext cx="6248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LIBRARY IEEE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USE IEEE.STD_LOGIC_1164.ALL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TITY acounter I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ORT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lk,reset: IN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TD_LOGIC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 : OUT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TD_LOGIC_VECTOR(2 DOWNTO 0)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acounter; 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RCHITECTURE a OF acounter I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OMPONENT d_ffr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ORT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lk, d,clr: IN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TD_LOGIC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,qd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 OUT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TD_LOGIC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COMPONENT;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IGNAL tmp : STD_LOGIC_VECTOR(3 DOWNTO 0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tmp(0)&lt;=clk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label1: FOR i IN 0 TO 2 GENERAT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ffrx : d_ffr PORT MAP(   clk=&gt;tmp(i),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=&gt;tmp(i+1),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lr=&gt;reset,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=&gt;q(i),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d=&gt; tmp(i+1)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GENERATE label1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a;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0" y="4772160"/>
          <a:ext cx="457200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72160"/>
                    <a:ext cx="457200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rcRect l="4252" t="17638" r="4724" b="62998"/>
          <a:stretch/>
        </p:blipFill>
        <p:spPr>
          <a:xfrm>
            <a:off x="0" y="1676520"/>
            <a:ext cx="9144000" cy="183816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"/>
          <a:srcRect l="3779" t="17638" r="40629" b="64258"/>
          <a:stretch/>
        </p:blipFill>
        <p:spPr>
          <a:xfrm>
            <a:off x="0" y="3962520"/>
            <a:ext cx="9144000" cy="221904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684360" y="6922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552720" y="304560"/>
            <a:ext cx="2590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）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Frequency Divider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0"/>
            <a:ext cx="74674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USE IEEE.STD_LOGIC_UNSIGNED.ALL; 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TITY clk_div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ORT(clk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UFFER  STD_LOGIC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clk_div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RCHITECTURE a OF clk_div IS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IGNAL counter : STD_LOGIC_VECTOR(1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OCESS(clk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F (clk'EVENT AND clk='1')  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F(counter="10") 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ounter&lt;="00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q&lt;=NOT q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LSE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ounter&lt;=counter+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PROCESS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a;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rcRect l="4252" t="17638" r="9449" b="56699"/>
          <a:stretch/>
        </p:blipFill>
        <p:spPr>
          <a:xfrm>
            <a:off x="0" y="2419200"/>
            <a:ext cx="9144000" cy="20196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657600" y="2362320"/>
            <a:ext cx="0" cy="2209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467480" y="2514600"/>
            <a:ext cx="0" cy="2209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0" y="0"/>
            <a:ext cx="64008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LIBRARY IEEE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USE IEEE.STD_LOGIC_1164.ALL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USE IEEE.STD_LOGIC_UNSIGNED.ALL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TITY clk_div8 I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ORT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lk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N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STD_LOGIC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UFFER  STD_LOGIC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clk_div8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RCHITECTURE a OF clk_div8 IS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IGNAL counter : STD_LOGIC_VECTOR(2 DOWNTO 0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ROCESS(clk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F (clk'EVENT AND clk='1')  THE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F(counter="010") THE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ounter&lt;=counter+'1'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&lt;=NOT q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LSIF(counter="111") THE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ounter&lt;="000"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&lt;=NOT q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LSE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ounter&lt;=counter+'1'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PROCESS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a;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바탕"/>
                <a:ea typeface="바탕"/>
              </a:rPr>
              <a:t>DFF with asynchronous set / reset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903400" y="3695760"/>
            <a:ext cx="6012000" cy="2933640"/>
            <a:chOff x="2903400" y="3695760"/>
            <a:chExt cx="6012000" cy="2933640"/>
          </a:xfrm>
        </p:grpSpPr>
        <p:grpSp>
          <p:nvGrpSpPr>
            <p:cNvPr id="129" name=""/>
            <p:cNvGrpSpPr/>
            <p:nvPr/>
          </p:nvGrpSpPr>
          <p:grpSpPr>
            <a:xfrm>
              <a:off x="2907720" y="3699000"/>
              <a:ext cx="6002280" cy="2926080"/>
              <a:chOff x="2907720" y="3699000"/>
              <a:chExt cx="6002280" cy="29260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2907720" y="3699000"/>
                <a:ext cx="1009080" cy="487440"/>
                <a:chOff x="2907720" y="3699000"/>
                <a:chExt cx="1009080" cy="4874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973600" y="3699000"/>
                  <a:ext cx="87732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set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907720" y="3699000"/>
                  <a:ext cx="10090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916800" y="3699000"/>
                <a:ext cx="1035360" cy="487440"/>
                <a:chOff x="3916800" y="3699000"/>
                <a:chExt cx="1035360" cy="4874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982680" y="3699000"/>
                  <a:ext cx="90360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reset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916800" y="3699000"/>
                  <a:ext cx="103536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4952520" y="3699000"/>
                <a:ext cx="989280" cy="487440"/>
                <a:chOff x="4952520" y="3699000"/>
                <a:chExt cx="989280" cy="4874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5018040" y="3699000"/>
                  <a:ext cx="85752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952520" y="3699000"/>
                  <a:ext cx="9892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5941800" y="3699000"/>
                <a:ext cx="1013760" cy="487440"/>
                <a:chOff x="5941800" y="3699000"/>
                <a:chExt cx="1013760" cy="4874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007320" y="3699000"/>
                  <a:ext cx="88200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clk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941800" y="3699000"/>
                  <a:ext cx="101376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955920" y="3699000"/>
                <a:ext cx="976680" cy="487440"/>
                <a:chOff x="6955920" y="3699000"/>
                <a:chExt cx="976680" cy="4874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7021440" y="3699000"/>
                  <a:ext cx="84528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955920" y="3699000"/>
                  <a:ext cx="9766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7932960" y="3699000"/>
                <a:ext cx="977040" cy="487440"/>
                <a:chOff x="7932960" y="3699000"/>
                <a:chExt cx="977040" cy="4874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998480" y="3699000"/>
                  <a:ext cx="84564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qd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932960" y="3699000"/>
                  <a:ext cx="97704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2907720" y="4186440"/>
                <a:ext cx="1009080" cy="487440"/>
                <a:chOff x="2907720" y="4186440"/>
                <a:chExt cx="1009080" cy="4874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973600" y="4186440"/>
                  <a:ext cx="87732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907720" y="4186440"/>
                  <a:ext cx="10090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916800" y="4186440"/>
                <a:ext cx="1035360" cy="487440"/>
                <a:chOff x="3916800" y="4186440"/>
                <a:chExt cx="1035360" cy="4874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982680" y="4186440"/>
                  <a:ext cx="90360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916800" y="4186440"/>
                  <a:ext cx="103536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952520" y="4186440"/>
                <a:ext cx="989280" cy="487440"/>
                <a:chOff x="4952520" y="4186440"/>
                <a:chExt cx="989280" cy="4874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018040" y="4186440"/>
                  <a:ext cx="85752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952520" y="4186440"/>
                  <a:ext cx="9892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941800" y="4186440"/>
                <a:ext cx="1013760" cy="487440"/>
                <a:chOff x="5941800" y="4186440"/>
                <a:chExt cx="1013760" cy="48744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007320" y="4186440"/>
                  <a:ext cx="88200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宋体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941800" y="4186440"/>
                  <a:ext cx="101376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6955920" y="4186440"/>
                <a:ext cx="976680" cy="487440"/>
                <a:chOff x="6955920" y="4186440"/>
                <a:chExt cx="976680" cy="4874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7021440" y="4186440"/>
                  <a:ext cx="84528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955920" y="4186440"/>
                  <a:ext cx="9766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7932960" y="4186440"/>
                <a:ext cx="977040" cy="487440"/>
                <a:chOff x="7932960" y="4186440"/>
                <a:chExt cx="977040" cy="4874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7998480" y="4186440"/>
                  <a:ext cx="84564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32960" y="4186440"/>
                  <a:ext cx="97704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907720" y="4674240"/>
                <a:ext cx="1009080" cy="487440"/>
                <a:chOff x="2907720" y="4674240"/>
                <a:chExt cx="1009080" cy="4874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973600" y="4674240"/>
                  <a:ext cx="87732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907720" y="4674240"/>
                  <a:ext cx="10090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916800" y="4674240"/>
                <a:ext cx="1035360" cy="487440"/>
                <a:chOff x="3916800" y="4674240"/>
                <a:chExt cx="1035360" cy="4874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982680" y="4674240"/>
                  <a:ext cx="90360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916800" y="4674240"/>
                  <a:ext cx="103536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952520" y="4674240"/>
                <a:ext cx="989280" cy="487440"/>
                <a:chOff x="4952520" y="4674240"/>
                <a:chExt cx="989280" cy="4874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018040" y="4674240"/>
                  <a:ext cx="85752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952520" y="4674240"/>
                  <a:ext cx="9892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5941800" y="4674240"/>
                <a:ext cx="1013760" cy="487440"/>
                <a:chOff x="5941800" y="4674240"/>
                <a:chExt cx="1013760" cy="4874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007320" y="4674240"/>
                  <a:ext cx="88200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宋体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941800" y="4674240"/>
                  <a:ext cx="101376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6955920" y="4674240"/>
                <a:ext cx="976680" cy="487440"/>
                <a:chOff x="6955920" y="4674240"/>
                <a:chExt cx="976680" cy="4874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021440" y="4674240"/>
                  <a:ext cx="84528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955920" y="4674240"/>
                  <a:ext cx="9766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7932960" y="4674240"/>
                <a:ext cx="977040" cy="487440"/>
                <a:chOff x="7932960" y="4674240"/>
                <a:chExt cx="977040" cy="4874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7998480" y="4674240"/>
                  <a:ext cx="84564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932960" y="4674240"/>
                  <a:ext cx="97704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2907720" y="5162040"/>
                <a:ext cx="1009080" cy="487440"/>
                <a:chOff x="2907720" y="5162040"/>
                <a:chExt cx="1009080" cy="4874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2973600" y="5162040"/>
                  <a:ext cx="87732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907720" y="5162040"/>
                  <a:ext cx="10090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916800" y="5162040"/>
                <a:ext cx="1035360" cy="487440"/>
                <a:chOff x="3916800" y="5162040"/>
                <a:chExt cx="1035360" cy="4874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982680" y="5162040"/>
                  <a:ext cx="90360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916800" y="5162040"/>
                  <a:ext cx="103536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4952520" y="5162040"/>
                <a:ext cx="989280" cy="487440"/>
                <a:chOff x="4952520" y="5162040"/>
                <a:chExt cx="989280" cy="48744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018040" y="5162040"/>
                  <a:ext cx="85752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952520" y="5162040"/>
                  <a:ext cx="9892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941800" y="5162040"/>
                <a:ext cx="1013760" cy="487440"/>
                <a:chOff x="5941800" y="5162040"/>
                <a:chExt cx="1013760" cy="4874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007320" y="5162040"/>
                  <a:ext cx="88200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941800" y="5162040"/>
                  <a:ext cx="101376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955920" y="5162040"/>
                <a:ext cx="976680" cy="487440"/>
                <a:chOff x="6955920" y="5162040"/>
                <a:chExt cx="976680" cy="4874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7021440" y="5162040"/>
                  <a:ext cx="84528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Times New Roman"/>
                    </a:rPr>
                    <a:t>stable</a:t>
                  </a:r>
                  <a:endParaRPr b="0" lang="en-US" sz="20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955920" y="5162040"/>
                  <a:ext cx="9766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7932960" y="5162040"/>
                <a:ext cx="977040" cy="487440"/>
                <a:chOff x="7932960" y="5162040"/>
                <a:chExt cx="977040" cy="4874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7998480" y="5162040"/>
                  <a:ext cx="84564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Times New Roman"/>
                    </a:rPr>
                    <a:t>stable</a:t>
                  </a:r>
                  <a:endParaRPr b="0" lang="en-US" sz="20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932960" y="5162040"/>
                  <a:ext cx="97704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907720" y="5649480"/>
                <a:ext cx="1009080" cy="487800"/>
                <a:chOff x="2907720" y="5649480"/>
                <a:chExt cx="1009080" cy="48780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2973600" y="5649480"/>
                  <a:ext cx="8773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907720" y="5649480"/>
                  <a:ext cx="1009080" cy="48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916800" y="5649480"/>
                <a:ext cx="1035360" cy="487800"/>
                <a:chOff x="3916800" y="5649480"/>
                <a:chExt cx="1035360" cy="487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982680" y="5649480"/>
                  <a:ext cx="90360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916800" y="5649480"/>
                  <a:ext cx="1035360" cy="48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4952520" y="5649480"/>
                <a:ext cx="989280" cy="487800"/>
                <a:chOff x="4952520" y="5649480"/>
                <a:chExt cx="989280" cy="4878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018040" y="5649480"/>
                  <a:ext cx="8575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952520" y="5649480"/>
                  <a:ext cx="989280" cy="48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941800" y="5649480"/>
                <a:ext cx="1013760" cy="487800"/>
                <a:chOff x="5941800" y="5649480"/>
                <a:chExt cx="1013760" cy="48780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007320" y="5649480"/>
                  <a:ext cx="88200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宋体"/>
                    </a:rPr>
                    <a:t>↑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941800" y="5649480"/>
                  <a:ext cx="1013760" cy="48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6955920" y="5649480"/>
                <a:ext cx="976680" cy="487800"/>
                <a:chOff x="6955920" y="5649480"/>
                <a:chExt cx="976680" cy="4878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021440" y="5649480"/>
                  <a:ext cx="84528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955920" y="5649480"/>
                  <a:ext cx="976680" cy="48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7932960" y="5649480"/>
                <a:ext cx="977040" cy="487800"/>
                <a:chOff x="7932960" y="5649480"/>
                <a:chExt cx="977040" cy="48780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7998480" y="5649480"/>
                  <a:ext cx="84564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932960" y="5649480"/>
                  <a:ext cx="977040" cy="48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2907720" y="6137640"/>
                <a:ext cx="1009080" cy="487440"/>
                <a:chOff x="2907720" y="6137640"/>
                <a:chExt cx="1009080" cy="4874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2973600" y="6137640"/>
                  <a:ext cx="87732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907720" y="6137640"/>
                  <a:ext cx="10090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916800" y="6137640"/>
                <a:ext cx="1035360" cy="487440"/>
                <a:chOff x="3916800" y="6137640"/>
                <a:chExt cx="1035360" cy="4874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982680" y="6137640"/>
                  <a:ext cx="90360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916800" y="6137640"/>
                  <a:ext cx="103536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952520" y="6137640"/>
                <a:ext cx="989280" cy="487440"/>
                <a:chOff x="4952520" y="6137640"/>
                <a:chExt cx="989280" cy="48744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018040" y="6137640"/>
                  <a:ext cx="85752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952520" y="6137640"/>
                  <a:ext cx="9892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941800" y="6137640"/>
                <a:ext cx="1013760" cy="487440"/>
                <a:chOff x="5941800" y="6137640"/>
                <a:chExt cx="1013760" cy="48744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6007320" y="6137640"/>
                  <a:ext cx="88200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宋体"/>
                    </a:rPr>
                    <a:t>↑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41800" y="6137640"/>
                  <a:ext cx="101376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6955920" y="6137640"/>
                <a:ext cx="976680" cy="487440"/>
                <a:chOff x="6955920" y="6137640"/>
                <a:chExt cx="976680" cy="48744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7021440" y="6137640"/>
                  <a:ext cx="84528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955920" y="6137640"/>
                  <a:ext cx="9766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7932960" y="6137640"/>
                <a:ext cx="977040" cy="487440"/>
                <a:chOff x="7932960" y="6137640"/>
                <a:chExt cx="977040" cy="4874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7998480" y="6137640"/>
                  <a:ext cx="84564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932960" y="6137640"/>
                  <a:ext cx="97704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8" name=""/>
            <p:cNvSpPr/>
            <p:nvPr/>
          </p:nvSpPr>
          <p:spPr>
            <a:xfrm>
              <a:off x="2903400" y="3695760"/>
              <a:ext cx="6012000" cy="2933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1"/>
          <a:srcRect l="5669" t="13858" r="76539" b="65518"/>
          <a:stretch/>
        </p:blipFill>
        <p:spPr>
          <a:xfrm>
            <a:off x="228600" y="1724040"/>
            <a:ext cx="2514600" cy="22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94328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rcRect l="4252" t="17638" r="2362" b="49134"/>
          <a:stretch/>
        </p:blipFill>
        <p:spPr>
          <a:xfrm>
            <a:off x="0" y="2666880"/>
            <a:ext cx="9144000" cy="245124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2743200" y="28195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67080" y="28195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105520" y="28195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6)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Tristate gate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2819520" y="1295280"/>
            <a:ext cx="6095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TITY tri_gate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ORT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in,en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: IN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out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: OUT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TD_LOGIC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tri_gat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RCHITECTURE a OF tri_gate IS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OCESS(en,din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F (en='1') 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out&lt;=din;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out&lt;='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PROCESS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a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rcRect l="7559" t="15748" r="76539" b="69298"/>
          <a:stretch/>
        </p:blipFill>
        <p:spPr>
          <a:xfrm>
            <a:off x="0" y="5032440"/>
            <a:ext cx="2590920" cy="182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" descr=""/>
          <p:cNvPicPr/>
          <p:nvPr/>
        </p:nvPicPr>
        <p:blipFill>
          <a:blip r:embed="rId1"/>
          <a:srcRect l="4252" t="17638" r="9449" b="62998"/>
          <a:stretch/>
        </p:blipFill>
        <p:spPr>
          <a:xfrm>
            <a:off x="380880" y="2697120"/>
            <a:ext cx="8534520" cy="143820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3276720" y="4572000"/>
            <a:ext cx="1600200" cy="914400"/>
          </a:xfrm>
          <a:prstGeom prst="wedgeRoundRectCallout">
            <a:avLst>
              <a:gd name="adj1" fmla="val -39486"/>
              <a:gd name="adj2" fmla="val -142884"/>
              <a:gd name="adj3" fmla="val 16667"/>
            </a:avLst>
          </a:prstGeom>
          <a:solidFill>
            <a:srgbClr val="ff99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07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） </a:t>
            </a: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ristate  Buffer</a:t>
            </a:r>
            <a:endParaRPr b="0" lang="en-US" sz="4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1752480" y="1066680"/>
            <a:ext cx="7162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TITY tri_buff4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ORT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 : IN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in : IN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TD_LOGIC_VECTOR(3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out : OUT STD_LOGIC_VECTOR(3 DOWNTO 0)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tri_buff4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RCHITECTURE a OF tri_buff4 IS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OCESS(en,din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F (en='1') 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out&lt;=din;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out&lt;="ZZZZ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PROCESS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a;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rcRect l="9449" t="16378" r="63311" b="69298"/>
          <a:stretch/>
        </p:blipFill>
        <p:spPr>
          <a:xfrm>
            <a:off x="5715000" y="5518080"/>
            <a:ext cx="3429000" cy="13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rcRect l="4252" t="17638" r="9449" b="62998"/>
          <a:stretch/>
        </p:blipFill>
        <p:spPr>
          <a:xfrm>
            <a:off x="0" y="2666880"/>
            <a:ext cx="9144000" cy="15242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6629400" y="4876920"/>
            <a:ext cx="1219320" cy="533160"/>
          </a:xfrm>
          <a:prstGeom prst="wedgeRoundRectCallout">
            <a:avLst>
              <a:gd name="adj1" fmla="val 75652"/>
              <a:gd name="adj2" fmla="val -262500"/>
              <a:gd name="adj3" fmla="val 16667"/>
            </a:avLst>
          </a:prstGeom>
          <a:solidFill>
            <a:srgbClr val="ccff66"/>
          </a:solidFill>
          <a:ln cap="sq" w="1260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743200" y="0"/>
            <a:ext cx="64008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TITY d_ffy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ORT( clk,d,set,reset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: IN  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q,qd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:OUT  STD_LOGIC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d_ffy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RCHITECTURE a OF d_ffy IS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OCESS(clk,set,reset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F (set='0' AND reset='1')  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q&lt;=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qd&lt;=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LSIF (set='1' AND reset='0')  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q&lt;=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qd&lt;=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LSIF (clk'EVENT AND clk='1')  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q&lt;=d;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qd&lt;=NOT d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PROCESS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a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0544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rcRect l="2953" t="11319" r="2215" b="62997"/>
          <a:stretch/>
        </p:blipFill>
        <p:spPr>
          <a:xfrm>
            <a:off x="0" y="1752480"/>
            <a:ext cx="9144000" cy="31244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94328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23623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2362320"/>
            <a:ext cx="0" cy="2590560"/>
          </a:xfrm>
          <a:prstGeom prst="line">
            <a:avLst/>
          </a:prstGeom>
          <a:ln w="3816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2286000"/>
            <a:ext cx="0" cy="2666880"/>
          </a:xfrm>
          <a:prstGeom prst="line">
            <a:avLst/>
          </a:prstGeom>
          <a:ln w="3816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62520" y="2286000"/>
            <a:ext cx="0" cy="2666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00600" y="2286000"/>
            <a:ext cx="0" cy="2743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62720" y="23623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2362320"/>
            <a:ext cx="0" cy="259056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2362320"/>
            <a:ext cx="0" cy="259056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62920" y="23623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2666880" y="3009960"/>
            <a:ext cx="6240240" cy="3848040"/>
            <a:chOff x="2666880" y="3009960"/>
            <a:chExt cx="6240240" cy="3848040"/>
          </a:xfrm>
        </p:grpSpPr>
        <p:grpSp>
          <p:nvGrpSpPr>
            <p:cNvPr id="255" name=""/>
            <p:cNvGrpSpPr/>
            <p:nvPr/>
          </p:nvGrpSpPr>
          <p:grpSpPr>
            <a:xfrm>
              <a:off x="2671560" y="3014640"/>
              <a:ext cx="6230880" cy="3838680"/>
              <a:chOff x="2671560" y="3014640"/>
              <a:chExt cx="6230880" cy="383868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2671560" y="3014640"/>
                <a:ext cx="1047600" cy="639720"/>
                <a:chOff x="2671560" y="3014640"/>
                <a:chExt cx="1047600" cy="6397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2739960" y="3014640"/>
                  <a:ext cx="911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set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671560" y="3014640"/>
                  <a:ext cx="10476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3719160" y="3014640"/>
                <a:ext cx="1074960" cy="639720"/>
                <a:chOff x="3719160" y="3014640"/>
                <a:chExt cx="1074960" cy="6397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3787560" y="3014640"/>
                  <a:ext cx="938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reset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719160" y="3014640"/>
                  <a:ext cx="1074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794120" y="3014640"/>
                <a:ext cx="1027080" cy="639720"/>
                <a:chOff x="4794120" y="3014640"/>
                <a:chExt cx="1027080" cy="6397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862160" y="3014640"/>
                  <a:ext cx="890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794120" y="3014640"/>
                  <a:ext cx="10270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5821200" y="3014640"/>
                <a:ext cx="1052640" cy="639720"/>
                <a:chOff x="5821200" y="3014640"/>
                <a:chExt cx="1052640" cy="6397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889600" y="3014640"/>
                  <a:ext cx="915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clk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821200" y="3014640"/>
                  <a:ext cx="105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6873840" y="3014640"/>
                <a:ext cx="1014120" cy="639720"/>
                <a:chOff x="6873840" y="3014640"/>
                <a:chExt cx="1014120" cy="6397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6941880" y="3014640"/>
                  <a:ext cx="8780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73840" y="3014640"/>
                  <a:ext cx="1014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7887960" y="3014640"/>
                <a:ext cx="1014480" cy="639720"/>
                <a:chOff x="7887960" y="3014640"/>
                <a:chExt cx="1014480" cy="6397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7956360" y="3014640"/>
                  <a:ext cx="8780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qd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887960" y="3014640"/>
                  <a:ext cx="1014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2671560" y="3654360"/>
                <a:ext cx="1047600" cy="639720"/>
                <a:chOff x="2671560" y="3654360"/>
                <a:chExt cx="1047600" cy="6397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2739960" y="3654360"/>
                  <a:ext cx="911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671560" y="3654360"/>
                  <a:ext cx="10476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3719160" y="3654360"/>
                <a:ext cx="1074960" cy="639720"/>
                <a:chOff x="3719160" y="3654360"/>
                <a:chExt cx="1074960" cy="6397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3787560" y="3654360"/>
                  <a:ext cx="938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719160" y="3654360"/>
                  <a:ext cx="1074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4794120" y="3654360"/>
                <a:ext cx="1027080" cy="639720"/>
                <a:chOff x="4794120" y="3654360"/>
                <a:chExt cx="1027080" cy="6397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4862160" y="3654360"/>
                  <a:ext cx="890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794120" y="3654360"/>
                  <a:ext cx="10270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821200" y="3654360"/>
                <a:ext cx="1052640" cy="639720"/>
                <a:chOff x="5821200" y="3654360"/>
                <a:chExt cx="1052640" cy="6397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889600" y="3654360"/>
                  <a:ext cx="915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宋体"/>
                    </a:rPr>
                    <a:t>↑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821200" y="3654360"/>
                  <a:ext cx="105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6873840" y="3654360"/>
                <a:ext cx="1014120" cy="639720"/>
                <a:chOff x="6873840" y="3654360"/>
                <a:chExt cx="1014120" cy="6397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6941880" y="3654360"/>
                  <a:ext cx="8780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873840" y="3654360"/>
                  <a:ext cx="1014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7887960" y="3654360"/>
                <a:ext cx="1014480" cy="639720"/>
                <a:chOff x="7887960" y="3654360"/>
                <a:chExt cx="1014480" cy="6397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7956360" y="3654360"/>
                  <a:ext cx="8780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887960" y="3654360"/>
                  <a:ext cx="1014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2671560" y="4294080"/>
                <a:ext cx="1047600" cy="639720"/>
                <a:chOff x="2671560" y="4294080"/>
                <a:chExt cx="1047600" cy="6397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2739960" y="4294080"/>
                  <a:ext cx="911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671560" y="4294080"/>
                  <a:ext cx="10476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3719160" y="4294080"/>
                <a:ext cx="1074960" cy="639720"/>
                <a:chOff x="3719160" y="4294080"/>
                <a:chExt cx="1074960" cy="63972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787560" y="4294080"/>
                  <a:ext cx="938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719160" y="4294080"/>
                  <a:ext cx="1074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794120" y="4294080"/>
                <a:ext cx="1027080" cy="639720"/>
                <a:chOff x="4794120" y="4294080"/>
                <a:chExt cx="1027080" cy="6397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862160" y="4294080"/>
                  <a:ext cx="890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794120" y="4294080"/>
                  <a:ext cx="10270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821200" y="4294080"/>
                <a:ext cx="1052640" cy="639720"/>
                <a:chOff x="5821200" y="4294080"/>
                <a:chExt cx="1052640" cy="6397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889600" y="4294080"/>
                  <a:ext cx="915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宋体"/>
                    </a:rPr>
                    <a:t>↑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821200" y="4294080"/>
                  <a:ext cx="105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6873840" y="4294080"/>
                <a:ext cx="1014120" cy="639720"/>
                <a:chOff x="6873840" y="4294080"/>
                <a:chExt cx="1014120" cy="6397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6941880" y="4294080"/>
                  <a:ext cx="8780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873840" y="4294080"/>
                  <a:ext cx="1014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7887960" y="4294080"/>
                <a:ext cx="1014480" cy="639720"/>
                <a:chOff x="7887960" y="4294080"/>
                <a:chExt cx="1014480" cy="6397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7956360" y="4294080"/>
                  <a:ext cx="8780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887960" y="4294080"/>
                  <a:ext cx="1014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2671560" y="4933800"/>
                <a:ext cx="1047600" cy="639720"/>
                <a:chOff x="2671560" y="4933800"/>
                <a:chExt cx="1047600" cy="6397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2739960" y="4933800"/>
                  <a:ext cx="911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671560" y="4933800"/>
                  <a:ext cx="10476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3719160" y="4933800"/>
                <a:ext cx="1074960" cy="639720"/>
                <a:chOff x="3719160" y="4933800"/>
                <a:chExt cx="1074960" cy="6397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787560" y="4933800"/>
                  <a:ext cx="938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719160" y="4933800"/>
                  <a:ext cx="1074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4794120" y="4933800"/>
                <a:ext cx="1027080" cy="639720"/>
                <a:chOff x="4794120" y="4933800"/>
                <a:chExt cx="1027080" cy="6397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862160" y="4933800"/>
                  <a:ext cx="890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794120" y="4933800"/>
                  <a:ext cx="10270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5821200" y="4933800"/>
                <a:ext cx="1052640" cy="639720"/>
                <a:chOff x="5821200" y="4933800"/>
                <a:chExt cx="1052640" cy="6397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5889600" y="4933800"/>
                  <a:ext cx="915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821200" y="4933800"/>
                  <a:ext cx="105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6873840" y="4933800"/>
                <a:ext cx="1014120" cy="639720"/>
                <a:chOff x="6873840" y="4933800"/>
                <a:chExt cx="1014120" cy="6397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941880" y="4933800"/>
                  <a:ext cx="8780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Times New Roman"/>
                    </a:rPr>
                    <a:t>stable</a:t>
                  </a:r>
                  <a:endParaRPr b="0" lang="en-US" sz="20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873840" y="4933800"/>
                  <a:ext cx="1014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7887960" y="4933800"/>
                <a:ext cx="1014480" cy="639720"/>
                <a:chOff x="7887960" y="4933800"/>
                <a:chExt cx="1014480" cy="6397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7956360" y="4933800"/>
                  <a:ext cx="8780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Times New Roman"/>
                    </a:rPr>
                    <a:t>stable</a:t>
                  </a:r>
                  <a:endParaRPr b="0" lang="en-US" sz="20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887960" y="4933800"/>
                  <a:ext cx="1014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2671560" y="5573520"/>
                <a:ext cx="1047600" cy="640080"/>
                <a:chOff x="2671560" y="5573520"/>
                <a:chExt cx="1047600" cy="6400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2739960" y="5573520"/>
                  <a:ext cx="91116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671560" y="5573520"/>
                  <a:ext cx="104760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3719160" y="5573520"/>
                <a:ext cx="1074960" cy="640080"/>
                <a:chOff x="3719160" y="5573520"/>
                <a:chExt cx="1074960" cy="6400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3787560" y="5573520"/>
                  <a:ext cx="93816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719160" y="5573520"/>
                  <a:ext cx="10749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794120" y="5573520"/>
                <a:ext cx="1027080" cy="640080"/>
                <a:chOff x="4794120" y="5573520"/>
                <a:chExt cx="1027080" cy="64008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862160" y="5573520"/>
                  <a:ext cx="890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794120" y="5573520"/>
                  <a:ext cx="10270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5821200" y="5573520"/>
                <a:ext cx="1052640" cy="640080"/>
                <a:chOff x="5821200" y="5573520"/>
                <a:chExt cx="1052640" cy="64008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5889600" y="5573520"/>
                  <a:ext cx="9158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宋体"/>
                    </a:rPr>
                    <a:t>↑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821200" y="5573520"/>
                  <a:ext cx="10526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6873840" y="5573520"/>
                <a:ext cx="1014120" cy="640080"/>
                <a:chOff x="6873840" y="5573520"/>
                <a:chExt cx="1014120" cy="6400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6941880" y="5573520"/>
                  <a:ext cx="8780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873840" y="5573520"/>
                  <a:ext cx="10141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7887960" y="5573520"/>
                <a:ext cx="1014480" cy="640080"/>
                <a:chOff x="7887960" y="5573520"/>
                <a:chExt cx="1014480" cy="6400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7956360" y="5573520"/>
                  <a:ext cx="8780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887960" y="5573520"/>
                  <a:ext cx="10144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2671560" y="6213600"/>
                <a:ext cx="1047600" cy="639720"/>
                <a:chOff x="2671560" y="6213600"/>
                <a:chExt cx="1047600" cy="6397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2739960" y="6213600"/>
                  <a:ext cx="911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671560" y="6213600"/>
                  <a:ext cx="10476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3719160" y="6213600"/>
                <a:ext cx="1074960" cy="639720"/>
                <a:chOff x="3719160" y="6213600"/>
                <a:chExt cx="1074960" cy="6397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3787560" y="6213600"/>
                  <a:ext cx="938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719160" y="6213600"/>
                  <a:ext cx="1074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4794120" y="6213600"/>
                <a:ext cx="1027080" cy="639720"/>
                <a:chOff x="4794120" y="6213600"/>
                <a:chExt cx="1027080" cy="6397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4862160" y="6213600"/>
                  <a:ext cx="890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794120" y="6213600"/>
                  <a:ext cx="10270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5821200" y="6213600"/>
                <a:ext cx="1052640" cy="639720"/>
                <a:chOff x="5821200" y="6213600"/>
                <a:chExt cx="1052640" cy="6397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5889600" y="6213600"/>
                  <a:ext cx="915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宋体"/>
                    </a:rPr>
                    <a:t>↑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821200" y="6213600"/>
                  <a:ext cx="105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6873840" y="6213600"/>
                <a:ext cx="1014120" cy="639720"/>
                <a:chOff x="6873840" y="6213600"/>
                <a:chExt cx="1014120" cy="6397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941880" y="6213600"/>
                  <a:ext cx="8780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873840" y="6213600"/>
                  <a:ext cx="1014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7887960" y="6213600"/>
                <a:ext cx="1014480" cy="639720"/>
                <a:chOff x="7887960" y="6213600"/>
                <a:chExt cx="1014480" cy="6397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956360" y="6213600"/>
                  <a:ext cx="8780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887960" y="6213600"/>
                  <a:ext cx="1014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4" name=""/>
            <p:cNvSpPr/>
            <p:nvPr/>
          </p:nvSpPr>
          <p:spPr>
            <a:xfrm>
              <a:off x="2666880" y="3009960"/>
              <a:ext cx="6240240" cy="38480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pic>
        <p:nvPicPr>
          <p:cNvPr id="365" name="" descr=""/>
          <p:cNvPicPr/>
          <p:nvPr/>
        </p:nvPicPr>
        <p:blipFill>
          <a:blip r:embed="rId1"/>
          <a:srcRect l="6614" t="13858" r="77484" b="65518"/>
          <a:stretch/>
        </p:blipFill>
        <p:spPr>
          <a:xfrm>
            <a:off x="228600" y="1600200"/>
            <a:ext cx="2209680" cy="21589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684360" y="404640"/>
            <a:ext cx="7772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바탕"/>
                <a:ea typeface="바탕"/>
              </a:rPr>
              <a:t>DFF with synchronized set / rese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514600" y="0"/>
            <a:ext cx="6629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LIBRARY IEEE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USE IEEE.STD_LOGIC_1164.ALL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TITY d_fft I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ORT(clk,d,set,reset : IN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STD_LOGIC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,qd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: OUT  STD_LOGIC 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d_fft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RCHITECTURE a OF d_fft IS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ROCESS(clk,set,reset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F (clk'EVENT AND clk='1')  THE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F (set='0' AND reset='1')  THE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&lt;='1'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d&lt;='0'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LSIF (set='1' AND reset='0')  THE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&lt;='0'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d&lt;='1'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&lt;=d;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d&lt;=NOT d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PROCESS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a;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rcRect l="2953" t="12795" r="2953" b="62997"/>
          <a:stretch/>
        </p:blipFill>
        <p:spPr>
          <a:xfrm>
            <a:off x="0" y="1981080"/>
            <a:ext cx="9144000" cy="28958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523880" y="23623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33720" y="2362320"/>
            <a:ext cx="0" cy="259056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362320" y="23623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29000" y="2438280"/>
            <a:ext cx="0" cy="259092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962520" y="23623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00600" y="23623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638680" y="23623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2362320"/>
            <a:ext cx="0" cy="259056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400800" y="2362320"/>
            <a:ext cx="0" cy="2666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629400" y="2362320"/>
            <a:ext cx="0" cy="266688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8880" y="2438280"/>
            <a:ext cx="0" cy="2667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09:02:01Z</dcterms:created>
  <dc:creator>fap</dc:creator>
  <dc:description/>
  <dc:language>en-US</dc:language>
  <cp:lastModifiedBy>Admin</cp:lastModifiedBy>
  <dcterms:modified xsi:type="dcterms:W3CDTF">2006-03-24T10:40:34Z</dcterms:modified>
  <cp:revision>272</cp:revision>
  <dc:subject/>
  <dc:title>  第一章  数字电路基础 </dc:title>
</cp:coreProperties>
</file>