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6D54-4E18-436C-846D-900062DAC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F73B-4658-4EF7-985F-5D7B4B4ED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2E42-26F4-4A09-847B-CDD07A2D7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6DE4-76FB-4DAF-8730-3EFE84969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0EAD-175E-4B40-8766-BE0E26D3C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2D12-1C14-449C-9171-882DBF5FF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3490-B9ED-47C5-8E26-5F45EC4F0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A5D7-24D2-4986-9DA9-CD898E72D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083E-9DD8-4855-A507-A83958790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B67A-5EEF-4822-9241-16D8787BD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20A2-36FC-4526-AB48-F8BBA9BA5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BC19-C931-4EFE-86DB-635D60891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A3857-57D4-4AD1-A8A1-9301A553CD3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5T02:55:50Z</dcterms:created>
  <dc:creator>server2</dc:creator>
  <dc:description/>
  <dc:language>en-US</dc:language>
  <cp:lastModifiedBy>wangxuejun</cp:lastModifiedBy>
  <dcterms:modified xsi:type="dcterms:W3CDTF">2008-07-13T16:24:55Z</dcterms:modified>
  <cp:revision>2</cp:revision>
  <dc:subject/>
  <dc:title>幻灯片 1</dc:title>
</cp:coreProperties>
</file>