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9EC1-7770-491B-B91E-E7F46A1D1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AF04-40BE-4D05-A951-DAF50549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90D0-14A2-4A7D-BB9E-8A4FF1A6F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AF36-56BC-4C0D-AA20-E912C1DEE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333C-28E8-4FD2-938D-AA5F3ABF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64E7-22C9-4726-BE81-5E162D59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46D2-9C6A-4208-8C13-8CE6F979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8133-0355-4A87-8CC0-435F4687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C903-56FD-42D2-AF44-1C1EE4D6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625A-6A6C-413E-BC7B-099E7C51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8480-4EE7-4011-9044-3FB317D8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D3D3-33FB-485F-A3C1-01A7B57C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5A0C-85FD-4DFF-9A37-F389F1A826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2:55:50Z</dcterms:created>
  <dc:creator>server2</dc:creator>
  <dc:description/>
  <dc:language>en-US</dc:language>
  <cp:lastModifiedBy>wangxuejun</cp:lastModifiedBy>
  <dcterms:modified xsi:type="dcterms:W3CDTF">2008-07-13T16:24:55Z</dcterms:modified>
  <cp:revision>2</cp:revision>
  <dc:subject/>
  <dc:title>幻灯片 1</dc:title>
</cp:coreProperties>
</file>