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654-2A34-462A-97AE-3E034DF4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9E6-87A5-40F2-A5D0-76F8695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544-637E-4833-B224-3966BFCB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F8D-3BD8-4071-98BE-7735F416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28C-A603-4251-9944-B8DB5D9F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B76-F66B-49FF-ABBF-64D8663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3BD-D1C9-4AB8-8D27-6BA58B1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107-1B17-43DD-8033-9BA5A05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600-C4BD-4710-974A-9ADDDB4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C3C-AED8-4A73-AB38-101408CB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5D0-9233-4E02-99CC-561BA8D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DEA-B7FB-41A0-8F4F-B4558BA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E4C-2610-4205-BFF6-8C067B0C9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2:55:50Z</dcterms:created>
  <dc:creator>server2</dc:creator>
  <dc:description/>
  <dc:language>en-US</dc:language>
  <cp:lastModifiedBy>wangxuejun</cp:lastModifiedBy>
  <dcterms:modified xsi:type="dcterms:W3CDTF">2008-07-13T16:24:55Z</dcterms:modified>
  <cp:revision>2</cp:revision>
  <dc:subject/>
  <dc:title>幻灯片 1</dc:title>
</cp:coreProperties>
</file>