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771E-7916-410F-8A35-6E89DFD6C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56B4-ACE9-4E1D-8DED-A6C70AA8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B875-02D2-4D1C-B46C-0833C7F51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E6F5-636E-4B2E-B1B2-D587C5E8A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59DC-8F00-43C9-A9C4-4313A3B2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A2A2-6301-4943-A65E-C8FEA523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D327-DBEE-4E95-8DD9-A45EE808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43A1-DEBE-45B5-8899-652553E9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37DE-4130-45F2-AFFC-A0A653BC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4EED-3D33-4407-BC72-FE215911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EA5E-471A-428A-B4FA-483412EE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296C-2B96-411A-9223-BF3D3F19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A3F7-43BB-4E1A-A703-3078A8F205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02:55:50Z</dcterms:created>
  <dc:creator>server2</dc:creator>
  <dc:description/>
  <dc:language>en-US</dc:language>
  <cp:lastModifiedBy>wangxuejun</cp:lastModifiedBy>
  <dcterms:modified xsi:type="dcterms:W3CDTF">2008-07-13T16:24:55Z</dcterms:modified>
  <cp:revision>2</cp:revision>
  <dc:subject/>
  <dc:title>幻灯片 1</dc:title>
</cp:coreProperties>
</file>