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F6BD-A28F-4712-AC40-876B3F5A6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6983-E987-4911-8527-B857487C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B2A8-CFA4-4558-BDC5-02846DE53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03C6-1CEF-44C7-81B5-408F98AA5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0A0D-729F-47B4-91CA-E28B1398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A29C-D732-42BB-A3CB-E15AFCE8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E429-D908-4763-BB81-492557FA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2A95-55FA-44EE-B78E-11DF5252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7E75-9597-4189-8491-9B600DDF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D28D-0F26-46DA-B862-7868E951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7D13-A130-4A38-9ED0-D412C90E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311A-0DC9-4E26-91B2-25FCEB69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1E51-EC22-4EA6-851D-A2D7BFBD26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02:55:50Z</dcterms:created>
  <dc:creator>server2</dc:creator>
  <dc:description/>
  <dc:language>en-US</dc:language>
  <cp:lastModifiedBy>wangxuejun</cp:lastModifiedBy>
  <dcterms:modified xsi:type="dcterms:W3CDTF">2008-07-13T16:24:55Z</dcterms:modified>
  <cp:revision>2</cp:revision>
  <dc:subject/>
  <dc:title>幻灯片 1</dc:title>
</cp:coreProperties>
</file>