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wmf" ContentType="image/x-wmf"/>
  <Override PartName="/ppt/media/image19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3030-44AC-49CC-8BC2-6A712325C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EC03-979C-4EF0-80CA-CA70D641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B874-12EB-482F-AE6F-E4500B4BA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BEFF-B4DC-40B9-A562-089ACEABF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BE8A-7DB8-47E4-8220-7B67DC5B8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8984-36E6-432E-8D97-4B6796E5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F09A-32E4-499F-A079-CD117A9F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B1EC-D69E-4F61-AE6A-BC03B3E4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1929-F105-4390-93B9-985A668E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BE51-41FF-4D66-98ED-458632B5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55CB-9A8F-4FE5-8235-211D73C6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3478-2414-4AC9-A903-0671E02B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E860-89D8-46CD-903C-C0C85770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D0F5-A6B8-4DB0-AD33-25B699F7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A7BA-09F0-4603-BD05-79D7AD80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E671-1B87-46E7-BC30-30B675F20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8888-B31A-4A00-94C9-E843BCA1E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EE1C-2803-439A-9C8E-6CD6B34A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9774-9540-457B-B4BD-01A8DCA3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3829-85D5-4773-A31B-0525E3D5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20C9-239F-4F57-ADBE-1301A4A8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F39B-44BC-4029-9B62-F582D6C5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F3F1-86A8-43DA-904F-E166AEA6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F640-5171-4FE2-81EC-18D91120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2820-BE6E-4E96-94EC-61DBD83385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C0C6-9BD4-4780-AB9C-445FB6A59B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湖南概况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湖南山川秀丽，古迹众多，旅游资源丰富。旅游景点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多处，省级以上重点保护文物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多处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有历史文化名城长沙及其马王堆汉墓出土文物、岳阳洞庭湖和岳阳楼、南岳衡山、常德桃花源、株洲的炎帝陵、宁远的九嶷山和舜帝陵、石门的夹山寺和闯王陵、郴州的苏仙岭、娄底的湄江、韶山毛泽东故居等都久负盛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新开发的张家界市武陵源风景名胜区，堪称世界天然大奇观，融峰林独特的造型美和大自然原始野趣于一体，尽显奇、险、幽、秀、野之特色，已被列入《世界遗产名录》。生活在湘西的土家、苗、侗、瑶、白等少数民族，能歌善舞，保留了许多独特的传统风俗。湘西的民族风情旅游资源，有着巨大的开发潜力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全省旅游业发展现状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全省旅游业已形成“一个中心，一个龙头，八条黄金路线”的旅游精品格局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一个中心是长沙市，一个龙头即张家界武陵源风景名胜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这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条黄金旅游线路是：长沙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常德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张家界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猛洞河的山水风光旅游线；长沙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汨罗屈子祠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岳阳的湘楚文化旅游线；长沙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韶山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花明楼的名人故里旅游线；长沙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南岳衡山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郴州的宗教文化、湘南风光旅游线；长沙（张家界）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湘西凤凰（德夯）和怀化侗寨民族风情旅游线；长沙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娄底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邵阳崀山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南山地质奇观旅游线；长沙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炎帝陵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舜帝陵寻根祭祖旅游线；长沙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益阳（桃花江）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常德（桃花源、夹山和壶瓶山）田园风光旅游线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十一五”期间湖南省的旅游规划目标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一、精心打造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个国际旅游品牌，提升区域旅游品牌。一是以张家界为龙头的自然生态旅游品牌；二是以韶山为重点的红色旅游品牌；三是以炎帝陵为代表的历史人文旅游品牌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二、科学构筑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个特色旅游区，促进旅游业全面发展。五个特色旅游区是：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0"/>
            <a:ext cx="8686800" cy="73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　　①长株潭旅游区。包括长沙市、株洲市和湘潭市。重点突出历史文化、现代文化、都市文化等特色，主要建设观光和休闲度假旅游产品，带动专项旅游产品，进一步增强湖南旅游中心作用。</a:t>
            </a:r>
            <a:br>
              <a:rPr sz="2100"/>
            </a:b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　　②大湘西旅游区。包括张家界市、湘西自治州、怀化市。重点突出民族文化、民俗风情、自然风光等特色，加强建设休闲度假和专项旅游产品，深度开发观光旅游产品。加强与鄂西南、渝东南、黔东、桂北各旅游区域合作，努力拓展我国西部旅游市场。</a:t>
            </a:r>
            <a:br>
              <a:rPr sz="2100"/>
            </a:b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　　③环洞庭湖旅游区。包括益阳市、岳阳市和常德市。重点突出水域风光、湖泊湿地和历史文化特色，加强建设观光和专项旅游产品，适度开发休闲度假旅游产品。加强与我国中部地区主要城市进行区域合作，努力拓展我国中部市场。</a:t>
            </a:r>
            <a:br>
              <a:rPr sz="2100"/>
            </a:b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　　④大湘南旅游区。包括郴州币、衡阳市和永州市。重点突出宗教文化、历史文化、民俗文化和自然风光等特色，加强建设观光和休闲度假旅游产品，适度开发专项旅游产品。加强泛珠三角区域合作，努力拓展我国东部和南部市场。</a:t>
            </a:r>
            <a:br>
              <a:rPr sz="2100"/>
            </a:b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　　⑤湘中旅游区。包括邵阳市和娄底市。重点突出历史文化、民俗文化和自然风光等特色，加强建设观光和专项旅游产品，适度开发休闲度假旅游产品。加强泛珠三角等地区的区域合作，努力拓展我国南部和西部市场。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三、深度开发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条旅游精品线路，构筑旅游的大动脉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四、努力拓展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条旅游跨省通道，加强与周边省市的区域联合。，形成“南北贯通、东西呼应”的旅游产业发展格局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湖南交通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湖南铁路交通较为发达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湖南公路网络纵横交错，四通八达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湖南拥有长沙黄花机场和张家界荷花机场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个国际机场，常德桃花源机场，永州零陵机场，怀化芷江机场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个国内机场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湖南水路总长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11968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千米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648320" y="1827360"/>
            <a:ext cx="4038480" cy="41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湖南风物特产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工艺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土特产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648320" y="1719360"/>
          <a:ext cx="4038480" cy="44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19360"/>
                    <a:ext cx="403848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工艺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733920" y="1447920"/>
            <a:ext cx="4843440" cy="45259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陶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湖南陶瓷历史悠久，瓷质优良，是中国陶瓷的主要产区之一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工艺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-381240" y="914400"/>
            <a:ext cx="37335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雕刻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湖南著名的雕刻有浏阳菊花石雕、洞口墨晶石雕、桃源桃花石雕、隆回滩头木刻年画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124080" y="1066680"/>
            <a:ext cx="6019920" cy="3581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143000" y="4114800"/>
            <a:ext cx="2916360" cy="21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工艺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3810240" cy="27687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织绣编织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著名产品有长沙湘绣，望城剪纸，益阳小郁竹器和水竹凉席，临武龙须草席，祁阳草席，邵阳翻黄竹刻，岳阳岳州扇，隆回花瑶桃花，湘西蓝印花布，土家织棉，土家粘贴画苗族刺绣，苗族花带，凤凰银饰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371600" y="3886200"/>
            <a:ext cx="310212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地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2313000"/>
            <a:ext cx="4341960" cy="34084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667400" y="1719360"/>
            <a:ext cx="3995640" cy="44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工艺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烟花爆竹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浏阳花炮是驰名中外的湖南传统特长和主要出口商品之一，工艺精美，质量优异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267080" y="990720"/>
            <a:ext cx="3829320" cy="27954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191120" y="3962520"/>
            <a:ext cx="343188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土特产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水产禽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瓜果干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茶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副食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调味品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酒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水产禽肉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著名产品有岳阳洞洞庭湖银鱼、君山金鱼、郴州东江鱼、衡阳湘黄鸡、临武鸭、武冈铜鹅、攸县麻鸭、益阳松花皮蛋、宁乡花猪、宝庆猪血丸子、腊肉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029200" y="1371600"/>
            <a:ext cx="3800520" cy="28670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800600" y="4343400"/>
            <a:ext cx="3962520" cy="233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瓜果干菜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著名产品有湘莲、黄花菜、玉兰片、隆回龙牙百合、武陵源岩耳、宝庆朝天椒、醴陵辣椒、湘粉、新田陶岭三味辣椒、江永三香、雪峰蜜橘、安江香柚、浏阳金橘、湘西猕猴桃、靖州木洞杨梅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124080" y="3962520"/>
            <a:ext cx="297180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茶叶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3998880"/>
            <a:ext cx="8229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湖南省是我国茶叶的重要产地，品种较多。名品有长沙的高桥银峰、麓山毛尖、茉莉花茶、南岳云雾茶、岳阳的北港毛尖、洞庭春、君山银叶、君山毛尖、安化黑茶、安化松针、娄底金银花茶、新华蒙山茶、古丈毛尖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865080" y="1719360"/>
            <a:ext cx="3221280" cy="21304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5210280" y="1719360"/>
            <a:ext cx="2914560" cy="21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副食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著名的有湘潭灯芯糕、浏阳茴饼、衡阳酥薄月饼、桃源桂花糖、靖州蜜饯、芷江藕心香糖、凤凰姜糖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886200" y="1295280"/>
            <a:ext cx="4160880" cy="31226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572000" y="3962520"/>
            <a:ext cx="3532320" cy="26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调味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著名的产品有湘潭龙牌酱油、浏阳豆鼓、双峰永丰酱油、南岳雁鹅菌、宁远山苍子油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066680" y="1719360"/>
            <a:ext cx="2827440" cy="21304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260360" y="3938760"/>
            <a:ext cx="2670120" cy="24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酒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84360" y="2909880"/>
            <a:ext cx="3638520" cy="28018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568760" y="2411280"/>
            <a:ext cx="4116600" cy="35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湖南文化艺术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187280" y="1412640"/>
            <a:ext cx="6400800" cy="34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湖南是楚文化之一，湖南现有地方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剧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最有影响的是湖南花鼓戏 ，湘剧，武陵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祁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巴陵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傩堂戏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湖南民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湖南山歌归纳为“高腔”、“平腔”、“低腔”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种 《挑担茶叶上北京》、《洞庭鱼米乡》、《小背篓》、《 浏阳河》 、 《辣妹子》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272360" cy="728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湖南列入第一批国家非物质遗产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戏剧有昆剧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德高腔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湘剧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巴陵戏等。曲艺有常德丝弦。民间音乐有桑植民歌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靖州苗族歌鼟等。民间舞蹈有土家族摆手舞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湘西苗族鼓舞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湘西土家族茅古斯舞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1.</a:t>
            </a: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湘剧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湘剧，即湖南省的地方戏曲剧种，流行于长沙、湘潭一带，源出于明代的弋阳腔，后又吸收昆腔、皮黄等声腔，形成一个包括高腔、低牌子、昆腔、乱弹的多声腔剧种。剧目以高腔、乱弹为主，如《琵琶记》、《白兔记》、《拜月记》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427640" y="4221000"/>
            <a:ext cx="3457440" cy="26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3384720" cy="2735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5292720" y="260280"/>
            <a:ext cx="3095640" cy="29527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2700360" y="3429000"/>
            <a:ext cx="32050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6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湖南花鼓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湖南最有影响的地方声腔小戏，它是由各地农村劳动山歌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民间小调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对子戏等发展起来的。根据地方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声腔课分为长沙花鼓戏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邵阳花鼓戏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德花鼓戏等。著名的曲目有《刘海砍樵》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《补锅》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419640" y="3429000"/>
            <a:ext cx="43210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26920" y="330120"/>
            <a:ext cx="2992680" cy="30974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5219640" y="476280"/>
            <a:ext cx="3313080" cy="33130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1979640" y="3789360"/>
            <a:ext cx="3295800" cy="30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巴陵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巴陵戏，原称“巴湘戏”，因艺人都出自巴陵和湘阴而得名。又因它的形成和主要活动地区是岳阳（旧岳州府），民间称为岳州班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651640" y="3933720"/>
            <a:ext cx="2735280" cy="2521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1116000" y="3933720"/>
            <a:ext cx="316872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祁剧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祁剧是湖南地方大戏剧种之一，它又称祁阳班子，民国初年称“祁阳戏”，清末又名“楚南戏”，因形成于祁阳而得名。祁剧广泛流行于湖南省的祁阳、衡阳、邵阳、零陵、郴州、怀化等地区，以及广西壮族自治区的全州、桂林、平乐、柳州和赣南、粤北、闽西一带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3308400" cy="29224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5219640" y="476280"/>
            <a:ext cx="2952720" cy="27367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3132000" y="4005360"/>
            <a:ext cx="302436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傩堂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民间小戏剧之一，由巫师还傩的酬神鼓舞发展而成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3024000" cy="25210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5003640" y="476280"/>
            <a:ext cx="3672000" cy="24480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2916360" y="3500280"/>
            <a:ext cx="331128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湖南概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23880" y="1974960"/>
            <a:ext cx="6096240" cy="389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古潇湘八景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潇湘八景，相传为满湘一带的湘江流域八处住胜。为宋沈括《梦溪笔谈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书画》中所描述。历代皆有才子追和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潇湘夜雨——永州城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平沙落雁——衡阳市回雁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烟寺晚钟——衡山县城北清凉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山市晴岚——湘潭与长沙接壤处的昭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江天暮雪——橘子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远浦归帆——湘阴县城江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洞庭秋月——洞庭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渔村夕照——西洞庭桃源武陵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新潇湘八景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人文景观类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　　伟人故里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含韶山毛泽东故居、花明楼刘少奇故居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)  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炎陵觐祖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炎帝陵园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)  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边城栖凤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凤凰古城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)  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星沙访古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含马王堆西汉王室墓陈列馆、岳麓山、岳麓书院、天心阁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)  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九疑文脉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含舜帝陵、浯溪碑林、江永女书园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五溪情韵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含洪江古商城、溆水思蒙、通道侗民俗风情景观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)  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龙回花瑶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含花瑶古寨、魏源故居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)  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桃源寻梦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含桃花源、柳叶湖、常德诗墙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山水文化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张家仙界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含黄狮寨、金鞭溪、袁家界、天子山、黄龙洞、宝峰湖、天门山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)  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崀丹霞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崀山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)  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衡岳灵秀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含南岳衡山、南岳大庙、蔡侯祠、曾国藩故居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)  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巴陵胜状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含岳阳楼、君山岛、屈子祠、张谷英村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)  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紫鹊衔梅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含梅山龙宫、紫鹊界梯田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)  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莽山碧海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莽山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)  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酉水画廊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含红石林、猛洞河、五溪湖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壶瓶飞瀑（壶瓶山）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生态休闲类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　　湘流诗卷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含长沙湘江风光带、橘子洲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)  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东江击浪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资兴东江湖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)  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灰汤漱玉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灰汤电力温泉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)  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千龙乐水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长沙千龙湖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)  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苏仙涌泉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苏仙岭、天堂温泉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)  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阳明映日  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双牌阳明山公园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梓湖逸兴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益阳梓山湖健身休闲度假区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)  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水府醉月  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湘乡水府庙旅游度假区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国家重点风景名胜区、国家地质公园、国家自然保护遗产和“新潇湘八景”之一。我国乃至世界罕见的大型丹霞地貌区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崀山六绝为：天下第一巷、琼鱼闹海、辣椒峰、骆驼峰、亚洲第一桥、扶夷江与将军石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湖南名称的由来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被誉为美丽的芙蓉国的湖南，北枕长江，南邻广东，地处洞庭湖以南，故称“湖南”；湘江贯通南北，故简称“湘”。湘江之畔，鱼米之洲，湖南又被称之为“鱼米之乡”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以在洞庭湖之南而得名。唐属江南西道和黔中道，后设湖南观察使，为湖南得名的开始；宋称湖南路；元设岭北湖南道；明属湖广省，后改省为湖广布政使司；清分湖广省置湖南省，省名至今未变。</a:t>
            </a:r>
            <a:br>
              <a:rPr sz="2600"/>
            </a:b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“芙蓉国”之说是出自唐代谭用之的《秋宿湘江遇雨》：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湘上阴云锁梦魂，江边深夜舞刘琨。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秋风万里芙蓉国，暮雨千家薜荔村。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乡思不堪悲橘柚，旅游谁肯重王孙。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渔人相见不相问，长笛一声归岛门。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4360" y="3842280"/>
            <a:ext cx="790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毛泽东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96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写了这首《七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答友人》，原题为《答周世钊同学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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九嶷山上白云飞，帝子乘风下翠微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斑竹一枝千滴泪，红霞万朵百重衣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洞庭波涌连天雪，长岛人歌动地诗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我欲因之梦寥廓，芙蓉国里尽朝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8920" y="-9437040"/>
            <a:ext cx="289080" cy="96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100" spc="-1" strike="noStrike">
                <a:solidFill>
                  <a:srgbClr val="000000"/>
                </a:solidFill>
                <a:latin typeface="宋体"/>
              </a:rPr>
              <a:t>四水”是指湘江、资江、沅江、澧水四条河流 ——这基本取得了共识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100" spc="-1" strike="noStrike">
                <a:solidFill>
                  <a:srgbClr val="000000"/>
                </a:solidFill>
                <a:latin typeface="宋体"/>
              </a:rPr>
              <a:t>三湘”一词的理解却各有不同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宋体"/>
              </a:rPr>
              <a:t>　　一种说法是指：湘水发源与漓水合流后称漓湘，中游与潇水合流后称潇湘，下游与蒸水合流后称蒸湘，故名“三湘”。</a:t>
            </a:r>
            <a:br>
              <a:rPr sz="2100"/>
            </a:br>
            <a:r>
              <a:rPr b="0" lang="zh-CN" sz="21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宋体"/>
              </a:rPr>
              <a:t>　　一种说法是指：湘乡为下湘，湘潭为中湘，湘阴为上湘，合称“三湘”。</a:t>
            </a:r>
            <a:br>
              <a:rPr sz="2100"/>
            </a:br>
            <a:r>
              <a:rPr b="0" lang="zh-CN" sz="21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宋体"/>
              </a:rPr>
              <a:t>　　一种说法是指：用作湘北、湘西、湘南三地区的总称，泛指湖南全省。</a:t>
            </a:r>
            <a:br>
              <a:rPr sz="2100"/>
            </a:br>
            <a:r>
              <a:rPr b="0" lang="zh-CN" sz="21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79760" y="32457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-627480"/>
            <a:ext cx="82296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4000" y="290160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湖南位于我国东南腹地，长江中游，是连接东部沿海省与西部内陆省的桥梁地带。全省土地面积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1.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万平方公里。湖南东南西三面环山，中部、北部低平，形成向北开口的马蹄形盆地。境内山地约占总面积的一半，平原、盆地、丘陵、水面约占一半。主要山脉有雪峰山、武陵山、幕阜山—罗霄山及南岭山脉。省内最高峰为炎陵县的酃峰，海拔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12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米；最低点为临湘市的黄盖镇，海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米。主要水面有洞庭湖及湘江、资水、沅江、澧水，四水由西南向北汇聚洞庭湖，经岳阳城陵矶注入长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江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湖南省旅游资源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世界自然遗产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处即武陵源　、崀山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国家级历史文化名城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座即长沙、岳阳、凤凰；国家级历史文化名镇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座即龙山里耶镇；国家级历史文化名村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个即张谷英村；省历史文化名城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座即永州、衡阳、郴州、怀化洪江黔城古城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国家重点文物保护单位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58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处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国家级风景名胜区南岳衡山、武陵源、岳阳—洞庭湖、韶山、岳麓山、崀山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个；省风景名胜区桃花源、苏仙岭、猛洞河、吉首德夯等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处。 国家自然保护区东洞庭湖〔湿地〕、壶瓶山、八大公山等 处；省级自然保护区洛塔、大围山、八面山等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处。国家森林公园莽山、云山、九疑山等 处；省级森林公园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个；世界地质公园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个即张家界；国家地质公园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个即崀山等；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5A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景区</a:t>
            </a:r>
            <a:r>
              <a:rPr b="0" lang="zh-CN" sz="2100" spc="-1" strike="noStrike">
                <a:solidFill>
                  <a:srgbClr val="ff3399"/>
                </a:solidFill>
                <a:latin typeface="Arial"/>
              </a:rPr>
              <a:t>2</a:t>
            </a:r>
            <a:r>
              <a:rPr b="0" lang="zh-CN" sz="2100" spc="-1" strike="noStrike">
                <a:solidFill>
                  <a:srgbClr val="ff3399"/>
                </a:solidFill>
                <a:latin typeface="Arial"/>
              </a:rPr>
              <a:t>个即武陵源和衡山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4A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级景区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个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4:11:56Z</dcterms:created>
  <dc:creator>Administrator</dc:creator>
  <dc:description/>
  <dc:language>en-US</dc:language>
  <cp:lastModifiedBy>微软用户</cp:lastModifiedBy>
  <dcterms:modified xsi:type="dcterms:W3CDTF">2011-06-08T09:14:2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