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CD36F-AE39-4DB7-BDBA-E2066178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9CD6B-F43B-4523-922C-35A7DFAA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8D8AA-E7A5-4F60-81BE-F4245B25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D7150-2258-4DF6-B5B7-D0FECDA0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54641-2E88-433C-A2A5-A9A3EAB5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75D1E-93A0-40F7-A2CE-605048B3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03115-E0EA-4B33-B7CB-31F80FC7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6D261-D646-438B-BE8A-33429928E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B6A26-DC30-416E-AC98-0C97F746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AEADCC-DDA7-45E4-A170-A1264246E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5D3A1-8791-43B6-B6F7-03A46B29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341F0-1095-4A2F-9842-ABA4D932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891EB-5BDF-49B6-80D5-DEAE1660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FEADF-C3B0-43D0-832E-C0229F61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68392-5EFA-492D-A334-BA91A6F6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628ED-A6BB-4583-A766-2409F365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B387F-61D1-4775-867A-03FA5376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55938-BEF2-4792-9D1F-DA9FD1BD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885D1-A409-4631-9B3D-CBA15834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7A27C-7C2B-41F9-8DBD-D4A5848C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DEE9A-ECB0-441C-9AD3-9C30F22B9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9F314B-8160-4806-9F3D-84B2EF47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08C76-4E16-4DE9-9CE1-788A3B62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F410E-510D-4000-945B-C1736BA1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923F0-83BB-4904-8488-AFF94D38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08122-5832-47EE-9D2F-5C6B41E3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E1D67-485E-47C8-9BB8-86DB6E241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921B1B-31CE-4E74-977E-0DC8178D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E3C9D-4593-4E3D-A2F7-525796B6C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E687A-E244-44A8-A7C0-4A97F453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C439-E59D-4319-BCDE-B25E2081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E153CF-88B8-494C-B455-C22A401EE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C5DC1-294D-4794-9A2A-2B8C81719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0012D-6041-473F-9D00-8883D5A4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49C8B-1AEF-4E94-8134-4C25E7F0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559E8-3FE4-443C-B48D-4E285E54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9CF858-3A68-4A96-B7EB-8B819974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B6174C-F791-4371-9096-A4B454C0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6C49A-8402-4EA0-BA26-A49A2D9A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E64323-7951-41D8-9DAC-4E3C64EA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DCB1C-0117-4194-91DE-6B689B5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1666-47E1-48D6-A63D-2CD9CB7D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44079-276A-4196-8C22-6E0165FC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19F56B-CA18-46BF-A3BD-D36E369C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84786-ACA1-468C-8B0D-3151FE26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B75B27-AB9B-4E6F-8867-DF1E901A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1FA75-C317-43FD-BC84-A93CC2D9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C1E89-CF12-4174-B02E-0923CA7C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75562-D6D2-4B3A-BF67-E6EF2131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5F000-5624-4386-BF03-0E800606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3A444-C766-4506-AB92-2E338B3C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7A4C8-4810-4F93-8202-CEAC4F6B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721-F49B-4A5F-8671-3FC52BC9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EB3F60-C3FC-4E94-8D86-03DA0271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E5D37-5956-4812-9DA5-ED39E38F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31AA66-5031-430A-A3D7-D4997B2B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316C6-9D08-4BD2-AE3B-9A01A3EF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31EF4-53CE-42C5-823A-C4E0340F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97EAC-B95F-48FE-B7E6-7720DF2BD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9535AB-3372-496F-A908-94A53EFD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37DC1-9C22-4F2B-9BEF-88B38505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6B53E-A83E-4EDD-8904-3FCB375A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74DD5-0D09-43EA-ABE9-F71A6138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88E-3AE0-448F-BC4F-722BBA602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6E4D4-3642-4704-9212-CB064853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B08CD-CF68-49F0-ABDA-3BB52F69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5F9E7-29D3-46B6-83EC-A03F3A07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628BD-100E-45F2-AD54-6FD96B47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448BA-5BCF-4DEC-9FD9-59CB1B2C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17E9E-11EE-4AA7-85B3-2416F55E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C263B3-06ED-490F-B838-DF635F48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10462-6AEE-4436-BE70-E7C91A7D5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63DC4-891A-4461-8D39-128ECEFB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3A21-ED64-48C6-B12F-013338BD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9DE-0B82-4F1B-AA65-6688118B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F49B-30BA-4B2A-A251-226A5B6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1C6-8725-4E25-B4C7-4E010B5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2DC4-E0B0-4746-AF1F-47F78226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470D-9925-4E03-9522-22D752EF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AFD-F266-4997-BC49-91B7823C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9E88-11B0-47E2-942E-85046B24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BA3F-B535-4D2E-923E-2B2B88DB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13D6-34D5-43B3-959D-A5568E7C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349E-462F-49CB-BFAE-2295C303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A587-45E5-4D8F-B390-30D44BA4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4C2E-B064-4A5D-9263-2A6A4BE5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0CBA-786C-4E2E-815C-C0692D898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4BA0-D4E2-4F69-BC56-C118A5AF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F276-C91D-4835-B1E7-84941EEA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B4018-7FBE-45A4-A5F1-30A71D90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2A8C-F2EA-4A28-8ED6-F55269F5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C3F1-4216-421F-864F-31AE9AAE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856EB-E766-452B-AFC2-12FB9394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449F-970B-4A7D-825C-CD30017C0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D18E-9166-4FB3-8CA8-A5C7B14D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7B05-F0DE-4835-ADBD-0FDB4FB8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10495-608F-4ACF-AF53-88123ACC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D7C88-897B-4BBD-B1C5-5BB8508F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9B9B-CBD1-4849-B473-726027F4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B1CC6-C1DB-4534-BCA6-81908A3A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6173C-3BB0-4169-B4DA-354DB8C1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A4D89-6648-400C-9C8F-B304AEB8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50EF-E07E-4206-80DA-9D57ED0E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4FDF4-6D89-4B0F-83DD-5E9BB2E1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2D34B-5835-46B0-BF75-1851809DC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DA8EE9-ADD2-4BF6-903B-934FB2F8A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ADF60-C2C3-4A0C-B2A1-8FEB1EE4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3CD82-1F62-4FB0-972B-99AFA33B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DECBD-36EA-4FA7-A0BF-715255F1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BEEA-AD39-437C-BC38-F1A21E32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65FFE-9674-478B-B7EA-3204551D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64D8C-923E-4196-8AD3-41C6C32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FDA8D-BDEE-486C-B3D1-5C7A5FFD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D51A7-D4E4-4C64-B373-FE4F9C27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C3609-4821-42D2-AA6B-FFC7FF38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672221-A2DE-46C4-B331-64A6BDB0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938C7-7419-4E77-827E-6159530A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EF687-CFCE-4EF1-876A-69D19459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D9626-C419-4B2B-98C5-6BB3CAB2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D5A3F-5703-482E-8BDD-29FBD629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2E261-48A6-43F4-B1C2-BA799451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AA15B-92FD-4551-A519-32587AE4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11E90-2A66-4C10-B6FC-B604E86E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69043-B44B-4DDB-BA7B-D945C526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37A43-9EFC-4E8C-A05B-B4868F94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059D8-FEBA-4AF4-B3D3-4EF3A17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8DFAF-DB33-46BF-AD09-2E3484B1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4744-FAC3-4E47-9907-9E170F9B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EEB32-12BB-483C-A7A8-645223B0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AA372-906B-4489-8AF5-5B2CAD6C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EB581-C249-4390-8655-5407BB2B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A08A9-A490-48F6-8998-816C10D5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5DA33-AAF8-4109-A6A7-2CE14889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63C1A-3C09-4B9C-9257-69D4D3E6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6572E-BFAD-44F1-8809-1DB605BEE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A3FB0-FBC1-49F2-B6A6-55140DB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96D0A-0829-4FF0-A3E8-7449089E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B01AB-6048-41EB-8873-EE50F34B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A271F-3440-41E3-A35F-29AE7A6AC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EA19-C186-4273-AB59-D65B492D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D29E2-D458-429D-A65E-90108044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44BE8-6077-4917-9920-101AED48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B940F-4895-4B91-9740-96CA62AC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92FB6-C7D5-4882-A60E-D6F9401E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可选过程 1025"/>
          <p:cNvSpPr/>
          <p:nvPr/>
        </p:nvSpPr>
        <p:spPr>
          <a:xfrm>
            <a:off x="0" y="304920"/>
            <a:ext cx="9144000" cy="990360"/>
          </a:xfrm>
          <a:prstGeom prst="flowChartAlternateProcess">
            <a:avLst/>
          </a:prstGeom>
          <a:gradFill rotWithShape="0">
            <a:gsLst>
              <a:gs pos="0">
                <a:srgbClr val="ffe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新月形 1026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新月形 1027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新月形 1028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流程图: 可选过程 1029"/>
          <p:cNvSpPr/>
          <p:nvPr/>
        </p:nvSpPr>
        <p:spPr>
          <a:xfrm>
            <a:off x="1752480" y="1600200"/>
            <a:ext cx="7020000" cy="4495680"/>
          </a:xfrm>
          <a:prstGeom prst="flowChartAlternateProcess">
            <a:avLst/>
          </a:prstGeom>
          <a:solidFill>
            <a:srgbClr val="ffcc99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A364-8538-462B-8F54-5E6F7DE73F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9DAB-2821-4A78-84E1-603844E663E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EA39-04C7-45CC-A1B1-D0BA545CE1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D1CC7-17C4-458E-969C-CD4047A99CC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6447-F472-4BEF-8AB2-A17B09B7DD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21B2-0521-4AF1-9C95-501EEF82B4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流程图: 可选过程 2049"/>
          <p:cNvSpPr/>
          <p:nvPr/>
        </p:nvSpPr>
        <p:spPr>
          <a:xfrm>
            <a:off x="0" y="2590920"/>
            <a:ext cx="9144000" cy="1218960"/>
          </a:xfrm>
          <a:prstGeom prst="flowChartAlternateProcess">
            <a:avLst/>
          </a:prstGeom>
          <a:gradFill rotWithShape="0">
            <a:gsLst>
              <a:gs pos="0">
                <a:srgbClr val="ffd9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新月形 2050"/>
          <p:cNvSpPr/>
          <p:nvPr/>
        </p:nvSpPr>
        <p:spPr>
          <a:xfrm rot="10800000">
            <a:off x="0" y="1447920"/>
            <a:ext cx="1905120" cy="320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510" y="614"/>
                  <a:pt x="3420" y="5080"/>
                  <a:pt x="3420" y="10800"/>
                </a:cubicBezTo>
                <a:cubicBezTo>
                  <a:pt x="3420" y="16520"/>
                  <a:pt x="12510" y="2098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e2ff8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新月形 2051"/>
          <p:cNvSpPr/>
          <p:nvPr/>
        </p:nvSpPr>
        <p:spPr>
          <a:xfrm rot="10800000">
            <a:off x="0" y="685800"/>
            <a:ext cx="1676520" cy="541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29" y="656"/>
                  <a:pt x="3658" y="5080"/>
                  <a:pt x="3658" y="10800"/>
                </a:cubicBezTo>
                <a:cubicBezTo>
                  <a:pt x="3658" y="16520"/>
                  <a:pt x="12629" y="209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新月形 2052"/>
          <p:cNvSpPr/>
          <p:nvPr/>
        </p:nvSpPr>
        <p:spPr>
          <a:xfrm rot="10800000">
            <a:off x="0" y="1295280"/>
            <a:ext cx="1219320" cy="373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769" y="706"/>
                  <a:pt x="3937" y="5080"/>
                  <a:pt x="3937" y="10800"/>
                </a:cubicBezTo>
                <a:cubicBezTo>
                  <a:pt x="3937" y="16520"/>
                  <a:pt x="12769" y="2089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cc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704D9-E13C-4CC5-8BD8-394514A0EE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E7DE-3092-46E6-900F-56DB36A941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8989-26E3-4110-A401-A1DAE49475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EA47-76E9-4780-89DF-DDAAD4D27A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0391-C62E-4E2E-9CA3-8DD2508C55B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D161-77FC-4C8E-8D83-B9A04C9891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264,5,&#8212;&#8212;&#20102;&#35299;&#21592;&#24037;&#20351;&#29992;&#30005;&#33041;&#26102;&#27491;&#22312;&#20570;&#20160;&#20040;&#12290;" TargetMode="External"/><Relationship Id="rId2" Type="http://schemas.openxmlformats.org/officeDocument/2006/relationships/hyperlink" Target="265,6,&#8212;&#8212;&#20102;&#35299;&#21592;&#24037;&#20570;&#36807;&#20160;&#20040;&#65292;&#20197;&#20415;&#32771;&#23519;&#12290;" TargetMode="External"/><Relationship Id="rId3" Type="http://schemas.openxmlformats.org/officeDocument/2006/relationships/hyperlink" Target="266,7,&#8212;&#8212;&#35753;&#21592;&#24037;&#19978;&#29677;&#26102;&#38388;&#21482;&#33021;&#20570;&#19982;&#24037;&#20316;&#30456;&#20851;&#30340;&#20107;&#24773;&#65292;&#25552;&#39640;&#24037;&#20316;&#25928;&#29575;&#12290;" TargetMode="External"/><Relationship Id="rId4" Type="http://schemas.openxmlformats.org/officeDocument/2006/relationships/hyperlink" Target="274,8,&#31995;&#32479;&#21629;&#20196;&#65306;&#x0d;&#36828;&#31243;&#23545;&#21592;&#24037;&#31471;&#36827;&#34892;&#20851;&#26426;&#12289;&#37325;&#21551;&#12289;&#27880;&#38144;&#31561;&#25805;&#20316;&#65307;&#21521;&#36873;&#20013;&#21592;&#24037;&#31471;&#21457;&#36865;&#24191;&#25773;&#28040;&#24687;&#12290;" TargetMode="External"/><Relationship Id="rId5" Type="http://schemas.openxmlformats.org/officeDocument/2006/relationships/hyperlink" Target="275,9,&#33258;&#23450;&#20041;&#25253;&#35686;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超  级  眼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副标题 5122" descr=""/>
          <p:cNvPicPr/>
          <p:nvPr/>
        </p:nvPicPr>
        <p:blipFill>
          <a:blip r:embed="rId1"/>
          <a:stretch/>
        </p:blipFill>
        <p:spPr>
          <a:xfrm>
            <a:off x="1371600" y="3809880"/>
            <a:ext cx="647856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77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产品优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流程图: 可选过程 5"/>
          <p:cNvSpPr/>
          <p:nvPr/>
        </p:nvSpPr>
        <p:spPr>
          <a:xfrm rot="5400000">
            <a:off x="4909320" y="1111680"/>
            <a:ext cx="3823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2"/>
          <p:cNvSpPr/>
          <p:nvPr/>
        </p:nvSpPr>
        <p:spPr>
          <a:xfrm>
            <a:off x="470304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产品优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3" name="组合 7"/>
          <p:cNvGrpSpPr/>
          <p:nvPr/>
        </p:nvGrpSpPr>
        <p:grpSpPr>
          <a:xfrm>
            <a:off x="3124080" y="2133720"/>
            <a:ext cx="3834000" cy="228600"/>
            <a:chOff x="3124080" y="2133720"/>
            <a:chExt cx="3834000" cy="228600"/>
          </a:xfrm>
        </p:grpSpPr>
        <p:sp>
          <p:nvSpPr>
            <p:cNvPr id="674" name="左中括号 6"/>
            <p:cNvSpPr/>
            <p:nvPr/>
          </p:nvSpPr>
          <p:spPr>
            <a:xfrm rot="5400000">
              <a:off x="5002920" y="406800"/>
              <a:ext cx="76320" cy="383400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4320 h 3834000"/>
                <a:gd name="textAreaBottom" fmla="*/ 3829680 h 383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4"/>
            <p:cNvSpPr/>
            <p:nvPr/>
          </p:nvSpPr>
          <p:spPr>
            <a:xfrm>
              <a:off x="5060520" y="21337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3"/>
            <p:cNvSpPr/>
            <p:nvPr/>
          </p:nvSpPr>
          <p:spPr>
            <a:xfrm>
              <a:off x="56008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4"/>
            <p:cNvSpPr/>
            <p:nvPr/>
          </p:nvSpPr>
          <p:spPr>
            <a:xfrm>
              <a:off x="4200480" y="228600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8" name="文本框 8"/>
          <p:cNvSpPr/>
          <p:nvPr/>
        </p:nvSpPr>
        <p:spPr>
          <a:xfrm>
            <a:off x="2746080" y="2476440"/>
            <a:ext cx="6066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隐蔽性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被控端毫无察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9"/>
          <p:cNvSpPr/>
          <p:nvPr/>
        </p:nvSpPr>
        <p:spPr>
          <a:xfrm>
            <a:off x="3828960" y="2514600"/>
            <a:ext cx="60660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功能全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安全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10"/>
          <p:cNvSpPr/>
          <p:nvPr/>
        </p:nvSpPr>
        <p:spPr>
          <a:xfrm>
            <a:off x="5337000" y="2514600"/>
            <a:ext cx="60660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支持多种电脑系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要求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文本框 11"/>
          <p:cNvSpPr/>
          <p:nvPr/>
        </p:nvSpPr>
        <p:spPr>
          <a:xfrm>
            <a:off x="6632280" y="2562120"/>
            <a:ext cx="6066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耐心的售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贴心的售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12"/>
          <p:cNvSpPr/>
          <p:nvPr/>
        </p:nvSpPr>
        <p:spPr>
          <a:xfrm>
            <a:off x="4343400" y="685800"/>
            <a:ext cx="410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为什么选择超级眼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右弧形箭头 1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应用范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我们能用吗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2"/>
          <p:cNvSpPr/>
          <p:nvPr/>
        </p:nvSpPr>
        <p:spPr>
          <a:xfrm>
            <a:off x="4191120" y="3124080"/>
            <a:ext cx="1450800" cy="11210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3"/>
          <p:cNvSpPr/>
          <p:nvPr/>
        </p:nvSpPr>
        <p:spPr>
          <a:xfrm>
            <a:off x="4343400" y="3505320"/>
            <a:ext cx="11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Arial"/>
                <a:ea typeface="宋体"/>
              </a:rPr>
              <a:t>超级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11"/>
          <p:cNvSpPr/>
          <p:nvPr/>
        </p:nvSpPr>
        <p:spPr>
          <a:xfrm>
            <a:off x="1981080" y="22860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12"/>
          <p:cNvSpPr/>
          <p:nvPr/>
        </p:nvSpPr>
        <p:spPr>
          <a:xfrm>
            <a:off x="4191120" y="91440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私营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13"/>
          <p:cNvSpPr/>
          <p:nvPr/>
        </p:nvSpPr>
        <p:spPr>
          <a:xfrm>
            <a:off x="6553080" y="243828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14"/>
          <p:cNvSpPr/>
          <p:nvPr/>
        </p:nvSpPr>
        <p:spPr>
          <a:xfrm>
            <a:off x="5943600" y="4800600"/>
            <a:ext cx="131616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15"/>
          <p:cNvSpPr/>
          <p:nvPr/>
        </p:nvSpPr>
        <p:spPr>
          <a:xfrm>
            <a:off x="2590920" y="4724280"/>
            <a:ext cx="1315800" cy="1316160"/>
          </a:xfrm>
          <a:prstGeom prst="ellipse">
            <a:avLst/>
          </a:prstGeom>
          <a:solidFill>
            <a:srgbClr val="cecee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政府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行政单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右箭头 16"/>
          <p:cNvSpPr/>
          <p:nvPr/>
        </p:nvSpPr>
        <p:spPr>
          <a:xfrm rot="7880400">
            <a:off x="3891240" y="452340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右箭头 17"/>
          <p:cNvSpPr/>
          <p:nvPr/>
        </p:nvSpPr>
        <p:spPr>
          <a:xfrm rot="11703600">
            <a:off x="3399840" y="3101400"/>
            <a:ext cx="471240" cy="43308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右箭头 18"/>
          <p:cNvSpPr/>
          <p:nvPr/>
        </p:nvSpPr>
        <p:spPr>
          <a:xfrm rot="16200000">
            <a:off x="4705920" y="2379960"/>
            <a:ext cx="468360" cy="432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右箭头 19"/>
          <p:cNvSpPr/>
          <p:nvPr/>
        </p:nvSpPr>
        <p:spPr>
          <a:xfrm rot="20425800">
            <a:off x="6001920" y="3114360"/>
            <a:ext cx="471600" cy="43164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右箭头 20"/>
          <p:cNvSpPr/>
          <p:nvPr/>
        </p:nvSpPr>
        <p:spPr>
          <a:xfrm rot="2928600">
            <a:off x="5645160" y="4522680"/>
            <a:ext cx="471600" cy="4334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092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矩形 12"/>
          <p:cNvSpPr/>
          <p:nvPr/>
        </p:nvSpPr>
        <p:spPr>
          <a:xfrm>
            <a:off x="6950160" y="281952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台资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外资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矩形 13"/>
          <p:cNvSpPr/>
          <p:nvPr/>
        </p:nvSpPr>
        <p:spPr>
          <a:xfrm>
            <a:off x="6317640" y="5181480"/>
            <a:ext cx="60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学校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教育机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14"/>
          <p:cNvSpPr/>
          <p:nvPr/>
        </p:nvSpPr>
        <p:spPr>
          <a:xfrm>
            <a:off x="2279160" y="2743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国有企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椭圆 4"/>
          <p:cNvSpPr/>
          <p:nvPr/>
        </p:nvSpPr>
        <p:spPr>
          <a:xfrm>
            <a:off x="4724280" y="5334120"/>
            <a:ext cx="658800" cy="609480"/>
          </a:xfrm>
          <a:prstGeom prst="ellipse">
            <a:avLst/>
          </a:prstGeom>
          <a:solidFill>
            <a:srgbClr val="ceceef"/>
          </a:solidFill>
          <a:ln w="1260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椭圆 6"/>
          <p:cNvSpPr/>
          <p:nvPr/>
        </p:nvSpPr>
        <p:spPr>
          <a:xfrm>
            <a:off x="4952880" y="4495680"/>
            <a:ext cx="76320" cy="7632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椭圆 7"/>
          <p:cNvSpPr/>
          <p:nvPr/>
        </p:nvSpPr>
        <p:spPr>
          <a:xfrm>
            <a:off x="4952880" y="4952880"/>
            <a:ext cx="152640" cy="152640"/>
          </a:xfrm>
          <a:prstGeom prst="ellipse">
            <a:avLst/>
          </a:prstGeom>
          <a:solidFill>
            <a:srgbClr val="ceceef"/>
          </a:solidFill>
          <a:ln w="25560">
            <a:solidFill>
              <a:srgbClr val="cecee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74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文本框 2"/>
          <p:cNvSpPr/>
          <p:nvPr/>
        </p:nvSpPr>
        <p:spPr>
          <a:xfrm>
            <a:off x="4952880" y="685800"/>
            <a:ext cx="392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文本框 3"/>
          <p:cNvSpPr/>
          <p:nvPr/>
        </p:nvSpPr>
        <p:spPr>
          <a:xfrm>
            <a:off x="2209680" y="1981080"/>
            <a:ext cx="28130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宜兴市国税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扬州联通线缆电器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金华鼎鑫汽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如皋市金陵化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泰山玻璃纤维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建设雅马哈摩托车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中研信息咨询管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沈阳索华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廊坊菊龙五金磨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赛象科技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三方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豪州万福房地产经营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省清远灵龙房地产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博宇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金三航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永康般若进出口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文本框 4"/>
          <p:cNvSpPr/>
          <p:nvPr/>
        </p:nvSpPr>
        <p:spPr>
          <a:xfrm>
            <a:off x="5715000" y="2057400"/>
            <a:ext cx="299232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正力佳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海顺商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吉力芸峰实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省大宏电子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今天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安市速达计算机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烟台市质量技术监督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科瑞石油装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方根数码微控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央储备粮济南直属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鼎成信息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徐州市铜山供电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市高明福家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威海光威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中软安人网络通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28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文本框 2"/>
          <p:cNvSpPr/>
          <p:nvPr/>
        </p:nvSpPr>
        <p:spPr>
          <a:xfrm>
            <a:off x="5105520" y="762120"/>
            <a:ext cx="348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文本框 4"/>
          <p:cNvSpPr/>
          <p:nvPr/>
        </p:nvSpPr>
        <p:spPr>
          <a:xfrm>
            <a:off x="2057400" y="2286000"/>
            <a:ext cx="304812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永强永强岩土工程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铭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华北制药集团动物保健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赢政工艺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海安县精诚电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长丰热电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中国航空信息中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锐众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亚通集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江苏东光微电子股份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余姚舜政电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市通告高压泵制造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银兆网络科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同盛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文本框 5"/>
          <p:cNvSpPr/>
          <p:nvPr/>
        </p:nvSpPr>
        <p:spPr>
          <a:xfrm>
            <a:off x="5257800" y="2286000"/>
            <a:ext cx="33498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金信知识产权代理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佳易计算机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科同向科技（北京）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海曙中启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重庆赢山倍科贸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常州武进亚星卫生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恒策投资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中国科技大学产学研基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福建泉州市通典文化传播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嘉兴市伊清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易材数码图文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大连威兰德国际物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天津天讯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六度设计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华力电脑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成功客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文本框 2"/>
          <p:cNvSpPr/>
          <p:nvPr/>
        </p:nvSpPr>
        <p:spPr>
          <a:xfrm>
            <a:off x="5181480" y="685800"/>
            <a:ext cx="33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选择超级眼 选择成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文本框 4"/>
          <p:cNvSpPr/>
          <p:nvPr/>
        </p:nvSpPr>
        <p:spPr>
          <a:xfrm>
            <a:off x="2133720" y="2057400"/>
            <a:ext cx="331128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深圳市深辉酒店用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航泰电子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辽宁省锦州市中信网络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成都双禾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山东省淄博市中关村科技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东中山市雅思家具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石家庄海星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中山环威实业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珠海中润靖杰打印机耗材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绥化市泰伦英语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哈尔滨市奇凯信息咨询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黑龙江广名会计师事务所有限责任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佛山德龙企业管理咨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河北林南仓中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延邑制模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文本框 5"/>
          <p:cNvSpPr/>
          <p:nvPr/>
        </p:nvSpPr>
        <p:spPr>
          <a:xfrm>
            <a:off x="5638680" y="2057400"/>
            <a:ext cx="30402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广州市花都易大机械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省蓝天航空经济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杭州博斯软件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浙江南方竹木制品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北京市普庆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市康伟实业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泉州市迪光科技发展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四川警察学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东莞市三屯钜熙鞋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宁波力德国际贸易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长春大成生化饲料开发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市海诺曼奥信息科技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温州天翔网络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抚顺中宇建设（集团）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Times New Roman"/>
                <a:ea typeface="宋体"/>
              </a:rPr>
              <a:t>上海展盈计算机科技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文本框 6"/>
          <p:cNvSpPr/>
          <p:nvPr/>
        </p:nvSpPr>
        <p:spPr>
          <a:xfrm>
            <a:off x="1600200" y="6095880"/>
            <a:ext cx="686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提示：以上是一部分应用成功的客户，如不想再公开，请联系客服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66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关于我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文本框 2"/>
          <p:cNvSpPr/>
          <p:nvPr/>
        </p:nvSpPr>
        <p:spPr>
          <a:xfrm>
            <a:off x="4876920" y="762120"/>
            <a:ext cx="35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99"/>
          <p:cNvSpPr/>
          <p:nvPr/>
        </p:nvSpPr>
        <p:spPr>
          <a:xfrm>
            <a:off x="1905120" y="1371600"/>
            <a:ext cx="6352920" cy="39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1" sz="1200" spc="-1" strike="noStrike">
                <a:solidFill>
                  <a:srgbClr val="7f7f7f"/>
                </a:solidFill>
                <a:latin typeface="宋体"/>
              </a:rPr>
              <a:t>深圳市超时代软件有限公司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成立于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2005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年，总部设于深圳，专业从事数据安全监控产品的研发和销售，致力于为个人用户与单位企业提供全面的数据安全保护方案。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级眼监控软件是超时代软件公司旗下的主要产品，公司主站为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www.360drm.com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是国内较早从事加密安全领域研究的机构之一，拥有全面的信息防泄密产品线和解决方案，为客户提供安全、稳定、可靠的产品和服务。凭借核心研发团队多年的行业积累，超时代软件已申请多项技术发明专利，并拥有全部自主知识产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目前有多款企业级应用软件： 共享文件夹加密专家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U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盘防拷贝系统、超级眼监控软件（分内网版和外网版）、视频加密器和文档透明加密系统等。 公司将始终专注于提高企业员工工作效率方面的新产品研发和推广，坚持不懈地贯彻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精品战略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思想，带给客户更多的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新产品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"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  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超时代软件专注于信息安全领域，坚持高品质、高科技、高效率的原则，先后取得软件企业、高新企业等证书，产品通过了信息安全测试部门测评，取得了著作权和产品登记证书。一直以来，超时代软件不懈努力，竭诚为企业信息化管理建设奉献出一份力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1400" spc="-1" strike="noStrike">
                <a:solidFill>
                  <a:srgbClr val="000000"/>
                </a:solidFill>
                <a:latin typeface="宋体"/>
              </a:rPr>
              <a:t>联系方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全国统一服务热线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4000-186-3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工作时间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 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一至周五 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(9:00 - 18: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公司地址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: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广东省深圳市南山区科技文化广场华富洋大厦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4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楼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A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如果需要技术支持，请直接联系我们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，客服</a:t>
            </a:r>
            <a:r>
              <a:rPr b="0" sz="1200" spc="-1" strike="noStrike">
                <a:solidFill>
                  <a:srgbClr val="7f7f7f"/>
                </a:solidFill>
                <a:latin typeface="宋体"/>
                <a:ea typeface="Calibri"/>
              </a:rPr>
              <a:t>QQ</a:t>
            </a:r>
            <a:r>
              <a:rPr b="0" sz="1200" spc="-1" strike="noStrike">
                <a:solidFill>
                  <a:srgbClr val="7f7f7f"/>
                </a:solidFill>
                <a:latin typeface="宋体"/>
              </a:rPr>
              <a:t>周末通常也保持在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文本框 4"/>
          <p:cNvSpPr/>
          <p:nvPr/>
        </p:nvSpPr>
        <p:spPr>
          <a:xfrm>
            <a:off x="2057400" y="1447920"/>
            <a:ext cx="13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公司简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矩形 8193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gradFill rotWithShape="0">
            <a:gsLst>
              <a:gs pos="0">
                <a:srgbClr val="ffdeab"/>
              </a:gs>
              <a:gs pos="100000">
                <a:srgbClr val="ff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文本框 8194"/>
          <p:cNvSpPr/>
          <p:nvPr/>
        </p:nvSpPr>
        <p:spPr>
          <a:xfrm>
            <a:off x="2666880" y="190512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5f5f5f"/>
                </a:solidFill>
                <a:latin typeface="Arial"/>
                <a:ea typeface="微软雅黑"/>
              </a:rPr>
              <a:t>谢谢</a:t>
            </a:r>
            <a:r>
              <a:rPr b="1" i="1" lang="zh-CN" sz="6000" spc="-1" strike="noStrike">
                <a:solidFill>
                  <a:srgbClr val="ffdeab"/>
                </a:solidFill>
                <a:latin typeface="Arial"/>
                <a:ea typeface="微软雅黑"/>
              </a:rPr>
              <a:t>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Box 5"/>
          <p:cNvSpPr/>
          <p:nvPr/>
        </p:nvSpPr>
        <p:spPr>
          <a:xfrm>
            <a:off x="324000" y="4437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超级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6"/>
          <p:cNvSpPr/>
          <p:nvPr/>
        </p:nvSpPr>
        <p:spPr>
          <a:xfrm>
            <a:off x="248040" y="52578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stral"/>
                <a:ea typeface="宋体"/>
              </a:rPr>
              <a:t>Super e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6019920" y="609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超时代软件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MH_Others_1"/>
          <p:cNvSpPr/>
          <p:nvPr/>
        </p:nvSpPr>
        <p:spPr>
          <a:xfrm>
            <a:off x="3597120" y="1297080"/>
            <a:ext cx="0" cy="4492440"/>
          </a:xfrm>
          <a:prstGeom prst="line">
            <a:avLst/>
          </a:prstGeom>
          <a:ln w="25560">
            <a:solidFill>
              <a:srgbClr val="e4f3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MH_Entry_1"/>
          <p:cNvSpPr/>
          <p:nvPr/>
        </p:nvSpPr>
        <p:spPr>
          <a:xfrm>
            <a:off x="3794040" y="162864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软件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MH_Number_2"/>
          <p:cNvSpPr/>
          <p:nvPr/>
        </p:nvSpPr>
        <p:spPr>
          <a:xfrm>
            <a:off x="3398760" y="29192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MH_Others_2"/>
          <p:cNvSpPr/>
          <p:nvPr/>
        </p:nvSpPr>
        <p:spPr>
          <a:xfrm>
            <a:off x="754200" y="28083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bbe0e3"/>
                </a:solidFill>
                <a:latin typeface="华文中宋"/>
                <a:ea typeface="华文中宋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H_Others_3"/>
          <p:cNvSpPr/>
          <p:nvPr/>
        </p:nvSpPr>
        <p:spPr>
          <a:xfrm>
            <a:off x="754200" y="3332160"/>
            <a:ext cx="17650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华文细黑"/>
                <a:ea typeface="华文细黑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MH_Number_2"/>
          <p:cNvSpPr/>
          <p:nvPr/>
        </p:nvSpPr>
        <p:spPr>
          <a:xfrm>
            <a:off x="3398760" y="165564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MH_Number_2"/>
          <p:cNvSpPr/>
          <p:nvPr/>
        </p:nvSpPr>
        <p:spPr>
          <a:xfrm>
            <a:off x="3398760" y="23036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MH_Number_2"/>
          <p:cNvSpPr/>
          <p:nvPr/>
        </p:nvSpPr>
        <p:spPr>
          <a:xfrm>
            <a:off x="3398760" y="356724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MH_Number_2"/>
          <p:cNvSpPr/>
          <p:nvPr/>
        </p:nvSpPr>
        <p:spPr>
          <a:xfrm>
            <a:off x="3398760" y="4222800"/>
            <a:ext cx="397080" cy="46044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MH_Number_2"/>
          <p:cNvSpPr/>
          <p:nvPr/>
        </p:nvSpPr>
        <p:spPr>
          <a:xfrm>
            <a:off x="3398760" y="4876920"/>
            <a:ext cx="397080" cy="460080"/>
          </a:xfrm>
          <a:prstGeom prst="pi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MH_Entry_1"/>
          <p:cNvSpPr/>
          <p:nvPr/>
        </p:nvSpPr>
        <p:spPr>
          <a:xfrm>
            <a:off x="3794040" y="22953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功能简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MH_Entry_1"/>
          <p:cNvSpPr/>
          <p:nvPr/>
        </p:nvSpPr>
        <p:spPr>
          <a:xfrm>
            <a:off x="3798720" y="2892600"/>
            <a:ext cx="39960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产品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MH_Entry_1"/>
          <p:cNvSpPr/>
          <p:nvPr/>
        </p:nvSpPr>
        <p:spPr>
          <a:xfrm>
            <a:off x="3814920" y="3559320"/>
            <a:ext cx="399564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用范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MH_Entry_1"/>
          <p:cNvSpPr/>
          <p:nvPr/>
        </p:nvSpPr>
        <p:spPr>
          <a:xfrm>
            <a:off x="3814920" y="4183200"/>
            <a:ext cx="39956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客户案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MH_Entry_1"/>
          <p:cNvSpPr/>
          <p:nvPr/>
        </p:nvSpPr>
        <p:spPr>
          <a:xfrm>
            <a:off x="3809880" y="4836960"/>
            <a:ext cx="3996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关于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标题 7169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51920" cy="1143000"/>
          </a:xfrm>
          <a:prstGeom prst="rect">
            <a:avLst/>
          </a:prstGeom>
          <a:ln w="0">
            <a:noFill/>
          </a:ln>
        </p:spPr>
      </p:pic>
      <p:pic>
        <p:nvPicPr>
          <p:cNvPr id="595" name="图片 2" descr="图片1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581280" y="2133720"/>
            <a:ext cx="5457960" cy="4092480"/>
          </a:xfrm>
          <a:prstGeom prst="rect">
            <a:avLst/>
          </a:prstGeom>
          <a:ln w="0">
            <a:noFill/>
          </a:ln>
        </p:spPr>
      </p:pic>
      <p:sp>
        <p:nvSpPr>
          <p:cNvPr id="596" name="文本框 5"/>
          <p:cNvSpPr/>
          <p:nvPr/>
        </p:nvSpPr>
        <p:spPr>
          <a:xfrm>
            <a:off x="2209680" y="2362320"/>
            <a:ext cx="36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超级眼 计算机管理系统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是超时代软件自主研发的，对计算机操作行为进行全面监控和管理的一款软件，可监控计算机所有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网址：</a:t>
            </a:r>
            <a:r>
              <a:rPr b="0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www.360mon.c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右弧形箭头 3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905120" y="1676160"/>
            <a:ext cx="2982960" cy="21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一、实时监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二、历史监控记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三、限制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四、远程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五、实时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标注 15"/>
          <p:cNvSpPr/>
          <p:nvPr/>
        </p:nvSpPr>
        <p:spPr>
          <a:xfrm rot="10800000">
            <a:off x="5105160" y="1904400"/>
            <a:ext cx="3429000" cy="2857320"/>
          </a:xfrm>
          <a:prstGeom prst="wedgeRect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文本框 14"/>
          <p:cNvSpPr/>
          <p:nvPr/>
        </p:nvSpPr>
        <p:spPr>
          <a:xfrm>
            <a:off x="5257800" y="2438280"/>
            <a:ext cx="312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超级眼软件分为内网版、外网版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内网版是局域网内部监控，外网版是异地远程监控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Arial"/>
                <a:ea typeface="宋体"/>
              </a:rPr>
              <a:t>除此差异之外，二者功能完全相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右弧形箭头 4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3605040" cy="1143000"/>
          </a:xfrm>
          <a:prstGeom prst="rect">
            <a:avLst/>
          </a:prstGeom>
          <a:ln w="0">
            <a:noFill/>
          </a:ln>
        </p:spPr>
      </p:pic>
      <p:sp>
        <p:nvSpPr>
          <p:cNvPr id="604" name="流程图: 可选过程 4"/>
          <p:cNvSpPr/>
          <p:nvPr/>
        </p:nvSpPr>
        <p:spPr>
          <a:xfrm>
            <a:off x="2135160" y="2754360"/>
            <a:ext cx="38268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文本框 5"/>
          <p:cNvSpPr/>
          <p:nvPr/>
        </p:nvSpPr>
        <p:spPr>
          <a:xfrm>
            <a:off x="2094480" y="277164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实时监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左中括号 7"/>
          <p:cNvSpPr/>
          <p:nvPr/>
        </p:nvSpPr>
        <p:spPr>
          <a:xfrm>
            <a:off x="2819520" y="2085840"/>
            <a:ext cx="139680" cy="3108600"/>
          </a:xfrm>
          <a:custGeom>
            <a:avLst/>
            <a:gdLst>
              <a:gd name="textAreaLeft" fmla="*/ 41040 w 139680"/>
              <a:gd name="textAreaRight" fmla="*/ 140040 w 139680"/>
              <a:gd name="textAreaTop" fmla="*/ 5400 h 3108600"/>
              <a:gd name="textAreaBottom" fmla="*/ 31032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40"/>
                  <a:pt x="0" y="80"/>
                </a:cubicBezTo>
                <a:lnTo>
                  <a:pt x="0" y="21520"/>
                </a:lnTo>
                <a:cubicBezTo>
                  <a:pt x="0" y="2156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9"/>
          <p:cNvSpPr/>
          <p:nvPr/>
        </p:nvSpPr>
        <p:spPr>
          <a:xfrm>
            <a:off x="3200400" y="1905120"/>
            <a:ext cx="50324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①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实时远程桌面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宋体"/>
                <a:ea typeface="宋体"/>
              </a:rPr>
              <a:t>管理者及时了解所有员工动向，可通过实时桌面监控，或者多画面桌面监控可以了解员工当前的电脑桌面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10"/>
          <p:cNvSpPr/>
          <p:nvPr/>
        </p:nvSpPr>
        <p:spPr>
          <a:xfrm>
            <a:off x="3200400" y="3429000"/>
            <a:ext cx="510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②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远程摄像头监控</a:t>
            </a:r>
            <a:r>
              <a:rPr b="1" lang="zh-CN" sz="1800" spc="-1" strike="noStrike">
                <a:solidFill>
                  <a:srgbClr val="7f7f7f"/>
                </a:solidFill>
                <a:latin typeface="Arial"/>
                <a:ea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实时查看被监控计算机摄像头的画面，可多画面实时监控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11"/>
          <p:cNvSpPr/>
          <p:nvPr/>
        </p:nvSpPr>
        <p:spPr>
          <a:xfrm>
            <a:off x="3200400" y="4952880"/>
            <a:ext cx="25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③</a:t>
            </a: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实时流量监控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文本框 2"/>
          <p:cNvSpPr/>
          <p:nvPr/>
        </p:nvSpPr>
        <p:spPr>
          <a:xfrm>
            <a:off x="3124080" y="5257800"/>
            <a:ext cx="523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员工计算机的流量进行实时监控，及时发现流量的异常情况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12"/>
          <p:cNvSpPr/>
          <p:nvPr/>
        </p:nvSpPr>
        <p:spPr>
          <a:xfrm>
            <a:off x="27432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文本框 2"/>
          <p:cNvSpPr/>
          <p:nvPr/>
        </p:nvSpPr>
        <p:spPr>
          <a:xfrm>
            <a:off x="4267080" y="685800"/>
            <a:ext cx="461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了解员工使用电脑时正在做什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右弧形箭头 5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历史记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流程图: 可选过程 4"/>
          <p:cNvSpPr/>
          <p:nvPr/>
        </p:nvSpPr>
        <p:spPr>
          <a:xfrm>
            <a:off x="1946160" y="2773440"/>
            <a:ext cx="384120" cy="18921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文本框 5"/>
          <p:cNvSpPr/>
          <p:nvPr/>
        </p:nvSpPr>
        <p:spPr>
          <a:xfrm>
            <a:off x="1913400" y="2640960"/>
            <a:ext cx="485280" cy="21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历史监控记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左中括号 6"/>
          <p:cNvSpPr/>
          <p:nvPr/>
        </p:nvSpPr>
        <p:spPr>
          <a:xfrm>
            <a:off x="2514600" y="1676520"/>
            <a:ext cx="76320" cy="449568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4495680"/>
              <a:gd name="textAreaBottom" fmla="*/ 4492800 h 449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5"/>
                  <a:pt x="0" y="30"/>
                </a:cubicBezTo>
                <a:lnTo>
                  <a:pt x="0" y="21570"/>
                </a:lnTo>
                <a:cubicBezTo>
                  <a:pt x="0" y="21585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直接连接符 10"/>
          <p:cNvSpPr/>
          <p:nvPr/>
        </p:nvSpPr>
        <p:spPr>
          <a:xfrm>
            <a:off x="2514600" y="16765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直接连接符 11"/>
          <p:cNvSpPr/>
          <p:nvPr/>
        </p:nvSpPr>
        <p:spPr>
          <a:xfrm>
            <a:off x="2514600" y="61722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直接连接符 12"/>
          <p:cNvSpPr/>
          <p:nvPr/>
        </p:nvSpPr>
        <p:spPr>
          <a:xfrm>
            <a:off x="2516040" y="342900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直接连接符 13"/>
          <p:cNvSpPr/>
          <p:nvPr/>
        </p:nvSpPr>
        <p:spPr>
          <a:xfrm>
            <a:off x="2516040" y="22096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直接连接符 14"/>
          <p:cNvSpPr/>
          <p:nvPr/>
        </p:nvSpPr>
        <p:spPr>
          <a:xfrm>
            <a:off x="2516040" y="281952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直接连接符 15"/>
          <p:cNvSpPr/>
          <p:nvPr/>
        </p:nvSpPr>
        <p:spPr>
          <a:xfrm>
            <a:off x="2514600" y="41911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直接连接符 16"/>
          <p:cNvSpPr/>
          <p:nvPr/>
        </p:nvSpPr>
        <p:spPr>
          <a:xfrm>
            <a:off x="2516040" y="4724280"/>
            <a:ext cx="400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直接连接符 17"/>
          <p:cNvSpPr/>
          <p:nvPr/>
        </p:nvSpPr>
        <p:spPr>
          <a:xfrm>
            <a:off x="2514600" y="54100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文本框 18"/>
          <p:cNvSpPr/>
          <p:nvPr/>
        </p:nvSpPr>
        <p:spPr>
          <a:xfrm>
            <a:off x="2819520" y="1523880"/>
            <a:ext cx="5478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①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聊天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可以查看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QQ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、旺旺、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SKYPE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等常用聊天软件的聊天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文本框 19"/>
          <p:cNvSpPr/>
          <p:nvPr/>
        </p:nvSpPr>
        <p:spPr>
          <a:xfrm>
            <a:off x="2820960" y="2057400"/>
            <a:ext cx="53578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②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程序运行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用户电脑上软件的使用时间，包括启动与结束时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文本框 21"/>
          <p:cNvSpPr/>
          <p:nvPr/>
        </p:nvSpPr>
        <p:spPr>
          <a:xfrm>
            <a:off x="2820960" y="2666880"/>
            <a:ext cx="5415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③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屏幕监控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对员工计算机屏幕画面进行记录，再现员工之前在计算机上的一举一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22"/>
          <p:cNvSpPr/>
          <p:nvPr/>
        </p:nvSpPr>
        <p:spPr>
          <a:xfrm>
            <a:off x="2820960" y="3276720"/>
            <a:ext cx="5446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④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网址访问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详细记录各种浏览器的网页访问记录，自动记下网页的标题，网址以及访问   时间，方便管理者考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23"/>
          <p:cNvSpPr/>
          <p:nvPr/>
        </p:nvSpPr>
        <p:spPr>
          <a:xfrm>
            <a:off x="2820960" y="4038480"/>
            <a:ext cx="54435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⑤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文件操作记录</a:t>
            </a: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被控端所有的文件操作，包括创建，删除或复制文件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24"/>
          <p:cNvSpPr/>
          <p:nvPr/>
        </p:nvSpPr>
        <p:spPr>
          <a:xfrm>
            <a:off x="2820960" y="4572000"/>
            <a:ext cx="54720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⑥ </a:t>
            </a:r>
            <a:r>
              <a:rPr b="1" lang="en-US" sz="1400" spc="-1" strike="noStrike">
                <a:solidFill>
                  <a:srgbClr val="262626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262626"/>
                </a:solidFill>
                <a:latin typeface="宋体"/>
              </a:rPr>
              <a:t>盘使用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清晰记录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盘和光盘的使用记录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25"/>
          <p:cNvSpPr/>
          <p:nvPr/>
        </p:nvSpPr>
        <p:spPr>
          <a:xfrm>
            <a:off x="2819520" y="5280120"/>
            <a:ext cx="5510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⑦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邮件收发记录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      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记录员工计算机所有收发的邮件，记录包括收发时间、收件人、发件人、标题和内容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26"/>
          <p:cNvSpPr/>
          <p:nvPr/>
        </p:nvSpPr>
        <p:spPr>
          <a:xfrm>
            <a:off x="2819520" y="6006960"/>
            <a:ext cx="545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⑧ </a:t>
            </a: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其他：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</a:rPr>
              <a:t>开关机记录、键盘记录、剪贴板记录、报警记录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文本框 2"/>
          <p:cNvSpPr/>
          <p:nvPr/>
        </p:nvSpPr>
        <p:spPr>
          <a:xfrm>
            <a:off x="4343400" y="685800"/>
            <a:ext cx="45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了解员工做过什么，以便考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右弧形箭头 8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822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限制功能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流程图: 可选过程 5"/>
          <p:cNvSpPr/>
          <p:nvPr/>
        </p:nvSpPr>
        <p:spPr>
          <a:xfrm>
            <a:off x="1817640" y="3071880"/>
            <a:ext cx="384120" cy="151128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文本框 6"/>
          <p:cNvSpPr/>
          <p:nvPr/>
        </p:nvSpPr>
        <p:spPr>
          <a:xfrm>
            <a:off x="1767240" y="3057480"/>
            <a:ext cx="48528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限制功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左中括号 8"/>
          <p:cNvSpPr/>
          <p:nvPr/>
        </p:nvSpPr>
        <p:spPr>
          <a:xfrm>
            <a:off x="2286000" y="2209680"/>
            <a:ext cx="76320" cy="3581640"/>
          </a:xfrm>
          <a:custGeom>
            <a:avLst/>
            <a:gdLst>
              <a:gd name="textAreaLeft" fmla="*/ 22320 w 76320"/>
              <a:gd name="textAreaRight" fmla="*/ 76320 w 76320"/>
              <a:gd name="textAreaTop" fmla="*/ 2880 h 3581640"/>
              <a:gd name="textAreaBottom" fmla="*/ 357876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9"/>
                  <a:pt x="0" y="38"/>
                </a:cubicBezTo>
                <a:lnTo>
                  <a:pt x="0" y="21562"/>
                </a:lnTo>
                <a:cubicBezTo>
                  <a:pt x="0" y="21581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2"/>
          <p:cNvSpPr/>
          <p:nvPr/>
        </p:nvSpPr>
        <p:spPr>
          <a:xfrm>
            <a:off x="2514600" y="2133720"/>
            <a:ext cx="336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软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3"/>
          <p:cNvSpPr/>
          <p:nvPr/>
        </p:nvSpPr>
        <p:spPr>
          <a:xfrm>
            <a:off x="2517840" y="4929120"/>
            <a:ext cx="23619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硬件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可对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U</a:t>
            </a: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盘、光驱进行禁用，以避免员工使用与工作无关的计算机设备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6"/>
          <p:cNvSpPr/>
          <p:nvPr/>
        </p:nvSpPr>
        <p:spPr>
          <a:xfrm>
            <a:off x="3124080" y="19177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程序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7"/>
          <p:cNvSpPr/>
          <p:nvPr/>
        </p:nvSpPr>
        <p:spPr>
          <a:xfrm>
            <a:off x="3124080" y="2422440"/>
            <a:ext cx="15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网页访问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文件操作限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图片 -2147482613" descr=""/>
          <p:cNvPicPr/>
          <p:nvPr/>
        </p:nvPicPr>
        <p:blipFill>
          <a:blip r:embed="rId1"/>
          <a:stretch/>
        </p:blipFill>
        <p:spPr>
          <a:xfrm>
            <a:off x="5029200" y="3962520"/>
            <a:ext cx="3645000" cy="2479680"/>
          </a:xfrm>
          <a:prstGeom prst="rect">
            <a:avLst/>
          </a:prstGeom>
          <a:ln w="0">
            <a:noFill/>
          </a:ln>
        </p:spPr>
      </p:pic>
      <p:pic>
        <p:nvPicPr>
          <p:cNvPr id="645" name="图片 -2147482614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641760" cy="2503440"/>
          </a:xfrm>
          <a:prstGeom prst="rect">
            <a:avLst/>
          </a:prstGeom>
          <a:ln w="0">
            <a:noFill/>
          </a:ln>
        </p:spPr>
      </p:pic>
      <p:sp>
        <p:nvSpPr>
          <p:cNvPr id="646" name="文本框 9"/>
          <p:cNvSpPr/>
          <p:nvPr/>
        </p:nvSpPr>
        <p:spPr>
          <a:xfrm>
            <a:off x="4038480" y="76212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让员工上班时间只能做与工作相关的事情，提高工作效率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组合 11"/>
          <p:cNvGrpSpPr/>
          <p:nvPr/>
        </p:nvGrpSpPr>
        <p:grpSpPr>
          <a:xfrm>
            <a:off x="2876400" y="2057400"/>
            <a:ext cx="247680" cy="1136520"/>
            <a:chOff x="2876400" y="2057400"/>
            <a:chExt cx="247680" cy="1136520"/>
          </a:xfrm>
        </p:grpSpPr>
        <p:sp>
          <p:nvSpPr>
            <p:cNvPr id="648" name="左中括号 4"/>
            <p:cNvSpPr/>
            <p:nvPr/>
          </p:nvSpPr>
          <p:spPr>
            <a:xfrm>
              <a:off x="3028680" y="2057400"/>
              <a:ext cx="75960" cy="113652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2880 h 1136520"/>
                <a:gd name="textAreaBottom" fmla="*/ 1133640 h 113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60"/>
                    <a:pt x="0" y="120"/>
                  </a:cubicBezTo>
                  <a:lnTo>
                    <a:pt x="0" y="21480"/>
                  </a:lnTo>
                  <a:cubicBezTo>
                    <a:pt x="0" y="2154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直接连接符 14"/>
            <p:cNvSpPr/>
            <p:nvPr/>
          </p:nvSpPr>
          <p:spPr>
            <a:xfrm>
              <a:off x="2876400" y="25905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3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远程管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流程图: 可选过程 5"/>
          <p:cNvSpPr/>
          <p:nvPr/>
        </p:nvSpPr>
        <p:spPr>
          <a:xfrm>
            <a:off x="2514600" y="2971800"/>
            <a:ext cx="384120" cy="1206360"/>
          </a:xfrm>
          <a:prstGeom prst="flowChartAlternateProcess">
            <a:avLst/>
          </a:pr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3"/>
          <p:cNvSpPr/>
          <p:nvPr/>
        </p:nvSpPr>
        <p:spPr>
          <a:xfrm>
            <a:off x="2170440" y="3048120"/>
            <a:ext cx="7902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远程管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4" name="组合 11"/>
          <p:cNvGrpSpPr/>
          <p:nvPr/>
        </p:nvGrpSpPr>
        <p:grpSpPr>
          <a:xfrm>
            <a:off x="2971800" y="2209680"/>
            <a:ext cx="247680" cy="2714760"/>
            <a:chOff x="2971800" y="2209680"/>
            <a:chExt cx="247680" cy="2714760"/>
          </a:xfrm>
        </p:grpSpPr>
        <p:sp>
          <p:nvSpPr>
            <p:cNvPr id="655" name="左中括号 4"/>
            <p:cNvSpPr/>
            <p:nvPr/>
          </p:nvSpPr>
          <p:spPr>
            <a:xfrm>
              <a:off x="3124080" y="2209680"/>
              <a:ext cx="76320" cy="271476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880 h 2714760"/>
                <a:gd name="textAreaBottom" fmla="*/ 2711880 h 271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5"/>
                    <a:pt x="0" y="50"/>
                  </a:cubicBezTo>
                  <a:lnTo>
                    <a:pt x="0" y="21550"/>
                  </a:lnTo>
                  <a:cubicBezTo>
                    <a:pt x="0" y="21575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直接连接符 14"/>
            <p:cNvSpPr/>
            <p:nvPr/>
          </p:nvSpPr>
          <p:spPr>
            <a:xfrm>
              <a:off x="2971800" y="358092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7" name="文本框 6"/>
          <p:cNvSpPr/>
          <p:nvPr/>
        </p:nvSpPr>
        <p:spPr>
          <a:xfrm>
            <a:off x="3200400" y="2057400"/>
            <a:ext cx="55609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远程文件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超级眼的文件管理功能，不仅可对员工文件进行远程复制、删除、删除、重命名等操作，还可以上传、下载，为批量下载员工端文件到管理端提供便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文本框 7"/>
          <p:cNvSpPr/>
          <p:nvPr/>
        </p:nvSpPr>
        <p:spPr>
          <a:xfrm>
            <a:off x="4419720" y="762120"/>
            <a:ext cx="44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华文中宋"/>
              </a:rPr>
              <a:t>——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轻松远程管理员工的计算机</a:t>
            </a:r>
            <a:r>
              <a:rPr b="0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文本框 8"/>
          <p:cNvSpPr/>
          <p:nvPr/>
        </p:nvSpPr>
        <p:spPr>
          <a:xfrm>
            <a:off x="3276720" y="3352680"/>
            <a:ext cx="53290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进程管理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在进程列表查看员工当前正在运行的进程，并可以结束选中的进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9"/>
          <p:cNvSpPr/>
          <p:nvPr/>
        </p:nvSpPr>
        <p:spPr>
          <a:xfrm>
            <a:off x="3276720" y="4572000"/>
            <a:ext cx="5235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系统命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Arial"/>
                <a:ea typeface="宋体"/>
              </a:rPr>
              <a:t>远程对员工端进行关机、重启、注销等操作；向选中员工端发送广播消息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右弧形箭头 12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-2147482609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5784840" cy="39924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118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功能介绍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7f7f7f"/>
                </a:solidFill>
                <a:latin typeface="Arial"/>
              </a:rPr>
              <a:t>实时报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文本框 2"/>
          <p:cNvSpPr/>
          <p:nvPr/>
        </p:nvSpPr>
        <p:spPr>
          <a:xfrm>
            <a:off x="4343400" y="609480"/>
            <a:ext cx="44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——</a:t>
            </a:r>
            <a:r>
              <a:rPr b="0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全力保护企业利益：对员工的敏感操作实时报警、防泄密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文本框 11"/>
          <p:cNvSpPr/>
          <p:nvPr/>
        </p:nvSpPr>
        <p:spPr>
          <a:xfrm>
            <a:off x="2286000" y="5791320"/>
            <a:ext cx="167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插入</a:t>
            </a:r>
            <a:r>
              <a:rPr b="1" lang="en-US" sz="1400" spc="-1" strike="noStrike">
                <a:solidFill>
                  <a:srgbClr val="7f7f7f"/>
                </a:solidFill>
                <a:latin typeface="宋体"/>
              </a:rPr>
              <a:t>U</a:t>
            </a:r>
            <a:r>
              <a:rPr b="1" lang="zh-CN" sz="1400" spc="-1" strike="noStrike">
                <a:solidFill>
                  <a:srgbClr val="7f7f7f"/>
                </a:solidFill>
                <a:latin typeface="宋体"/>
                <a:ea typeface="宋体"/>
              </a:rPr>
              <a:t>盘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文本框 12"/>
          <p:cNvSpPr/>
          <p:nvPr/>
        </p:nvSpPr>
        <p:spPr>
          <a:xfrm>
            <a:off x="3809880" y="5791320"/>
            <a:ext cx="159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拷贝带走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文本框 13"/>
          <p:cNvSpPr/>
          <p:nvPr/>
        </p:nvSpPr>
        <p:spPr>
          <a:xfrm>
            <a:off x="5181480" y="5791320"/>
            <a:ext cx="202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硬件变动自动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文本框 15"/>
          <p:cNvSpPr/>
          <p:nvPr/>
        </p:nvSpPr>
        <p:spPr>
          <a:xfrm>
            <a:off x="6858000" y="5791320"/>
            <a:ext cx="18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Arial"/>
                <a:ea typeface="宋体"/>
              </a:rPr>
              <a:t>自定义报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右弧形箭头 17"/>
          <p:cNvSpPr/>
          <p:nvPr/>
        </p:nvSpPr>
        <p:spPr>
          <a:xfrm>
            <a:off x="8381880" y="6324480"/>
            <a:ext cx="457200" cy="304920"/>
          </a:xfrm>
          <a:custGeom>
            <a:avLst/>
            <a:gdLst>
              <a:gd name="textAreaLeft" fmla="*/ 61200 w 457200"/>
              <a:gd name="textAreaRight" fmla="*/ 396000 w 457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3695466"/>
                <a:lnTo>
                  <a:pt x="3600" y="21506"/>
                </a:lnTo>
                <a:lnTo>
                  <a:pt x="0" y="16200"/>
                </a:lnTo>
                <a:lnTo>
                  <a:pt x="3600" y="10706"/>
                </a:lnTo>
                <a:lnTo>
                  <a:pt x="3600" y="13406"/>
                </a:lnTo>
                <a:arcTo wR="21600" hR="6750" stAng="3695466" swAng="-3229480"/>
                <a:lnTo>
                  <a:pt x="19797" y="9450"/>
                </a:lnTo>
                <a:arcTo wR="21600" hR="6750" stAng="-465986" swAng="-4934014"/>
                <a:close/>
              </a:path>
              <a:path fill="darkenLess" w="21600" h="21600">
                <a:moveTo>
                  <a:pt x="0" y="0"/>
                </a:moveTo>
                <a:arcTo wR="21600" hR="6750" stAng="-5400000" swAng="5400000"/>
                <a:lnTo>
                  <a:pt x="21600" y="12150"/>
                </a:lnTo>
                <a:arcTo wR="21600" hR="6750" stAng="0" swAng="-465986"/>
                <a:lnTo>
                  <a:pt x="19797" y="9450"/>
                </a:lnTo>
                <a:arcTo wR="21600" hR="6750" stAng="-465986" swAng="-4934014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6T07:22:00Z</dcterms:created>
  <dc:creator/>
  <dc:description/>
  <dc:language>en-US</dc:language>
  <cp:lastModifiedBy>hopo</cp:lastModifiedBy>
  <dcterms:modified xsi:type="dcterms:W3CDTF">2016-06-21T10:19:08Z</dcterms:modified>
  <cp:revision>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  <property fmtid="{D5CDD505-2E9C-101B-9397-08002B2CF9AE}" pid="3" name="Version">
    <vt:r8>1</vt:r8>
  </property>
</Properties>
</file>