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12193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EEB-94BC-4187-A50F-BBDDEC3C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9AC-E300-45AE-B30E-BC40DBC8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9D7-1FA7-40D0-89CE-504B3EFF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4AB-495E-41D1-9FA1-1740FE37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7D1C-1B23-48E5-A64A-58229ABC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EA3F-D1A6-4FC3-BB77-305AB954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4B6E-7274-417B-BCF3-51727834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2A68-6BE5-44F1-B3D8-84058302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2C2E-5769-48B0-91D8-186034B5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76240" y="517680"/>
            <a:ext cx="9577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8C0A-D4DE-454A-B1D2-040361ED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8704-0297-489A-BB6D-09EFB4F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9A0-378A-4B7A-967F-7917D961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8607-6B63-43FD-9659-0E8F3692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EECE-F2BD-41CE-AEFD-98A1B91F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778F-5529-424C-9619-54D0D63E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7DB3-2968-4E3C-B093-D6EB5A8E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916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916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8BA2-343D-4FD5-8729-A5E2A66B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51DF-35DB-472B-A10E-423D1929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3F67-76E9-46DA-904E-BEE82DB8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FBB38-8295-4051-933E-ED1FA36D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34FB-EDE3-4896-AF2F-5F3EAED2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4760-2473-4C17-A04F-A38C85C5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5A7-BC4A-4159-8E66-4589348B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776240" y="517680"/>
            <a:ext cx="9577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9516-B840-486C-98A9-4730456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416A-1B10-4569-9905-72B77719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035D-DF20-4EA5-BE9E-D469D7F6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8156A-7DAB-428B-8824-1AC5F3C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54D0-1CB1-4073-95DF-76C5B46F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4C96-E31A-41A7-B7A3-642E3890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9344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916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9344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916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D921-BB63-4455-AC8B-2996E861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6FE8D-526C-4B46-9D35-60848242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B359-EB9C-46AE-9F0B-4D78535F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3F14-170F-4D6F-B9D0-88236C3A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91B-5990-4F30-B4D3-758D3BB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BC20-5924-4568-864B-AC2247A8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519C5-1232-497A-BCC3-776A05C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76240" y="517680"/>
            <a:ext cx="9577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C3183-D83E-47FF-BDBB-D2E2FA0C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ABDC-DB65-4C0C-88A3-9738758C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F436-81C1-4D3E-B7D7-12474F2F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BAD9-8538-467B-8F51-258C51B3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8041-6FBA-41A0-9F93-61AC02DA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FCB3-2A51-4FD3-84B9-C2EA81AF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344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94916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39344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794916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DC4DB-1EA0-42D2-BB17-BFE70196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77EE5-C0F9-42B8-8E03-1ED363EB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D5D-9E5A-4AC6-A168-C21CBE72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8E56-EEBE-4D8C-B6CA-A76356D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71612-4BF2-4966-801D-F3851D29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24F65-C8D6-4363-B3FF-F7A3308B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3AC02-6F10-437E-AA47-CBC2078C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776240" y="517680"/>
            <a:ext cx="9577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D48FD-6173-40D6-A2EB-C67097E5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2655-3179-47BE-B40D-E403CAD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DB1A5-F621-47FB-BE72-EEB8702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32141-A26F-402C-9546-7FB5691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FEC58-DB24-4503-B9D2-ED53B70A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57BBA-CF89-466B-B0F1-EBD63A87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76240" y="517680"/>
            <a:ext cx="9577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110-1F1E-4EFE-ACA8-6E2B2A26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9344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4916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39344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94916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0F5F-94B8-4446-BFDC-6865D08F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DA8F-C204-44DF-AA07-F6962A43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A2EB-4080-4E2A-BF89-1F0BDE4A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C5E52-7F16-4DC8-BDF6-B4F98507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37FDA-E607-4190-938E-5FAC5902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5518-7E82-46AD-A6B4-BBC7775F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776240" y="517680"/>
            <a:ext cx="9577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469A-40A9-4292-B356-47678B80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F040C-E4B4-4125-AC8A-696D21C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ABB20-4D6C-4A59-A2B7-92C30336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2FCFB-AEE9-41D7-A9A4-AE68327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550-E580-4F6A-902E-815271B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FED5F-092F-4B1C-BC85-1D7F93F8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0139-DE1E-46EF-9AA3-9842D3E1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39344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4916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39344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794916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BF49C-53D9-4DE5-8D50-7DFD4DC9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59FA8-0CC4-4997-888C-48E2776E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E5E3E-F45E-4C68-9147-A01A9249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668CA-4475-41A7-AD60-047AB2A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4D6E7-258C-419E-8326-FD16E17D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0ABEC-AB28-419D-82B7-7AC4DD39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776240" y="517680"/>
            <a:ext cx="9577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2388F-1B47-4B68-A7EE-5DF2C453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76FF3-8E9D-4A7D-A28F-DB62C21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1CD-2BD4-41FB-BCE7-4873AE1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160C3-360F-42D8-966A-B490868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0AADE-1947-4791-851F-04E0C5E7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457CB-6B6E-4399-833F-8C3873B8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D8CDE-F931-42A1-B0A5-2B894C01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9344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94916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83808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439344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794916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C0B1-7FCC-4D38-96DD-86B9CEFF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C9BFE-3F89-4B46-8ADF-ED83F993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FBDBD-0DC1-4EA4-B816-1AE6EEAF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F3289-EC02-4C1E-891C-C1A307D8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42DB-5628-4DA6-8A25-3FD749E3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D1DED-7763-41F9-89E2-A9DB17B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61B-43FD-455F-AEE6-FADC0B1F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776240" y="517680"/>
            <a:ext cx="9577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FBA88-FABC-40F8-9167-EE63A432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09F80-83C3-47FD-9969-87A4294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643F-900E-4114-8036-9B71524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A725A-EEBD-40B5-A543-F4F9509D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38080" y="4005000"/>
            <a:ext cx="10515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73453-C46D-4A7C-8E2F-DD2A6B40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63008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26560" y="4005000"/>
            <a:ext cx="5131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2171C-175E-401F-9BDE-74FE669E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9344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949160" y="163008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3808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39344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7949160" y="4005000"/>
            <a:ext cx="3385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8D150-84A1-4C1C-A685-AC71A3CE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302D-4CDC-4B1E-87A8-7DB8F7A53879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158-487A-42C5-BE61-D087C6C5C6D8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组合 5"/>
          <p:cNvGrpSpPr/>
          <p:nvPr/>
        </p:nvGrpSpPr>
        <p:grpSpPr>
          <a:xfrm>
            <a:off x="536040" y="517680"/>
            <a:ext cx="1081800" cy="652320"/>
            <a:chOff x="536040" y="517680"/>
            <a:chExt cx="1081800" cy="652320"/>
          </a:xfrm>
        </p:grpSpPr>
        <p:sp>
          <p:nvSpPr>
            <p:cNvPr id="6" name="等腰三角形 7"/>
            <p:cNvSpPr/>
            <p:nvPr/>
          </p:nvSpPr>
          <p:spPr>
            <a:xfrm rot="10800000">
              <a:off x="536040" y="517320"/>
              <a:ext cx="1010520" cy="6523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等腰三角形 8"/>
            <p:cNvSpPr/>
            <p:nvPr/>
          </p:nvSpPr>
          <p:spPr>
            <a:xfrm rot="10800000">
              <a:off x="972720" y="754560"/>
              <a:ext cx="645120" cy="415440"/>
            </a:xfrm>
            <a:prstGeom prst="triangle">
              <a:avLst>
                <a:gd name="adj" fmla="val 50000"/>
              </a:avLst>
            </a:prstGeom>
            <a:solidFill>
              <a:srgbClr val="ffbf2b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0"/>
          <p:cNvSpPr/>
          <p:nvPr/>
        </p:nvSpPr>
        <p:spPr>
          <a:xfrm>
            <a:off x="0" y="2266920"/>
            <a:ext cx="12192120" cy="2476440"/>
          </a:xfrm>
          <a:prstGeom prst="rect">
            <a:avLst/>
          </a:prstGeom>
          <a:solidFill>
            <a:srgbClr val="ffb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11"/>
          <p:cNvSpPr/>
          <p:nvPr/>
        </p:nvSpPr>
        <p:spPr>
          <a:xfrm>
            <a:off x="5589720" y="3825720"/>
            <a:ext cx="5808600" cy="466920"/>
          </a:xfrm>
          <a:prstGeom prst="roundRect">
            <a:avLst>
              <a:gd name="adj" fmla="val 16667"/>
            </a:avLst>
          </a:prstGeom>
          <a:solidFill>
            <a:srgbClr val="29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15"/>
          <p:cNvGrpSpPr/>
          <p:nvPr/>
        </p:nvGrpSpPr>
        <p:grpSpPr>
          <a:xfrm>
            <a:off x="660240" y="1650960"/>
            <a:ext cx="4810320" cy="3471840"/>
            <a:chOff x="660240" y="1650960"/>
            <a:chExt cx="4810320" cy="3471840"/>
          </a:xfrm>
        </p:grpSpPr>
        <p:sp>
          <p:nvSpPr>
            <p:cNvPr id="47" name="椭圆 12"/>
            <p:cNvSpPr/>
            <p:nvPr/>
          </p:nvSpPr>
          <p:spPr>
            <a:xfrm>
              <a:off x="660240" y="1650960"/>
              <a:ext cx="4630680" cy="3471840"/>
            </a:xfrm>
            <a:prstGeom prst="ellipse">
              <a:avLst/>
            </a:prstGeom>
            <a:solidFill>
              <a:srgbClr val="29304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图片 5" descr=""/>
            <p:cNvPicPr/>
            <p:nvPr/>
          </p:nvPicPr>
          <p:blipFill>
            <a:blip r:embed="rId3"/>
            <a:stretch/>
          </p:blipFill>
          <p:spPr>
            <a:xfrm>
              <a:off x="821880" y="1784160"/>
              <a:ext cx="4648680" cy="320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22EA-6338-404D-A2A4-642CDEE7107C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7D9E-A16A-4B6C-891B-E14C392AC642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5"/>
          <p:cNvGrpSpPr/>
          <p:nvPr/>
        </p:nvGrpSpPr>
        <p:grpSpPr>
          <a:xfrm>
            <a:off x="536040" y="517680"/>
            <a:ext cx="1081800" cy="652320"/>
            <a:chOff x="536040" y="517680"/>
            <a:chExt cx="1081800" cy="652320"/>
          </a:xfrm>
        </p:grpSpPr>
        <p:sp>
          <p:nvSpPr>
            <p:cNvPr id="91" name="等腰三角形 7"/>
            <p:cNvSpPr/>
            <p:nvPr/>
          </p:nvSpPr>
          <p:spPr>
            <a:xfrm rot="10800000">
              <a:off x="536040" y="517320"/>
              <a:ext cx="1010520" cy="6523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等腰三角形 8"/>
            <p:cNvSpPr/>
            <p:nvPr/>
          </p:nvSpPr>
          <p:spPr>
            <a:xfrm rot="10800000">
              <a:off x="972720" y="754560"/>
              <a:ext cx="645120" cy="415440"/>
            </a:xfrm>
            <a:prstGeom prst="triangle">
              <a:avLst>
                <a:gd name="adj" fmla="val 50000"/>
              </a:avLst>
            </a:prstGeom>
            <a:solidFill>
              <a:srgbClr val="ffbf2b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图片 8" descr="logo"/>
          <p:cNvPicPr/>
          <p:nvPr/>
        </p:nvPicPr>
        <p:blipFill>
          <a:blip r:embed="rId3"/>
          <a:stretch/>
        </p:blipFill>
        <p:spPr>
          <a:xfrm>
            <a:off x="8153280" y="411120"/>
            <a:ext cx="3341880" cy="576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3152-9D28-4F4E-B695-A4A54767F894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B554-2CD6-48B8-8A5A-22FD7161E946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28"/>
          <p:cNvGrpSpPr/>
          <p:nvPr/>
        </p:nvGrpSpPr>
        <p:grpSpPr>
          <a:xfrm>
            <a:off x="1273320" y="851040"/>
            <a:ext cx="8273880" cy="5022360"/>
            <a:chOff x="1273320" y="851040"/>
            <a:chExt cx="8273880" cy="5022360"/>
          </a:xfrm>
        </p:grpSpPr>
        <p:grpSp>
          <p:nvGrpSpPr>
            <p:cNvPr id="136" name="组合 18"/>
            <p:cNvGrpSpPr/>
            <p:nvPr/>
          </p:nvGrpSpPr>
          <p:grpSpPr>
            <a:xfrm>
              <a:off x="1273320" y="851040"/>
              <a:ext cx="8273880" cy="5022360"/>
              <a:chOff x="1273320" y="851040"/>
              <a:chExt cx="8273880" cy="5022360"/>
            </a:xfrm>
          </p:grpSpPr>
          <p:grpSp>
            <p:nvGrpSpPr>
              <p:cNvPr id="137" name="组合 3"/>
              <p:cNvGrpSpPr/>
              <p:nvPr/>
            </p:nvGrpSpPr>
            <p:grpSpPr>
              <a:xfrm>
                <a:off x="1273320" y="851040"/>
                <a:ext cx="8273880" cy="5022360"/>
                <a:chOff x="1273320" y="851040"/>
                <a:chExt cx="8273880" cy="5022360"/>
              </a:xfrm>
            </p:grpSpPr>
            <p:grpSp>
              <p:nvGrpSpPr>
                <p:cNvPr id="138" name="组合 4"/>
                <p:cNvGrpSpPr/>
                <p:nvPr/>
              </p:nvGrpSpPr>
              <p:grpSpPr>
                <a:xfrm>
                  <a:off x="2977200" y="1009440"/>
                  <a:ext cx="6570000" cy="4863960"/>
                  <a:chOff x="2977200" y="1009440"/>
                  <a:chExt cx="6570000" cy="4863960"/>
                </a:xfrm>
              </p:grpSpPr>
              <p:grpSp>
                <p:nvGrpSpPr>
                  <p:cNvPr id="139" name="组合 7"/>
                  <p:cNvGrpSpPr/>
                  <p:nvPr/>
                </p:nvGrpSpPr>
                <p:grpSpPr>
                  <a:xfrm>
                    <a:off x="2977200" y="1009440"/>
                    <a:ext cx="6570000" cy="4863960"/>
                    <a:chOff x="2977200" y="1009440"/>
                    <a:chExt cx="6570000" cy="4863960"/>
                  </a:xfrm>
                </p:grpSpPr>
                <p:grpSp>
                  <p:nvGrpSpPr>
                    <p:cNvPr id="140" name="组合 9"/>
                    <p:cNvGrpSpPr/>
                    <p:nvPr/>
                  </p:nvGrpSpPr>
                  <p:grpSpPr>
                    <a:xfrm>
                      <a:off x="2977200" y="1009440"/>
                      <a:ext cx="6570000" cy="4863960"/>
                      <a:chOff x="2977200" y="1009440"/>
                      <a:chExt cx="6570000" cy="4863960"/>
                    </a:xfrm>
                  </p:grpSpPr>
                  <p:sp>
                    <p:nvSpPr>
                      <p:cNvPr id="141" name="等腰三角形 18"/>
                      <p:cNvSpPr/>
                      <p:nvPr/>
                    </p:nvSpPr>
                    <p:spPr>
                      <a:xfrm rot="10800000">
                        <a:off x="2977200" y="1624680"/>
                        <a:ext cx="6570000" cy="4248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>
                          <a:alpha val="57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等腰三角形 19"/>
                      <p:cNvSpPr/>
                      <p:nvPr/>
                    </p:nvSpPr>
                    <p:spPr>
                      <a:xfrm rot="10800000">
                        <a:off x="6418800" y="4084560"/>
                        <a:ext cx="1991520" cy="1287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808080">
                          <a:alpha val="57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直接连接符 20"/>
                      <p:cNvSpPr/>
                      <p:nvPr/>
                    </p:nvSpPr>
                    <p:spPr>
                      <a:xfrm>
                        <a:off x="2977200" y="1009440"/>
                        <a:ext cx="1991520" cy="2691000"/>
                      </a:xfrm>
                      <a:prstGeom prst="line">
                        <a:avLst/>
                      </a:prstGeom>
                      <a:ln w="6480">
                        <a:solidFill>
                          <a:srgbClr val="404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4" name="等腰三角形 17"/>
                    <p:cNvSpPr/>
                    <p:nvPr/>
                  </p:nvSpPr>
                  <p:spPr>
                    <a:xfrm rot="10800000">
                      <a:off x="8281440" y="3012480"/>
                      <a:ext cx="880560" cy="569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bf2b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直接连接符 15"/>
                  <p:cNvSpPr/>
                  <p:nvPr/>
                </p:nvSpPr>
                <p:spPr>
                  <a:xfrm>
                    <a:off x="3586680" y="1245960"/>
                    <a:ext cx="262440" cy="379440"/>
                  </a:xfrm>
                  <a:prstGeom prst="line">
                    <a:avLst/>
                  </a:prstGeom>
                  <a:ln w="6480">
                    <a:solidFill>
                      <a:srgbClr val="ffd9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椭圆 12"/>
                <p:cNvSpPr/>
                <p:nvPr/>
              </p:nvSpPr>
              <p:spPr>
                <a:xfrm>
                  <a:off x="1774800" y="1817640"/>
                  <a:ext cx="1434960" cy="1076040"/>
                </a:xfrm>
                <a:prstGeom prst="ellipse">
                  <a:avLst/>
                </a:prstGeom>
                <a:solidFill>
                  <a:srgbClr val="ffbf2b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椭圆 13"/>
                <p:cNvSpPr/>
                <p:nvPr/>
              </p:nvSpPr>
              <p:spPr>
                <a:xfrm>
                  <a:off x="1273320" y="851040"/>
                  <a:ext cx="751320" cy="561960"/>
                </a:xfrm>
                <a:prstGeom prst="ellipse">
                  <a:avLst/>
                </a:prstGeom>
                <a:solidFill>
                  <a:srgbClr val="000000">
                    <a:alpha val="5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直接连接符 10"/>
              <p:cNvSpPr/>
              <p:nvPr/>
            </p:nvSpPr>
            <p:spPr>
              <a:xfrm>
                <a:off x="3861720" y="1625760"/>
                <a:ext cx="563040" cy="8096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93"/>
            <p:cNvSpPr/>
            <p:nvPr/>
          </p:nvSpPr>
          <p:spPr>
            <a:xfrm>
              <a:off x="5903280" y="1743120"/>
              <a:ext cx="701640" cy="70740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188" y="126"/>
                  </a:moveTo>
                  <a:cubicBezTo>
                    <a:pt x="188" y="79"/>
                    <a:pt x="188" y="79"/>
                    <a:pt x="188" y="79"/>
                  </a:cubicBezTo>
                  <a:cubicBezTo>
                    <a:pt x="188" y="36"/>
                    <a:pt x="152" y="0"/>
                    <a:pt x="109" y="0"/>
                  </a:cubicBezTo>
                  <a:cubicBezTo>
                    <a:pt x="109" y="0"/>
                    <a:pt x="108" y="0"/>
                    <a:pt x="108" y="0"/>
                  </a:cubicBezTo>
                  <a:cubicBezTo>
                    <a:pt x="107" y="0"/>
                    <a:pt x="107" y="0"/>
                    <a:pt x="106" y="0"/>
                  </a:cubicBezTo>
                  <a:cubicBezTo>
                    <a:pt x="63" y="0"/>
                    <a:pt x="28" y="36"/>
                    <a:pt x="28" y="79"/>
                  </a:cubicBezTo>
                  <a:cubicBezTo>
                    <a:pt x="28" y="126"/>
                    <a:pt x="28" y="126"/>
                    <a:pt x="28" y="126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288"/>
                    <a:pt x="0" y="288"/>
                    <a:pt x="0" y="288"/>
                  </a:cubicBezTo>
                  <a:cubicBezTo>
                    <a:pt x="216" y="288"/>
                    <a:pt x="216" y="288"/>
                    <a:pt x="216" y="288"/>
                  </a:cubicBezTo>
                  <a:cubicBezTo>
                    <a:pt x="216" y="126"/>
                    <a:pt x="216" y="126"/>
                    <a:pt x="216" y="126"/>
                  </a:cubicBezTo>
                  <a:lnTo>
                    <a:pt x="188" y="126"/>
                  </a:lnTo>
                  <a:close/>
                  <a:moveTo>
                    <a:pt x="133" y="259"/>
                  </a:moveTo>
                  <a:cubicBezTo>
                    <a:pt x="84" y="259"/>
                    <a:pt x="84" y="259"/>
                    <a:pt x="84" y="259"/>
                  </a:cubicBezTo>
                  <a:cubicBezTo>
                    <a:pt x="96" y="206"/>
                    <a:pt x="96" y="206"/>
                    <a:pt x="96" y="206"/>
                  </a:cubicBezTo>
                  <a:cubicBezTo>
                    <a:pt x="88" y="202"/>
                    <a:pt x="84" y="194"/>
                    <a:pt x="84" y="185"/>
                  </a:cubicBezTo>
                  <a:cubicBezTo>
                    <a:pt x="84" y="172"/>
                    <a:pt x="95" y="161"/>
                    <a:pt x="108" y="161"/>
                  </a:cubicBezTo>
                  <a:cubicBezTo>
                    <a:pt x="122" y="161"/>
                    <a:pt x="133" y="172"/>
                    <a:pt x="133" y="185"/>
                  </a:cubicBezTo>
                  <a:cubicBezTo>
                    <a:pt x="133" y="194"/>
                    <a:pt x="128" y="202"/>
                    <a:pt x="120" y="206"/>
                  </a:cubicBezTo>
                  <a:lnTo>
                    <a:pt x="133" y="259"/>
                  </a:lnTo>
                  <a:close/>
                  <a:moveTo>
                    <a:pt x="148" y="126"/>
                  </a:moveTo>
                  <a:cubicBezTo>
                    <a:pt x="67" y="126"/>
                    <a:pt x="67" y="126"/>
                    <a:pt x="67" y="126"/>
                  </a:cubicBezTo>
                  <a:cubicBezTo>
                    <a:pt x="67" y="79"/>
                    <a:pt x="67" y="79"/>
                    <a:pt x="67" y="79"/>
                  </a:cubicBezTo>
                  <a:cubicBezTo>
                    <a:pt x="67" y="57"/>
                    <a:pt x="85" y="40"/>
                    <a:pt x="106" y="40"/>
                  </a:cubicBezTo>
                  <a:cubicBezTo>
                    <a:pt x="107" y="40"/>
                    <a:pt x="108" y="40"/>
                    <a:pt x="108" y="40"/>
                  </a:cubicBezTo>
                  <a:cubicBezTo>
                    <a:pt x="108" y="40"/>
                    <a:pt x="109" y="40"/>
                    <a:pt x="109" y="40"/>
                  </a:cubicBezTo>
                  <a:cubicBezTo>
                    <a:pt x="131" y="40"/>
                    <a:pt x="148" y="57"/>
                    <a:pt x="148" y="79"/>
                  </a:cubicBezTo>
                  <a:lnTo>
                    <a:pt x="14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EEBD-C8FE-4734-9BE2-2AF1352BBD1A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548-8657-4E21-A79C-599BF92AB161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5"/>
          <p:cNvGrpSpPr/>
          <p:nvPr/>
        </p:nvGrpSpPr>
        <p:grpSpPr>
          <a:xfrm>
            <a:off x="536040" y="517680"/>
            <a:ext cx="1081800" cy="652320"/>
            <a:chOff x="536040" y="517680"/>
            <a:chExt cx="1081800" cy="652320"/>
          </a:xfrm>
        </p:grpSpPr>
        <p:sp>
          <p:nvSpPr>
            <p:cNvPr id="192" name="等腰三角形 7"/>
            <p:cNvSpPr/>
            <p:nvPr/>
          </p:nvSpPr>
          <p:spPr>
            <a:xfrm rot="10800000">
              <a:off x="536040" y="517320"/>
              <a:ext cx="1010520" cy="6523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等腰三角形 8"/>
            <p:cNvSpPr/>
            <p:nvPr/>
          </p:nvSpPr>
          <p:spPr>
            <a:xfrm rot="10800000">
              <a:off x="972720" y="754560"/>
              <a:ext cx="645120" cy="415440"/>
            </a:xfrm>
            <a:prstGeom prst="triangle">
              <a:avLst>
                <a:gd name="adj" fmla="val 50000"/>
              </a:avLst>
            </a:prstGeom>
            <a:solidFill>
              <a:srgbClr val="ffbf2b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21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195" name="图片 3" descr=""/>
            <p:cNvPicPr/>
            <p:nvPr/>
          </p:nvPicPr>
          <p:blipFill>
            <a:blip r:embed="rId3"/>
            <a:srcRect l="0" t="0" r="0" b="15066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矩形 23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组合 6"/>
            <p:cNvGrpSpPr/>
            <p:nvPr/>
          </p:nvGrpSpPr>
          <p:grpSpPr>
            <a:xfrm>
              <a:off x="730080" y="1191960"/>
              <a:ext cx="8272080" cy="5022720"/>
              <a:chOff x="730080" y="1191960"/>
              <a:chExt cx="8272080" cy="5022720"/>
            </a:xfrm>
          </p:grpSpPr>
          <p:grpSp>
            <p:nvGrpSpPr>
              <p:cNvPr id="198" name="组合 9"/>
              <p:cNvGrpSpPr/>
              <p:nvPr/>
            </p:nvGrpSpPr>
            <p:grpSpPr>
              <a:xfrm>
                <a:off x="730080" y="1191960"/>
                <a:ext cx="8272080" cy="5022720"/>
                <a:chOff x="730080" y="1191960"/>
                <a:chExt cx="8272080" cy="5022720"/>
              </a:xfrm>
            </p:grpSpPr>
            <p:grpSp>
              <p:nvGrpSpPr>
                <p:cNvPr id="199" name="组合 11"/>
                <p:cNvGrpSpPr/>
                <p:nvPr/>
              </p:nvGrpSpPr>
              <p:grpSpPr>
                <a:xfrm>
                  <a:off x="2432880" y="1350720"/>
                  <a:ext cx="6569280" cy="4863960"/>
                  <a:chOff x="2432880" y="1350720"/>
                  <a:chExt cx="6569280" cy="4863960"/>
                </a:xfrm>
              </p:grpSpPr>
              <p:grpSp>
                <p:nvGrpSpPr>
                  <p:cNvPr id="200" name="组合 14"/>
                  <p:cNvGrpSpPr/>
                  <p:nvPr/>
                </p:nvGrpSpPr>
                <p:grpSpPr>
                  <a:xfrm>
                    <a:off x="2432880" y="1350720"/>
                    <a:ext cx="6569280" cy="4863960"/>
                    <a:chOff x="2432880" y="1350720"/>
                    <a:chExt cx="6569280" cy="4863960"/>
                  </a:xfrm>
                </p:grpSpPr>
                <p:grpSp>
                  <p:nvGrpSpPr>
                    <p:cNvPr id="201" name="组合 16"/>
                    <p:cNvGrpSpPr/>
                    <p:nvPr/>
                  </p:nvGrpSpPr>
                  <p:grpSpPr>
                    <a:xfrm>
                      <a:off x="2432880" y="1350720"/>
                      <a:ext cx="6569280" cy="4863960"/>
                      <a:chOff x="2432880" y="1350720"/>
                      <a:chExt cx="6569280" cy="4863960"/>
                    </a:xfrm>
                  </p:grpSpPr>
                  <p:sp>
                    <p:nvSpPr>
                      <p:cNvPr id="202" name="等腰三角形 34"/>
                      <p:cNvSpPr/>
                      <p:nvPr/>
                    </p:nvSpPr>
                    <p:spPr>
                      <a:xfrm rot="10800000">
                        <a:off x="2432880" y="1965960"/>
                        <a:ext cx="6569280" cy="4248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>
                          <a:alpha val="57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等腰三角形 35"/>
                      <p:cNvSpPr/>
                      <p:nvPr/>
                    </p:nvSpPr>
                    <p:spPr>
                      <a:xfrm rot="10800000">
                        <a:off x="5875200" y="4425840"/>
                        <a:ext cx="1990080" cy="1287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808080">
                          <a:alpha val="57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直接连接符 36"/>
                      <p:cNvSpPr/>
                      <p:nvPr/>
                    </p:nvSpPr>
                    <p:spPr>
                      <a:xfrm>
                        <a:off x="2432880" y="1350720"/>
                        <a:ext cx="1992240" cy="2691000"/>
                      </a:xfrm>
                      <a:prstGeom prst="line">
                        <a:avLst/>
                      </a:prstGeom>
                      <a:ln w="64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5" name="等腰三角形 33"/>
                    <p:cNvSpPr/>
                    <p:nvPr/>
                  </p:nvSpPr>
                  <p:spPr>
                    <a:xfrm rot="10800000">
                      <a:off x="7738560" y="3353760"/>
                      <a:ext cx="878400" cy="569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d98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6" name="直接连接符 31"/>
                  <p:cNvSpPr/>
                  <p:nvPr/>
                </p:nvSpPr>
                <p:spPr>
                  <a:xfrm>
                    <a:off x="3043440" y="1586880"/>
                    <a:ext cx="262440" cy="379440"/>
                  </a:xfrm>
                  <a:prstGeom prst="line">
                    <a:avLst/>
                  </a:prstGeom>
                  <a:ln w="6480">
                    <a:solidFill>
                      <a:srgbClr val="ffde0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椭圆 28"/>
                <p:cNvSpPr/>
                <p:nvPr/>
              </p:nvSpPr>
              <p:spPr>
                <a:xfrm>
                  <a:off x="1231560" y="2158560"/>
                  <a:ext cx="1434960" cy="1076400"/>
                </a:xfrm>
                <a:prstGeom prst="ellipse">
                  <a:avLst/>
                </a:prstGeom>
                <a:solidFill>
                  <a:srgbClr val="ffbf2b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29"/>
                <p:cNvSpPr/>
                <p:nvPr/>
              </p:nvSpPr>
              <p:spPr>
                <a:xfrm>
                  <a:off x="730080" y="1191960"/>
                  <a:ext cx="749160" cy="561960"/>
                </a:xfrm>
                <a:prstGeom prst="ellipse">
                  <a:avLst/>
                </a:prstGeom>
                <a:solidFill>
                  <a:srgbClr val="000000">
                    <a:alpha val="5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直接连接符 26"/>
              <p:cNvSpPr/>
              <p:nvPr/>
            </p:nvSpPr>
            <p:spPr>
              <a:xfrm>
                <a:off x="3291120" y="1966680"/>
                <a:ext cx="563040" cy="8096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C1BB-E57A-49F5-8D32-DD26AADBB27F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920D-6752-4C83-BD8E-DF50F6A3A9B0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8" descr="logo"/>
          <p:cNvPicPr/>
          <p:nvPr/>
        </p:nvPicPr>
        <p:blipFill>
          <a:blip r:embed="rId3"/>
          <a:stretch/>
        </p:blipFill>
        <p:spPr>
          <a:xfrm>
            <a:off x="8153280" y="411120"/>
            <a:ext cx="3341880" cy="576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F066-416C-4A2E-89B9-2325F671F42C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5DFE-1C84-4074-ADFA-18B23862E813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20FA-CC68-4751-B7CB-7B42C13002E6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67A-4921-4345-ACDD-31C071035900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76240" y="517680"/>
            <a:ext cx="9577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630080"/>
            <a:ext cx="10515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B2EA-8F4B-43D1-B903-1CD600C3564E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FA3-FC0F-41E7-AB93-E9404B73A7FA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78400" y="3002040"/>
            <a:ext cx="623088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55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编辑培训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581440" y="3822480"/>
            <a:ext cx="582444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6-07-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89000" y="409680"/>
            <a:ext cx="895032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标题填写技巧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433" name="文本框 2"/>
          <p:cNvSpPr/>
          <p:nvPr/>
        </p:nvSpPr>
        <p:spPr>
          <a:xfrm>
            <a:off x="1014480" y="1465200"/>
            <a:ext cx="7997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一些英文软件，如果这类软件不是很出名，可以把它的功能名称放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证件照打印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IDPhotoStudio v1.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官方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  同理 一些行业软件 也可以如下填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实验室管理系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易点实验室管理系统 官方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文本框 2"/>
          <p:cNvSpPr/>
          <p:nvPr/>
        </p:nvSpPr>
        <p:spPr>
          <a:xfrm>
            <a:off x="2489040" y="1782720"/>
            <a:ext cx="704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重要的放前面 （指数高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尽量选择 优化难度不是太大的词，提高排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系统会自动在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EO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后面加上一个下载，有的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EO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可以不写版本号，如果你选择下载相关的词，需要注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3" descr="1"/>
          <p:cNvPicPr/>
          <p:nvPr/>
        </p:nvPicPr>
        <p:blipFill>
          <a:blip r:embed="rId1"/>
          <a:stretch/>
        </p:blipFill>
        <p:spPr>
          <a:xfrm>
            <a:off x="2489040" y="3181320"/>
            <a:ext cx="6115320" cy="94284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4" descr="3S"/>
          <p:cNvPicPr/>
          <p:nvPr/>
        </p:nvPicPr>
        <p:blipFill>
          <a:blip r:embed="rId2"/>
          <a:stretch/>
        </p:blipFill>
        <p:spPr>
          <a:xfrm>
            <a:off x="2403360" y="4346640"/>
            <a:ext cx="6991560" cy="10000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96800" y="1060560"/>
            <a:ext cx="533556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注意事项</a:t>
            </a: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文本框 5"/>
          <p:cNvSpPr/>
          <p:nvPr/>
        </p:nvSpPr>
        <p:spPr>
          <a:xfrm>
            <a:off x="1811160" y="1384200"/>
            <a:ext cx="65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主词，填写相关关键词，关键词除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在站内还起到一些关联作用，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9553.com/soft/5806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图片 9" descr="ff"/>
          <p:cNvPicPr/>
          <p:nvPr/>
        </p:nvPicPr>
        <p:blipFill>
          <a:blip r:embed="rId1"/>
          <a:stretch/>
        </p:blipFill>
        <p:spPr>
          <a:xfrm>
            <a:off x="1328760" y="2395440"/>
            <a:ext cx="4773600" cy="262728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10" descr="ccc"/>
          <p:cNvPicPr/>
          <p:nvPr/>
        </p:nvPicPr>
        <p:blipFill>
          <a:blip r:embed="rId2"/>
          <a:stretch/>
        </p:blipFill>
        <p:spPr>
          <a:xfrm>
            <a:off x="6392880" y="2249640"/>
            <a:ext cx="4648320" cy="32083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31440" y="614160"/>
            <a:ext cx="95806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关键词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图片 2" descr="ccasd"/>
          <p:cNvPicPr/>
          <p:nvPr/>
        </p:nvPicPr>
        <p:blipFill>
          <a:blip r:embed="rId1"/>
          <a:stretch/>
        </p:blipFill>
        <p:spPr>
          <a:xfrm>
            <a:off x="2649600" y="1544760"/>
            <a:ext cx="1811160" cy="196524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3"/>
          <p:cNvSpPr/>
          <p:nvPr/>
        </p:nvSpPr>
        <p:spPr>
          <a:xfrm>
            <a:off x="2579760" y="104616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联标签在站内起关联作用，注意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片 6" descr="fff"/>
          <p:cNvPicPr/>
          <p:nvPr/>
        </p:nvPicPr>
        <p:blipFill>
          <a:blip r:embed="rId2"/>
          <a:stretch/>
        </p:blipFill>
        <p:spPr>
          <a:xfrm>
            <a:off x="5289480" y="1600200"/>
            <a:ext cx="3219480" cy="1909800"/>
          </a:xfrm>
          <a:prstGeom prst="rect">
            <a:avLst/>
          </a:prstGeom>
          <a:ln w="0">
            <a:noFill/>
          </a:ln>
        </p:spPr>
      </p:pic>
      <p:sp>
        <p:nvSpPr>
          <p:cNvPr id="445" name="文本框 7"/>
          <p:cNvSpPr/>
          <p:nvPr/>
        </p:nvSpPr>
        <p:spPr>
          <a:xfrm>
            <a:off x="2649600" y="36432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关联标签：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系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标签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子标签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20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图片 8" descr="csasf"/>
          <p:cNvPicPr/>
          <p:nvPr/>
        </p:nvPicPr>
        <p:blipFill>
          <a:blip r:embed="rId3"/>
          <a:stretch/>
        </p:blipFill>
        <p:spPr>
          <a:xfrm>
            <a:off x="2649600" y="4164120"/>
            <a:ext cx="4454640" cy="22572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649600" y="353520"/>
            <a:ext cx="19699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联标签</a:t>
            </a: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wqe"/>
          <p:cNvPicPr/>
          <p:nvPr/>
        </p:nvPicPr>
        <p:blipFill>
          <a:blip r:embed="rId1"/>
          <a:stretch/>
        </p:blipFill>
        <p:spPr>
          <a:xfrm>
            <a:off x="2635200" y="2558880"/>
            <a:ext cx="7273800" cy="284652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2"/>
          <p:cNvSpPr/>
          <p:nvPr/>
        </p:nvSpPr>
        <p:spPr>
          <a:xfrm>
            <a:off x="2635200" y="1922400"/>
            <a:ext cx="50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大小、环境、官网等、按软件信息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635200" y="1177560"/>
            <a:ext cx="5315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属性填写</a:t>
            </a: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4" descr="123444"/>
          <p:cNvPicPr/>
          <p:nvPr/>
        </p:nvPicPr>
        <p:blipFill>
          <a:blip r:embed="rId1"/>
          <a:stretch/>
        </p:blipFill>
        <p:spPr>
          <a:xfrm>
            <a:off x="6129360" y="1425600"/>
            <a:ext cx="5560920" cy="400680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1"/>
          <p:cNvSpPr/>
          <p:nvPr/>
        </p:nvSpPr>
        <p:spPr>
          <a:xfrm>
            <a:off x="1459080" y="4154400"/>
            <a:ext cx="445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切勿复制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摘要为一段总结性的话，不要自动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片宽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P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且大小不要超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K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无其他网站水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00040" y="866520"/>
            <a:ext cx="9221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介绍</a:t>
            </a: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454" name="文本框 2"/>
          <p:cNvSpPr/>
          <p:nvPr/>
        </p:nvSpPr>
        <p:spPr>
          <a:xfrm>
            <a:off x="1459080" y="2046240"/>
            <a:ext cx="41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句通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文并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丰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软件特征、功能介绍、使用方法、破解方法、更新日志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式工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"/>
          <p:cNvSpPr/>
          <p:nvPr/>
        </p:nvSpPr>
        <p:spPr>
          <a:xfrm>
            <a:off x="1688400" y="1608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基本要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"/>
          <p:cNvSpPr/>
          <p:nvPr/>
        </p:nvSpPr>
        <p:spPr>
          <a:xfrm>
            <a:off x="1688400" y="3700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图片 1" descr="2"/>
          <p:cNvPicPr/>
          <p:nvPr/>
        </p:nvPicPr>
        <p:blipFill>
          <a:blip r:embed="rId1"/>
          <a:stretch/>
        </p:blipFill>
        <p:spPr>
          <a:xfrm>
            <a:off x="838080" y="1690560"/>
            <a:ext cx="6334200" cy="41068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后台编辑器常用功能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459" name="文本框 3"/>
          <p:cNvSpPr/>
          <p:nvPr/>
        </p:nvSpPr>
        <p:spPr>
          <a:xfrm>
            <a:off x="7386480" y="1698480"/>
            <a:ext cx="2678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源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格式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视频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文本加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文本编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链接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拓展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2" descr="s"/>
          <p:cNvPicPr/>
          <p:nvPr/>
        </p:nvPicPr>
        <p:blipFill>
          <a:blip r:embed="rId1"/>
          <a:stretch/>
        </p:blipFill>
        <p:spPr>
          <a:xfrm>
            <a:off x="990720" y="1847880"/>
            <a:ext cx="5843520" cy="3895560"/>
          </a:xfrm>
          <a:prstGeom prst="rect">
            <a:avLst/>
          </a:prstGeom>
          <a:ln w="0">
            <a:noFill/>
          </a:ln>
        </p:spPr>
      </p:pic>
      <p:sp>
        <p:nvSpPr>
          <p:cNvPr id="461" name="文本框 3"/>
          <p:cNvSpPr/>
          <p:nvPr/>
        </p:nvSpPr>
        <p:spPr>
          <a:xfrm>
            <a:off x="2211840" y="13510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链接一般设置在新窗口打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4" descr="cc"/>
          <p:cNvPicPr/>
          <p:nvPr/>
        </p:nvPicPr>
        <p:blipFill>
          <a:blip r:embed="rId2"/>
          <a:stretch/>
        </p:blipFill>
        <p:spPr>
          <a:xfrm>
            <a:off x="7280280" y="1847880"/>
            <a:ext cx="2533680" cy="181116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5" descr="12"/>
          <p:cNvPicPr/>
          <p:nvPr/>
        </p:nvPicPr>
        <p:blipFill>
          <a:blip r:embed="rId3"/>
          <a:stretch/>
        </p:blipFill>
        <p:spPr>
          <a:xfrm>
            <a:off x="7261200" y="3728880"/>
            <a:ext cx="2552760" cy="2071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447480"/>
            <a:ext cx="1018692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链接及视频添加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" descr="asd"/>
          <p:cNvPicPr/>
          <p:nvPr/>
        </p:nvPicPr>
        <p:blipFill>
          <a:blip r:embed="rId1"/>
          <a:stretch/>
        </p:blipFill>
        <p:spPr>
          <a:xfrm>
            <a:off x="1019160" y="2324160"/>
            <a:ext cx="5827680" cy="302724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3" descr="33"/>
          <p:cNvPicPr/>
          <p:nvPr/>
        </p:nvPicPr>
        <p:blipFill>
          <a:blip r:embed="rId2"/>
          <a:stretch/>
        </p:blipFill>
        <p:spPr>
          <a:xfrm>
            <a:off x="7677000" y="225432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467" name="文本框 4"/>
          <p:cNvSpPr/>
          <p:nvPr/>
        </p:nvSpPr>
        <p:spPr>
          <a:xfrm>
            <a:off x="3376080" y="1598760"/>
            <a:ext cx="17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视频地址在各大视频网站获取、大小一般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X400 P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居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视频添加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1120" y="577440"/>
            <a:ext cx="10109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标记使用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pic>
        <p:nvPicPr>
          <p:cNvPr id="470" name="图片 3" descr="1"/>
          <p:cNvPicPr/>
          <p:nvPr/>
        </p:nvPicPr>
        <p:blipFill>
          <a:blip r:embed="rId1"/>
          <a:stretch/>
        </p:blipFill>
        <p:spPr>
          <a:xfrm>
            <a:off x="1138320" y="1494000"/>
            <a:ext cx="3843360" cy="2576520"/>
          </a:xfrm>
          <a:prstGeom prst="rect">
            <a:avLst/>
          </a:prstGeom>
          <a:ln w="0">
            <a:noFill/>
          </a:ln>
        </p:spPr>
      </p:pic>
      <p:sp>
        <p:nvSpPr>
          <p:cNvPr id="471" name="文本框 4"/>
          <p:cNvSpPr/>
          <p:nvPr/>
        </p:nvSpPr>
        <p:spPr>
          <a:xfrm>
            <a:off x="5778360" y="215568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添加内容时候，一些阶段性总结的话，可添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记，如软件特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图片 5" descr="xx"/>
          <p:cNvPicPr/>
          <p:nvPr/>
        </p:nvPicPr>
        <p:blipFill>
          <a:blip r:embed="rId2"/>
          <a:stretch/>
        </p:blipFill>
        <p:spPr>
          <a:xfrm>
            <a:off x="1138320" y="4268880"/>
            <a:ext cx="3902040" cy="2081160"/>
          </a:xfrm>
          <a:prstGeom prst="rect">
            <a:avLst/>
          </a:prstGeom>
          <a:ln w="0">
            <a:noFill/>
          </a:ln>
        </p:spPr>
      </p:pic>
      <p:sp>
        <p:nvSpPr>
          <p:cNvPr id="473" name="文本框 6"/>
          <p:cNvSpPr/>
          <p:nvPr/>
        </p:nvSpPr>
        <p:spPr>
          <a:xfrm>
            <a:off x="5916600" y="434664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加内容的时候，若百度下拉有相关联的攻略，技巧等（短篇），可添加到内容里，并用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标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MH_Number_1"/>
          <p:cNvSpPr/>
          <p:nvPr/>
        </p:nvSpPr>
        <p:spPr>
          <a:xfrm>
            <a:off x="3760920" y="1704960"/>
            <a:ext cx="47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4267080" y="1806480"/>
            <a:ext cx="4865760" cy="379440"/>
          </a:xfrm>
          <a:prstGeom prst="rect">
            <a:avLst/>
          </a:prstGeom>
          <a:solidFill>
            <a:srgbClr val="ffb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基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MH_Others_1"/>
          <p:cNvSpPr/>
          <p:nvPr/>
        </p:nvSpPr>
        <p:spPr>
          <a:xfrm>
            <a:off x="3803760" y="2255760"/>
            <a:ext cx="547992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MH_Number_2"/>
          <p:cNvSpPr/>
          <p:nvPr/>
        </p:nvSpPr>
        <p:spPr>
          <a:xfrm>
            <a:off x="3760920" y="2486160"/>
            <a:ext cx="477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MH_Entry_2"/>
          <p:cNvSpPr/>
          <p:nvPr/>
        </p:nvSpPr>
        <p:spPr>
          <a:xfrm>
            <a:off x="4267080" y="2589120"/>
            <a:ext cx="4865760" cy="378000"/>
          </a:xfrm>
          <a:prstGeom prst="rect">
            <a:avLst/>
          </a:prstGeom>
          <a:solidFill>
            <a:srgbClr val="ffb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EO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写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MH_Others_2"/>
          <p:cNvSpPr/>
          <p:nvPr/>
        </p:nvSpPr>
        <p:spPr>
          <a:xfrm>
            <a:off x="3803760" y="3038400"/>
            <a:ext cx="547992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MH_Number_3"/>
          <p:cNvSpPr/>
          <p:nvPr/>
        </p:nvSpPr>
        <p:spPr>
          <a:xfrm>
            <a:off x="3760920" y="3268800"/>
            <a:ext cx="47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MH_Entry_3"/>
          <p:cNvSpPr/>
          <p:nvPr/>
        </p:nvSpPr>
        <p:spPr>
          <a:xfrm>
            <a:off x="4267080" y="3370320"/>
            <a:ext cx="4865760" cy="379440"/>
          </a:xfrm>
          <a:prstGeom prst="rect">
            <a:avLst/>
          </a:prstGeom>
          <a:solidFill>
            <a:srgbClr val="ffb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辑器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MH_Others_3"/>
          <p:cNvSpPr/>
          <p:nvPr/>
        </p:nvSpPr>
        <p:spPr>
          <a:xfrm>
            <a:off x="3803760" y="3819600"/>
            <a:ext cx="547992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Number_4"/>
          <p:cNvSpPr/>
          <p:nvPr/>
        </p:nvSpPr>
        <p:spPr>
          <a:xfrm>
            <a:off x="3760920" y="4051440"/>
            <a:ext cx="47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MH_Entry_4"/>
          <p:cNvSpPr/>
          <p:nvPr/>
        </p:nvSpPr>
        <p:spPr>
          <a:xfrm>
            <a:off x="4267080" y="4152960"/>
            <a:ext cx="4865760" cy="377640"/>
          </a:xfrm>
          <a:prstGeom prst="rect">
            <a:avLst/>
          </a:prstGeom>
          <a:solidFill>
            <a:srgbClr val="ffb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写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MH_Others_4"/>
          <p:cNvSpPr/>
          <p:nvPr/>
        </p:nvSpPr>
        <p:spPr>
          <a:xfrm>
            <a:off x="3803760" y="4602240"/>
            <a:ext cx="547992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MH_Number_5"/>
          <p:cNvSpPr/>
          <p:nvPr/>
        </p:nvSpPr>
        <p:spPr>
          <a:xfrm>
            <a:off x="3760920" y="4832280"/>
            <a:ext cx="477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MH_Entry_5"/>
          <p:cNvSpPr/>
          <p:nvPr/>
        </p:nvSpPr>
        <p:spPr>
          <a:xfrm>
            <a:off x="4267080" y="4933800"/>
            <a:ext cx="4865760" cy="379440"/>
          </a:xfrm>
          <a:prstGeom prst="rect">
            <a:avLst/>
          </a:prstGeom>
          <a:solidFill>
            <a:srgbClr val="ffb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MH_Others_5"/>
          <p:cNvSpPr/>
          <p:nvPr/>
        </p:nvSpPr>
        <p:spPr>
          <a:xfrm>
            <a:off x="3803760" y="5384880"/>
            <a:ext cx="547992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MH_Number_6"/>
          <p:cNvSpPr/>
          <p:nvPr/>
        </p:nvSpPr>
        <p:spPr>
          <a:xfrm>
            <a:off x="3760920" y="5614920"/>
            <a:ext cx="47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MH_Entry_6"/>
          <p:cNvSpPr/>
          <p:nvPr/>
        </p:nvSpPr>
        <p:spPr>
          <a:xfrm>
            <a:off x="4267080" y="5716440"/>
            <a:ext cx="4865760" cy="379440"/>
          </a:xfrm>
          <a:prstGeom prst="rect">
            <a:avLst/>
          </a:prstGeom>
          <a:solidFill>
            <a:srgbClr val="ffb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谐类软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MH_Others_6"/>
          <p:cNvSpPr/>
          <p:nvPr/>
        </p:nvSpPr>
        <p:spPr>
          <a:xfrm>
            <a:off x="3803760" y="6165720"/>
            <a:ext cx="547992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MH_Others_3"/>
          <p:cNvSpPr/>
          <p:nvPr/>
        </p:nvSpPr>
        <p:spPr>
          <a:xfrm>
            <a:off x="1395360" y="554040"/>
            <a:ext cx="1963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r>
              <a:rPr b="0" lang="zh-CN" sz="3600" spc="-1" strike="noStrike">
                <a:solidFill>
                  <a:srgbClr val="109f83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  <a:ea typeface="黑体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  <a:ea typeface="黑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7280" y="971280"/>
            <a:ext cx="10348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9c00"/>
                </a:solidFill>
                <a:latin typeface="Arial"/>
              </a:rPr>
              <a:t>哪些内容适合做专题？</a:t>
            </a:r>
            <a:br>
              <a:rPr sz="3200"/>
            </a:b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  <p:pic>
        <p:nvPicPr>
          <p:cNvPr id="475" name="图片 3" descr="1"/>
          <p:cNvPicPr/>
          <p:nvPr/>
        </p:nvPicPr>
        <p:blipFill>
          <a:blip r:embed="rId1"/>
          <a:stretch/>
        </p:blipFill>
        <p:spPr>
          <a:xfrm>
            <a:off x="5468760" y="1620720"/>
            <a:ext cx="5554800" cy="349740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4"/>
          <p:cNvSpPr/>
          <p:nvPr/>
        </p:nvSpPr>
        <p:spPr>
          <a:xfrm>
            <a:off x="1004760" y="2394000"/>
            <a:ext cx="3729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同一类型软件，热门合集， 如图像处理软件、影音处理软件，浏览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指数、多版本软件 如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DMA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都出，绿色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破解版 每个版本都是热门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79760" y="2552400"/>
            <a:ext cx="380232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软件哪里找？</a:t>
            </a:r>
            <a:endParaRPr b="0" lang="en-US" sz="44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28360" y="4211640"/>
            <a:ext cx="694836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竞品同行网站每日更新和词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近期热门内容，软件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游戏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可提前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些软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衍生软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衍生词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些热门软件词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2"/>
          <p:cNvSpPr/>
          <p:nvPr/>
        </p:nvSpPr>
        <p:spPr>
          <a:xfrm>
            <a:off x="3034440" y="1449360"/>
            <a:ext cx="25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名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语或拼音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)+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号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4" descr="cc"/>
          <p:cNvPicPr/>
          <p:nvPr/>
        </p:nvPicPr>
        <p:blipFill>
          <a:blip r:embed="rId1"/>
          <a:stretch/>
        </p:blipFill>
        <p:spPr>
          <a:xfrm>
            <a:off x="2565360" y="1976400"/>
            <a:ext cx="5678640" cy="20952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5" descr="x"/>
          <p:cNvPicPr/>
          <p:nvPr/>
        </p:nvPicPr>
        <p:blipFill>
          <a:blip r:embed="rId2"/>
          <a:stretch/>
        </p:blipFill>
        <p:spPr>
          <a:xfrm>
            <a:off x="2565360" y="2324160"/>
            <a:ext cx="2524320" cy="131436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6" descr="cc"/>
          <p:cNvPicPr/>
          <p:nvPr/>
        </p:nvPicPr>
        <p:blipFill>
          <a:blip r:embed="rId3"/>
          <a:stretch/>
        </p:blipFill>
        <p:spPr>
          <a:xfrm>
            <a:off x="2565360" y="4213080"/>
            <a:ext cx="3805200" cy="2227320"/>
          </a:xfrm>
          <a:prstGeom prst="rect">
            <a:avLst/>
          </a:prstGeom>
          <a:ln w="0">
            <a:noFill/>
          </a:ln>
        </p:spPr>
      </p:pic>
      <p:sp>
        <p:nvSpPr>
          <p:cNvPr id="483" name="文本框 8"/>
          <p:cNvSpPr/>
          <p:nvPr/>
        </p:nvSpPr>
        <p:spPr>
          <a:xfrm>
            <a:off x="2565360" y="3700440"/>
            <a:ext cx="66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包时，把上面推广链接一起放入压缩包内，并注释压缩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40080" y="752400"/>
            <a:ext cx="902016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打包命名规范</a:t>
            </a: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1" descr="ffxsad"/>
          <p:cNvPicPr/>
          <p:nvPr/>
        </p:nvPicPr>
        <p:blipFill>
          <a:blip r:embed="rId1"/>
          <a:stretch/>
        </p:blipFill>
        <p:spPr>
          <a:xfrm>
            <a:off x="2004840" y="207504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3" descr="ccc"/>
          <p:cNvPicPr/>
          <p:nvPr/>
        </p:nvPicPr>
        <p:blipFill>
          <a:blip r:embed="rId2"/>
          <a:stretch/>
        </p:blipFill>
        <p:spPr>
          <a:xfrm>
            <a:off x="2004840" y="3727440"/>
            <a:ext cx="5064120" cy="18558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33120" y="704520"/>
            <a:ext cx="982188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载提示</a:t>
            </a: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488" name="文本框 2"/>
          <p:cNvSpPr/>
          <p:nvPr/>
        </p:nvSpPr>
        <p:spPr>
          <a:xfrm>
            <a:off x="2087640" y="1378080"/>
            <a:ext cx="56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些报毒，未上线，收费（不确定是否为诈骗类软件）需写提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1"/>
          <p:cNvSpPr/>
          <p:nvPr/>
        </p:nvSpPr>
        <p:spPr>
          <a:xfrm>
            <a:off x="2263680" y="836640"/>
            <a:ext cx="80535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理类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VP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墙类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死你一类的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密码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邮箱密码破解类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聊天记录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信聊天记录查看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定位类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端游传奇辅助类软件   传奇辅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刷枪类辅助软件，最好也不要加了，加的话，地址放网盘吧，感觉都是骗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谐发帖器类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炸金花类游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付宝支付截图制作，淘宝后台修改截图，营业执照制作等涉及违法等的软件也不收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383920" y="258840"/>
            <a:ext cx="88347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谐类软件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文本框 3"/>
          <p:cNvSpPr/>
          <p:nvPr/>
        </p:nvSpPr>
        <p:spPr>
          <a:xfrm>
            <a:off x="1596960" y="19098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手机后台操作和软件站类似，相关思路可参考软件写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4"/>
          <p:cNvSpPr/>
          <p:nvPr/>
        </p:nvSpPr>
        <p:spPr>
          <a:xfrm>
            <a:off x="1639800" y="2384280"/>
            <a:ext cx="58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同之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5"/>
          <p:cNvSpPr/>
          <p:nvPr/>
        </p:nvSpPr>
        <p:spPr>
          <a:xfrm>
            <a:off x="1639800" y="2844720"/>
            <a:ext cx="60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手机站关键词 应该按照搜索引擎移动端获取 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baidu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手机需要多做 破解版，无限金币版，等修改版的游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手机竞争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应该多利用好关键词提词器，并优先选择和手机相关的关键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手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自动生成，只需填写应用名称和应用别名（长尾关键词）即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6" descr="aa"/>
          <p:cNvPicPr/>
          <p:nvPr/>
        </p:nvPicPr>
        <p:blipFill>
          <a:blip r:embed="rId1"/>
          <a:stretch/>
        </p:blipFill>
        <p:spPr>
          <a:xfrm>
            <a:off x="7812000" y="1909800"/>
            <a:ext cx="4006800" cy="267336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7"/>
          <p:cNvSpPr/>
          <p:nvPr/>
        </p:nvSpPr>
        <p:spPr>
          <a:xfrm>
            <a:off x="8836200" y="4734000"/>
            <a:ext cx="21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键词提词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74280" y="523800"/>
            <a:ext cx="602964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f9c00"/>
                </a:solidFill>
                <a:latin typeface="微软雅黑"/>
                <a:ea typeface="微软雅黑"/>
              </a:rPr>
              <a:t>手机后台操作</a:t>
            </a: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85960" y="874440"/>
            <a:ext cx="9577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后台预览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785600" y="1646280"/>
            <a:ext cx="655956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553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共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子频道，分别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553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色软件、单机游戏下载、手机站、新闻教程、个性站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图片占位符 4" descr=""/>
          <p:cNvPicPr/>
          <p:nvPr/>
        </p:nvPicPr>
        <p:blipFill>
          <a:blip r:embed="rId1"/>
          <a:srcRect l="0" t="72" r="0" b="72"/>
          <a:stretch/>
        </p:blipFill>
        <p:spPr>
          <a:xfrm>
            <a:off x="1670040" y="2624040"/>
            <a:ext cx="98092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61800" y="824040"/>
            <a:ext cx="7867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553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站后台基本操作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pic>
        <p:nvPicPr>
          <p:cNvPr id="400" name="内容占位符 3" descr="2"/>
          <p:cNvPicPr/>
          <p:nvPr/>
        </p:nvPicPr>
        <p:blipFill>
          <a:blip r:embed="rId1"/>
          <a:stretch/>
        </p:blipFill>
        <p:spPr>
          <a:xfrm>
            <a:off x="2354400" y="2178000"/>
            <a:ext cx="7484760" cy="32940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5"/>
          <p:cNvSpPr/>
          <p:nvPr/>
        </p:nvSpPr>
        <p:spPr>
          <a:xfrm>
            <a:off x="2293920" y="1616040"/>
            <a:ext cx="47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后台内容预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3" descr="3"/>
          <p:cNvPicPr/>
          <p:nvPr/>
        </p:nvPicPr>
        <p:blipFill>
          <a:blip r:embed="rId1"/>
          <a:stretch/>
        </p:blipFill>
        <p:spPr>
          <a:xfrm>
            <a:off x="2063880" y="2046240"/>
            <a:ext cx="4419360" cy="333360"/>
          </a:xfrm>
          <a:prstGeom prst="rect">
            <a:avLst/>
          </a:prstGeom>
          <a:ln w="0">
            <a:noFill/>
          </a:ln>
        </p:spPr>
      </p:pic>
      <p:sp>
        <p:nvSpPr>
          <p:cNvPr id="403" name="文本框 4"/>
          <p:cNvSpPr/>
          <p:nvPr/>
        </p:nvSpPr>
        <p:spPr>
          <a:xfrm>
            <a:off x="3299040" y="23796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属性：主要便于后台识别，按软件性质填，一般填正式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6" descr="4"/>
          <p:cNvPicPr/>
          <p:nvPr/>
        </p:nvPicPr>
        <p:blipFill>
          <a:blip r:embed="rId2"/>
          <a:stretch/>
        </p:blipFill>
        <p:spPr>
          <a:xfrm>
            <a:off x="2063880" y="2959200"/>
            <a:ext cx="6978600" cy="207324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7" descr="5"/>
          <p:cNvPicPr/>
          <p:nvPr/>
        </p:nvPicPr>
        <p:blipFill>
          <a:blip r:embed="rId3"/>
          <a:stretch/>
        </p:blipFill>
        <p:spPr>
          <a:xfrm>
            <a:off x="2063880" y="5878440"/>
            <a:ext cx="5914800" cy="381240"/>
          </a:xfrm>
          <a:prstGeom prst="rect">
            <a:avLst/>
          </a:prstGeom>
          <a:ln w="0">
            <a:noFill/>
          </a:ln>
        </p:spPr>
      </p:pic>
      <p:sp>
        <p:nvSpPr>
          <p:cNvPr id="406" name="文本框 8"/>
          <p:cNvSpPr/>
          <p:nvPr/>
        </p:nvSpPr>
        <p:spPr>
          <a:xfrm>
            <a:off x="2246760" y="1579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9"/>
          <p:cNvSpPr/>
          <p:nvPr/>
        </p:nvSpPr>
        <p:spPr>
          <a:xfrm>
            <a:off x="2494080" y="51148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软件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填写软件名字就好：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98640" y="752400"/>
            <a:ext cx="98265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软件基本信息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文本框 1"/>
          <p:cNvSpPr/>
          <p:nvPr/>
        </p:nvSpPr>
        <p:spPr>
          <a:xfrm>
            <a:off x="2514240" y="576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软件别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2" descr="2"/>
          <p:cNvPicPr/>
          <p:nvPr/>
        </p:nvPicPr>
        <p:blipFill>
          <a:blip r:embed="rId1"/>
          <a:stretch/>
        </p:blipFill>
        <p:spPr>
          <a:xfrm>
            <a:off x="2389320" y="1392120"/>
            <a:ext cx="5905440" cy="390600"/>
          </a:xfrm>
          <a:prstGeom prst="rect">
            <a:avLst/>
          </a:prstGeom>
          <a:ln w="0">
            <a:noFill/>
          </a:ln>
        </p:spPr>
      </p:pic>
      <p:sp>
        <p:nvSpPr>
          <p:cNvPr id="411" name="文本框 3"/>
          <p:cNvSpPr/>
          <p:nvPr/>
        </p:nvSpPr>
        <p:spPr>
          <a:xfrm>
            <a:off x="2389320" y="941400"/>
            <a:ext cx="532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一般指一款软件其他的叫法：如</a:t>
            </a:r>
            <a:r>
              <a:rPr b="0" lang="en-US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PHOTOSHOP </a:t>
            </a:r>
            <a:r>
              <a:rPr b="0" lang="zh-CN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别名</a:t>
            </a:r>
            <a:r>
              <a:rPr b="0" lang="en-US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4"/>
          <p:cNvSpPr/>
          <p:nvPr/>
        </p:nvSpPr>
        <p:spPr>
          <a:xfrm>
            <a:off x="5336640" y="19526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另外一些不常见的英文软件，别名这里可以写上软件作用，如下所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图片 6" descr="2"/>
          <p:cNvPicPr/>
          <p:nvPr/>
        </p:nvPicPr>
        <p:blipFill>
          <a:blip r:embed="rId2"/>
          <a:stretch/>
        </p:blipFill>
        <p:spPr>
          <a:xfrm>
            <a:off x="2389320" y="2400480"/>
            <a:ext cx="6191280" cy="88560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7"/>
          <p:cNvSpPr/>
          <p:nvPr/>
        </p:nvSpPr>
        <p:spPr>
          <a:xfrm>
            <a:off x="3400560" y="3494160"/>
            <a:ext cx="405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版本号和软件完整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版本号如</a:t>
            </a:r>
            <a:r>
              <a:rPr b="0" lang="en-US" sz="16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V6.0 </a:t>
            </a:r>
            <a:r>
              <a:rPr b="0" lang="zh-CN" sz="16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官方版 、</a:t>
            </a:r>
            <a:r>
              <a:rPr b="0" lang="en-US" sz="16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V1.0</a:t>
            </a:r>
            <a:r>
              <a:rPr b="0" lang="zh-CN" sz="16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绿色版 </a:t>
            </a:r>
            <a:r>
              <a:rPr b="0" lang="en-US" sz="16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、一般由数字加版本性质组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一些辅助、修改器、外挂可以直接写最新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软件完整名可不填，但要注意完整名称一般由软件名称</a:t>
            </a:r>
            <a:r>
              <a:rPr b="0" lang="en-US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版本 组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图片 8" descr="2"/>
          <p:cNvPicPr/>
          <p:nvPr/>
        </p:nvPicPr>
        <p:blipFill>
          <a:blip r:embed="rId3"/>
          <a:stretch/>
        </p:blipFill>
        <p:spPr>
          <a:xfrm>
            <a:off x="2389320" y="4764240"/>
            <a:ext cx="6143400" cy="62856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0" descr="2"/>
          <p:cNvPicPr/>
          <p:nvPr/>
        </p:nvPicPr>
        <p:blipFill>
          <a:blip r:embed="rId4"/>
          <a:stretch/>
        </p:blipFill>
        <p:spPr>
          <a:xfrm>
            <a:off x="2763720" y="5522760"/>
            <a:ext cx="495144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文本框 1"/>
          <p:cNvSpPr/>
          <p:nvPr/>
        </p:nvSpPr>
        <p:spPr>
          <a:xfrm>
            <a:off x="1890720" y="1203480"/>
            <a:ext cx="79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填写相对应的软件长尾关键词或软件作用、类型，优先填写长尾关键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5" descr="1"/>
          <p:cNvPicPr/>
          <p:nvPr/>
        </p:nvPicPr>
        <p:blipFill>
          <a:blip r:embed="rId1"/>
          <a:stretch/>
        </p:blipFill>
        <p:spPr>
          <a:xfrm>
            <a:off x="2166840" y="2109960"/>
            <a:ext cx="5116680" cy="29520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9" descr="1"/>
          <p:cNvPicPr/>
          <p:nvPr/>
        </p:nvPicPr>
        <p:blipFill>
          <a:blip r:embed="rId2"/>
          <a:stretch/>
        </p:blipFill>
        <p:spPr>
          <a:xfrm>
            <a:off x="2166840" y="2595600"/>
            <a:ext cx="5602320" cy="18716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10" descr="2"/>
          <p:cNvPicPr/>
          <p:nvPr/>
        </p:nvPicPr>
        <p:blipFill>
          <a:blip r:embed="rId3"/>
          <a:stretch/>
        </p:blipFill>
        <p:spPr>
          <a:xfrm>
            <a:off x="2166840" y="4621320"/>
            <a:ext cx="5519880" cy="17715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90720" y="806040"/>
            <a:ext cx="105156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软件特征</a:t>
            </a: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1" descr="1"/>
          <p:cNvPicPr/>
          <p:nvPr/>
        </p:nvPicPr>
        <p:blipFill>
          <a:blip r:embed="rId1"/>
          <a:stretch/>
        </p:blipFill>
        <p:spPr>
          <a:xfrm>
            <a:off x="2457360" y="3355920"/>
            <a:ext cx="7527960" cy="34128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4"/>
          <p:cNvSpPr/>
          <p:nvPr/>
        </p:nvSpPr>
        <p:spPr>
          <a:xfrm>
            <a:off x="2481120" y="196992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最先要考虑的事情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的优化也是页面优化的第一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填写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EO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时，应当参考百度指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index.baidu.com)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爱站指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aizhan.com)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百度下拉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baidu.com)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等数据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不得凭着感觉填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5"/>
          <p:cNvSpPr/>
          <p:nvPr/>
        </p:nvSpPr>
        <p:spPr>
          <a:xfrm>
            <a:off x="2565360" y="3930480"/>
            <a:ext cx="24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填写准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6"/>
          <p:cNvSpPr/>
          <p:nvPr/>
        </p:nvSpPr>
        <p:spPr>
          <a:xfrm>
            <a:off x="2481120" y="4527720"/>
            <a:ext cx="62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：具有独特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：准确相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挑选软件下载相关词汇，标题应该和内容符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：字数不要过多 （一般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左右长尾关键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82960" y="804960"/>
            <a:ext cx="9270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4"/>
          <p:cNvSpPr/>
          <p:nvPr/>
        </p:nvSpPr>
        <p:spPr>
          <a:xfrm>
            <a:off x="2440080" y="130968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网易云音乐电脑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网易云音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脑版下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.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官方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2354400" y="1766880"/>
            <a:ext cx="748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任意选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长尾关键词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百度下拉、爱站指数、百度指数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版本号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V1.0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官方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分隔符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6" descr="2"/>
          <p:cNvPicPr/>
          <p:nvPr/>
        </p:nvPicPr>
        <p:blipFill>
          <a:blip r:embed="rId1"/>
          <a:stretch/>
        </p:blipFill>
        <p:spPr>
          <a:xfrm>
            <a:off x="2440080" y="2681280"/>
            <a:ext cx="5457600" cy="21034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7" descr="ddd"/>
          <p:cNvPicPr/>
          <p:nvPr/>
        </p:nvPicPr>
        <p:blipFill>
          <a:blip r:embed="rId2"/>
          <a:stretch/>
        </p:blipFill>
        <p:spPr>
          <a:xfrm>
            <a:off x="2440080" y="4861080"/>
            <a:ext cx="4879800" cy="17859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33280" y="561600"/>
            <a:ext cx="81262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O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怎么写</a:t>
            </a:r>
            <a:endParaRPr b="0" lang="en-US" sz="3200" spc="-1" strike="noStrike">
              <a:solidFill>
                <a:srgbClr val="df9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01:17:04Z</dcterms:created>
  <dc:creator>Lee</dc:creator>
  <dc:description/>
  <dc:language>en-US</dc:language>
  <cp:lastModifiedBy>Administrator</cp:lastModifiedBy>
  <dcterms:modified xsi:type="dcterms:W3CDTF">2017-05-03T00:42:23Z</dcterms:modified>
  <cp:revision>55</cp:revision>
  <dc:subject/>
  <dc:title>9553编辑后台操作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