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3.gif" ContentType="image/gif"/>
  <Override PartName="/ppt/media/image40.jpeg" ContentType="image/jpeg"/>
  <Override PartName="/ppt/media/image48.png" ContentType="image/png"/>
  <Override PartName="/ppt/media/image47.jpeg" ContentType="image/jpeg"/>
  <Override PartName="/ppt/media/image46.png" ContentType="image/png"/>
  <Override PartName="/ppt/media/image52.gif" ContentType="image/gif"/>
  <Override PartName="/ppt/media/image45.png" ContentType="image/png"/>
  <Override PartName="/ppt/media/image50.gif" ContentType="image/gif"/>
  <Override PartName="/ppt/media/image43.png" ContentType="image/png"/>
  <Override PartName="/ppt/media/image42.png" ContentType="image/png"/>
  <Override PartName="/ppt/media/image39.wmf" ContentType="image/x-wmf"/>
  <Override PartName="/ppt/media/image38.gif" ContentType="image/gif"/>
  <Override PartName="/ppt/media/applause.wav" ContentType="audio/x-wav"/>
  <Override PartName="/ppt/media/image36.png" ContentType="image/png"/>
  <Override PartName="/ppt/media/image41.gif" ContentType="image/gif"/>
  <Override PartName="/ppt/media/image44.png" ContentType="image/png"/>
  <Override PartName="/ppt/media/image34.png" ContentType="image/png"/>
  <Override PartName="/ppt/media/image31.gif" ContentType="image/gif"/>
  <Override PartName="/ppt/media/image32.gif" ContentType="image/gif"/>
  <Override PartName="/ppt/media/image25.gif" ContentType="image/gif"/>
  <Override PartName="/ppt/media/image2.png" ContentType="image/png"/>
  <Override PartName="/ppt/media/image22.gif" ContentType="image/gif"/>
  <Override PartName="/ppt/media/image59.gif" ContentType="image/gif"/>
  <Override PartName="/ppt/media/image55.wmf" ContentType="image/x-wmf"/>
  <Override PartName="/ppt/media/image29.gif" ContentType="image/gif"/>
  <Override PartName="/ppt/media/image15.jpeg" ContentType="image/jpeg"/>
  <Override PartName="/ppt/media/image71.gif" ContentType="image/gif"/>
  <Override PartName="/ppt/media/image14.jpeg" ContentType="image/jpeg"/>
  <Override PartName="/ppt/media/drumroll.wav" ContentType="audio/x-wav"/>
  <Override PartName="/ppt/media/image21.wmf" ContentType="image/x-wmf"/>
  <Override PartName="/ppt/media/image60.jpeg" ContentType="image/jpeg"/>
  <Override PartName="/ppt/media/image74.gif" ContentType="image/gif"/>
  <Override PartName="/ppt/media/image58.gif" ContentType="image/gif"/>
  <Override PartName="/ppt/media/image24.gif" ContentType="image/gif"/>
  <Override PartName="/ppt/media/image77.gif" ContentType="image/gif"/>
  <Override PartName="/ppt/media/image4.gif" ContentType="image/gif"/>
  <Override PartName="/ppt/media/image16.gif" ContentType="image/gif"/>
  <Override PartName="/ppt/media/image76.wmf" ContentType="image/x-wmf"/>
  <Override PartName="/ppt/media/image75.png" ContentType="image/png"/>
  <Override PartName="/ppt/media/image66.png" ContentType="image/png"/>
  <Override PartName="/ppt/media/image61.png" ContentType="image/png"/>
  <Override PartName="/ppt/media/image63.jpeg" ContentType="image/jpeg"/>
  <Override PartName="/ppt/media/image26.gif" ContentType="image/gif"/>
  <Override PartName="/ppt/media/image70.jpeg" ContentType="image/jpeg"/>
  <Override PartName="/ppt/media/image72.png" ContentType="image/png"/>
  <Override PartName="/ppt/media/image19.gif" ContentType="image/gif"/>
  <Override PartName="/ppt/media/image7.gif" ContentType="image/gif"/>
  <Override PartName="/ppt/media/image33.wmf" ContentType="image/x-wmf"/>
  <Override PartName="/ppt/media/image69.gif" ContentType="image/gif"/>
  <Override PartName="/ppt/media/image73.png" ContentType="image/png"/>
  <Override PartName="/ppt/media/image68.gif" ContentType="image/gif"/>
  <Override PartName="/ppt/media/image64.gif" ContentType="image/gif"/>
  <Override PartName="/ppt/media/image3.gif" ContentType="image/gif"/>
  <Override PartName="/ppt/media/image12.png" ContentType="image/png"/>
  <Override PartName="/ppt/media/image49.png" ContentType="image/png"/>
  <Override PartName="/ppt/media/image65.jpeg" ContentType="image/jpeg"/>
  <Override PartName="/ppt/media/image27.gif" ContentType="image/gif"/>
  <Override PartName="/ppt/media/image1.jpeg" ContentType="image/jpeg"/>
  <Override PartName="/ppt/media/image54.gif" ContentType="image/gif"/>
  <Override PartName="/ppt/media/image11.jpeg" ContentType="image/jpeg"/>
  <Override PartName="/ppt/media/image67.gif" ContentType="image/gif"/>
  <Override PartName="/ppt/media/image30.gif" ContentType="image/gif"/>
  <Override PartName="/ppt/media/image17.gif" ContentType="image/gif"/>
  <Override PartName="/ppt/media/image5.gif" ContentType="image/gif"/>
  <Override PartName="/ppt/media/image35.gif" ContentType="image/gif"/>
  <Override PartName="/ppt/media/image10.gif" ContentType="image/gif"/>
  <Override PartName="/ppt/media/image37.gif" ContentType="image/gif"/>
  <Override PartName="/ppt/media/image62.wmf" ContentType="image/x-wmf"/>
  <Override PartName="/ppt/media/image8.jpeg" ContentType="image/jpeg"/>
  <Override PartName="/ppt/media/image23.gif" ContentType="image/gif"/>
  <Override PartName="/ppt/media/image20.gif" ContentType="image/gif"/>
  <Override PartName="/ppt/media/image57.gif" ContentType="image/gif"/>
  <Override PartName="/ppt/media/image6.gif" ContentType="image/gif"/>
  <Override PartName="/ppt/media/image18.gif" ContentType="image/gif"/>
  <Override PartName="/ppt/media/image13.jpeg" ContentType="image/jpeg"/>
  <Override PartName="/ppt/media/image51.gif" ContentType="image/gif"/>
  <Override PartName="/ppt/media/image9.gif" ContentType="image/gif"/>
  <Override PartName="/ppt/media/image28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DB8-D9B1-4A32-892E-741E86E8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A41-020C-4D35-A87B-37D162D6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63B-5D95-4AD9-B2A8-9565E414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D1B-724D-44EB-9F42-3A55F67B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894-8BBE-4163-B05D-BEDF865E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58B-3AF5-4D70-8D29-AB3118AC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118-9E9D-4289-A0F1-1F04A451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E4A-AD5D-4FC8-9186-8782EBEF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F46-03E8-4EF4-B308-4CE9715C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3E4-DFB3-476F-AEC5-467ADC60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619-421A-4C90-A65A-D3D763B8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DA8-B01C-426B-831F-F719C408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54CD-6E62-497D-8D8A-00BD93868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5.gif"/><Relationship Id="rId16" Type="http://schemas.openxmlformats.org/officeDocument/2006/relationships/image" Target="../media/image6.gif"/><Relationship Id="rId17" Type="http://schemas.openxmlformats.org/officeDocument/2006/relationships/image" Target="../media/image7.gif"/><Relationship Id="rId1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image" Target="../media/image31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image" Target="../media/image29.gif"/><Relationship Id="rId15" Type="http://schemas.openxmlformats.org/officeDocument/2006/relationships/image" Target="../media/image30.gif"/><Relationship Id="rId16" Type="http://schemas.openxmlformats.org/officeDocument/2006/relationships/image" Target="../media/image31.gif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image" Target="../media/image31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image" Target="../media/image29.gif"/><Relationship Id="rId15" Type="http://schemas.openxmlformats.org/officeDocument/2006/relationships/image" Target="../media/image30.gif"/><Relationship Id="rId16" Type="http://schemas.openxmlformats.org/officeDocument/2006/relationships/image" Target="../media/image31.gif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image" Target="../media/image31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image" Target="../media/image29.gif"/><Relationship Id="rId15" Type="http://schemas.openxmlformats.org/officeDocument/2006/relationships/image" Target="../media/image30.gif"/><Relationship Id="rId16" Type="http://schemas.openxmlformats.org/officeDocument/2006/relationships/image" Target="../media/image31.gif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wmf"/><Relationship Id="rId3" Type="http://schemas.openxmlformats.org/officeDocument/2006/relationships/image" Target="../media/image33.wm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7.gif"/><Relationship Id="rId9" Type="http://schemas.openxmlformats.org/officeDocument/2006/relationships/image" Target="../media/image28.gif"/><Relationship Id="rId10" Type="http://schemas.openxmlformats.org/officeDocument/2006/relationships/image" Target="../media/image29.gif"/><Relationship Id="rId11" Type="http://schemas.openxmlformats.org/officeDocument/2006/relationships/image" Target="../media/image30.gif"/><Relationship Id="rId12" Type="http://schemas.openxmlformats.org/officeDocument/2006/relationships/image" Target="../media/image31.gif"/><Relationship Id="rId13" Type="http://schemas.openxmlformats.org/officeDocument/2006/relationships/image" Target="../media/image27.gif"/><Relationship Id="rId14" Type="http://schemas.openxmlformats.org/officeDocument/2006/relationships/image" Target="../media/image28.gif"/><Relationship Id="rId15" Type="http://schemas.openxmlformats.org/officeDocument/2006/relationships/image" Target="../media/image29.gif"/><Relationship Id="rId16" Type="http://schemas.openxmlformats.org/officeDocument/2006/relationships/image" Target="../media/image30.gif"/><Relationship Id="rId17" Type="http://schemas.openxmlformats.org/officeDocument/2006/relationships/image" Target="../media/image31.gif"/><Relationship Id="rId1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gi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image" Target="../media/image59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image" Target="../media/image68.gif"/><Relationship Id="rId3" Type="http://schemas.openxmlformats.org/officeDocument/2006/relationships/image" Target="../media/image69.gif"/><Relationship Id="rId4" Type="http://schemas.openxmlformats.org/officeDocument/2006/relationships/image" Target="../media/image68.gif"/><Relationship Id="rId5" Type="http://schemas.openxmlformats.org/officeDocument/2006/relationships/image" Target="../media/image68.gif"/><Relationship Id="rId6" Type="http://schemas.openxmlformats.org/officeDocument/2006/relationships/image" Target="../media/image68.gif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gif"/><Relationship Id="rId3" Type="http://schemas.openxmlformats.org/officeDocument/2006/relationships/image" Target="../media/image72.pn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image" Target="../media/image69.gif"/><Relationship Id="rId7" Type="http://schemas.openxmlformats.org/officeDocument/2006/relationships/image" Target="../media/image71.gif"/><Relationship Id="rId8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3.png"/><Relationship Id="rId3" Type="http://schemas.openxmlformats.org/officeDocument/2006/relationships/image" Target="../media/image73.png"/><Relationship Id="rId4" Type="http://schemas.openxmlformats.org/officeDocument/2006/relationships/image" Target="../media/image73.png"/><Relationship Id="rId5" Type="http://schemas.openxmlformats.org/officeDocument/2006/relationships/image" Target="../media/image69.gif"/><Relationship Id="rId6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74.gif"/><Relationship Id="rId5" Type="http://schemas.openxmlformats.org/officeDocument/2006/relationships/image" Target="../media/image74.gif"/><Relationship Id="rId6" Type="http://schemas.openxmlformats.org/officeDocument/2006/relationships/image" Target="../media/image74.gif"/><Relationship Id="rId7" Type="http://schemas.openxmlformats.org/officeDocument/2006/relationships/image" Target="../media/image75.png"/><Relationship Id="rId8" Type="http://schemas.openxmlformats.org/officeDocument/2006/relationships/image" Target="../media/image69.gif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9.gif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57400" y="495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初一（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）班家长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2016.2.2x.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6248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57200" y="838080"/>
            <a:ext cx="472428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7162920" y="182880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705720" y="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486400" y="1371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3657600" y="548640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8458200" y="380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1295280" y="205740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3124080" y="342900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7924680" y="304812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6324480" y="9907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1219320"/>
            <a:ext cx="7315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家校同心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     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师生同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457200" y="2666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09480" y="5105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380880" y="0"/>
            <a:ext cx="6573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953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6248520" cy="6172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84720" y="4653000"/>
            <a:ext cx="3059280" cy="2205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3504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华文中宋"/>
                <a:ea typeface="华文中宋"/>
              </a:rPr>
              <a:t>  </a:t>
            </a:r>
            <a:r>
              <a:rPr b="1" lang="zh-CN" sz="6000" spc="-1" strike="noStrike">
                <a:solidFill>
                  <a:srgbClr val="ff33cc"/>
                </a:solidFill>
                <a:latin typeface="华文中宋"/>
                <a:ea typeface="华文中宋"/>
              </a:rPr>
              <a:t>葛茗星    韩太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762120"/>
            <a:ext cx="71294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细黑"/>
              </a:rPr>
              <a:t>学习标兵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细黑"/>
              <a:ea typeface="华文细黑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6248520" cy="6172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4720" y="4653000"/>
            <a:ext cx="3059280" cy="2205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560" y="342864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华文中宋"/>
                <a:ea typeface="华文中宋"/>
              </a:rPr>
              <a:t>  </a:t>
            </a:r>
            <a:r>
              <a:rPr b="1" lang="zh-CN" sz="6000" spc="-1" strike="noStrike">
                <a:solidFill>
                  <a:srgbClr val="ff33cc"/>
                </a:solidFill>
                <a:latin typeface="华文中宋"/>
                <a:ea typeface="华文中宋"/>
              </a:rPr>
              <a:t>顾佳懿   汤晓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762120"/>
            <a:ext cx="71294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细黑"/>
              </a:rPr>
              <a:t>干部标兵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细黑"/>
              <a:ea typeface="华文细黑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624852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84720" y="4653000"/>
            <a:ext cx="3059280" cy="2205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240" y="29714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华文中宋"/>
                <a:ea typeface="华文中宋"/>
              </a:rPr>
              <a:t>     </a:t>
            </a:r>
            <a:r>
              <a:rPr b="1" lang="zh-CN" sz="6000" spc="-1" strike="noStrike">
                <a:solidFill>
                  <a:srgbClr val="ff33cc"/>
                </a:solidFill>
                <a:latin typeface="华文中宋"/>
                <a:ea typeface="华文中宋"/>
              </a:rPr>
              <a:t>李灿   陶梦连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380880"/>
            <a:ext cx="71294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细黑"/>
              </a:rPr>
              <a:t>特长标兵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细黑"/>
              <a:ea typeface="华文细黑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87640" cy="1341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5254560" cy="9936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方正姚体"/>
              </a:rPr>
              <a:t>班内“十佳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6858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方正姚体"/>
                <a:ea typeface="方正姚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包李勤 顾佳懿 葛茗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韩太美 汤晓丰 李佳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谭岗峰 曹佳蓓 徐中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张孝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20" y="1767960"/>
            <a:ext cx="9108000" cy="5090040"/>
            <a:chOff x="720" y="1767960"/>
            <a:chExt cx="9108000" cy="5090040"/>
          </a:xfrm>
        </p:grpSpPr>
        <p:grpSp>
          <p:nvGrpSpPr>
            <p:cNvPr id="119" name=""/>
            <p:cNvGrpSpPr/>
            <p:nvPr/>
          </p:nvGrpSpPr>
          <p:grpSpPr>
            <a:xfrm>
              <a:off x="611280" y="1767960"/>
              <a:ext cx="7106760" cy="3605400"/>
              <a:chOff x="611280" y="1767960"/>
              <a:chExt cx="7106760" cy="3605400"/>
            </a:xfrm>
          </p:grpSpPr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98560" y="5084640"/>
                <a:ext cx="662580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898560" y="1767600"/>
                <a:ext cx="6625800" cy="29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983560" y="3489120"/>
                <a:ext cx="3241800" cy="2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" descr=""/>
              <p:cNvPicPr/>
              <p:nvPr/>
            </p:nvPicPr>
            <p:blipFill>
              <a:blip r:embed="rId6"/>
              <a:stretch/>
            </p:blipFill>
            <p:spPr>
              <a:xfrm rot="5400000">
                <a:off x="-865800" y="3458880"/>
                <a:ext cx="3241800" cy="28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" name=""/>
            <p:cNvGrpSpPr/>
            <p:nvPr/>
          </p:nvGrpSpPr>
          <p:grpSpPr>
            <a:xfrm>
              <a:off x="4859280" y="4510080"/>
              <a:ext cx="4249440" cy="2303280"/>
              <a:chOff x="4859280" y="4510080"/>
              <a:chExt cx="4249440" cy="2303280"/>
            </a:xfrm>
          </p:grpSpPr>
          <p:pic>
            <p:nvPicPr>
              <p:cNvPr id="1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847280" y="4510080"/>
                <a:ext cx="1261440" cy="23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478480" y="5444640"/>
                <a:ext cx="736920" cy="122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82640" y="4868640"/>
                <a:ext cx="972720" cy="184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59280" y="5876640"/>
                <a:ext cx="559800" cy="71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38080" y="5300280"/>
                <a:ext cx="833040" cy="134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" name=""/>
            <p:cNvGrpSpPr/>
            <p:nvPr/>
          </p:nvGrpSpPr>
          <p:grpSpPr>
            <a:xfrm>
              <a:off x="720" y="4554360"/>
              <a:ext cx="4066560" cy="2303640"/>
              <a:chOff x="720" y="4554360"/>
              <a:chExt cx="4066560" cy="2303640"/>
            </a:xfrm>
          </p:grpSpPr>
          <p:pic>
            <p:nvPicPr>
              <p:cNvPr id="131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720" y="4554360"/>
                <a:ext cx="120708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2769480" y="5489280"/>
                <a:ext cx="705240" cy="122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1008360" y="4913280"/>
                <a:ext cx="930960" cy="184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531600" y="5921280"/>
                <a:ext cx="535680" cy="71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1950480" y="5344920"/>
                <a:ext cx="797400" cy="134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87640" cy="1341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5254560" cy="9936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方正姚体"/>
              </a:rPr>
              <a:t>进步之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6605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方正姚体"/>
                <a:ea typeface="方正姚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韩太美  葛茗星   包李勤    张孝武  朱静怡   汤晓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李  灿  刘鑫鹏   徐中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刘  伟  李庭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20" y="1767960"/>
            <a:ext cx="9108000" cy="5090040"/>
            <a:chOff x="720" y="1767960"/>
            <a:chExt cx="9108000" cy="5090040"/>
          </a:xfrm>
        </p:grpSpPr>
        <p:grpSp>
          <p:nvGrpSpPr>
            <p:cNvPr id="140" name=""/>
            <p:cNvGrpSpPr/>
            <p:nvPr/>
          </p:nvGrpSpPr>
          <p:grpSpPr>
            <a:xfrm>
              <a:off x="611280" y="1767960"/>
              <a:ext cx="7106760" cy="3605400"/>
              <a:chOff x="611280" y="1767960"/>
              <a:chExt cx="7106760" cy="3605400"/>
            </a:xfrm>
          </p:grpSpPr>
          <p:pic>
            <p:nvPicPr>
              <p:cNvPr id="14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98560" y="5084640"/>
                <a:ext cx="662580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898560" y="1767600"/>
                <a:ext cx="6625800" cy="29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983560" y="3489120"/>
                <a:ext cx="3241800" cy="2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6"/>
              <a:stretch/>
            </p:blipFill>
            <p:spPr>
              <a:xfrm rot="5400000">
                <a:off x="-865800" y="3458880"/>
                <a:ext cx="3241800" cy="28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" name=""/>
            <p:cNvGrpSpPr/>
            <p:nvPr/>
          </p:nvGrpSpPr>
          <p:grpSpPr>
            <a:xfrm>
              <a:off x="4859280" y="4510080"/>
              <a:ext cx="4249440" cy="2303280"/>
              <a:chOff x="4859280" y="4510080"/>
              <a:chExt cx="4249440" cy="2303280"/>
            </a:xfrm>
          </p:grpSpPr>
          <p:pic>
            <p:nvPicPr>
              <p:cNvPr id="1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847280" y="4510080"/>
                <a:ext cx="1261440" cy="23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478480" y="5444640"/>
                <a:ext cx="736920" cy="122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82640" y="4868640"/>
                <a:ext cx="972720" cy="184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59280" y="5876640"/>
                <a:ext cx="559800" cy="71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38080" y="5300280"/>
                <a:ext cx="833040" cy="134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" name=""/>
            <p:cNvGrpSpPr/>
            <p:nvPr/>
          </p:nvGrpSpPr>
          <p:grpSpPr>
            <a:xfrm>
              <a:off x="720" y="4554360"/>
              <a:ext cx="4066560" cy="2303640"/>
              <a:chOff x="720" y="4554360"/>
              <a:chExt cx="4066560" cy="2303640"/>
            </a:xfrm>
          </p:grpSpPr>
          <p:pic>
            <p:nvPicPr>
              <p:cNvPr id="152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720" y="4554360"/>
                <a:ext cx="120708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2769480" y="5489280"/>
                <a:ext cx="705240" cy="122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1008360" y="4913280"/>
                <a:ext cx="930960" cy="184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531600" y="5921280"/>
                <a:ext cx="535680" cy="71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1950480" y="5344920"/>
                <a:ext cx="797400" cy="134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87640" cy="1341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5254560" cy="9936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方正姚体"/>
              </a:rPr>
              <a:t>入团积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630072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方正姚体"/>
                <a:ea typeface="方正姚体"/>
              </a:rPr>
              <a:t>包李勤  顾佳懿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方正姚体"/>
                <a:ea typeface="方正姚体"/>
              </a:rPr>
              <a:t>葛茗星  汤晓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方正姚体"/>
                <a:ea typeface="方正姚体"/>
              </a:rPr>
              <a:t>谭岗峰  李佳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20" y="1767960"/>
            <a:ext cx="9108000" cy="5090040"/>
            <a:chOff x="720" y="1767960"/>
            <a:chExt cx="9108000" cy="5090040"/>
          </a:xfrm>
        </p:grpSpPr>
        <p:grpSp>
          <p:nvGrpSpPr>
            <p:cNvPr id="161" name=""/>
            <p:cNvGrpSpPr/>
            <p:nvPr/>
          </p:nvGrpSpPr>
          <p:grpSpPr>
            <a:xfrm>
              <a:off x="611280" y="1767960"/>
              <a:ext cx="7106760" cy="3605400"/>
              <a:chOff x="611280" y="1767960"/>
              <a:chExt cx="7106760" cy="3605400"/>
            </a:xfrm>
          </p:grpSpPr>
          <p:pic>
            <p:nvPicPr>
              <p:cNvPr id="1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98560" y="5084640"/>
                <a:ext cx="662580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898560" y="1767600"/>
                <a:ext cx="6625800" cy="29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983560" y="3489120"/>
                <a:ext cx="3241800" cy="2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6"/>
              <a:stretch/>
            </p:blipFill>
            <p:spPr>
              <a:xfrm rot="5400000">
                <a:off x="-865800" y="3458880"/>
                <a:ext cx="3241800" cy="28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"/>
            <p:cNvGrpSpPr/>
            <p:nvPr/>
          </p:nvGrpSpPr>
          <p:grpSpPr>
            <a:xfrm>
              <a:off x="4859280" y="4510080"/>
              <a:ext cx="4249440" cy="2303280"/>
              <a:chOff x="4859280" y="4510080"/>
              <a:chExt cx="4249440" cy="2303280"/>
            </a:xfrm>
          </p:grpSpPr>
          <p:pic>
            <p:nvPicPr>
              <p:cNvPr id="16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847280" y="4510080"/>
                <a:ext cx="1261440" cy="23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478480" y="5444640"/>
                <a:ext cx="736920" cy="122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82640" y="4868640"/>
                <a:ext cx="972720" cy="184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59280" y="5876640"/>
                <a:ext cx="559800" cy="71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38080" y="5300280"/>
                <a:ext cx="833040" cy="134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2" name=""/>
            <p:cNvGrpSpPr/>
            <p:nvPr/>
          </p:nvGrpSpPr>
          <p:grpSpPr>
            <a:xfrm>
              <a:off x="720" y="4554360"/>
              <a:ext cx="4066560" cy="2303640"/>
              <a:chOff x="720" y="4554360"/>
              <a:chExt cx="4066560" cy="230364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720" y="4554360"/>
                <a:ext cx="120708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2769480" y="5489280"/>
                <a:ext cx="705240" cy="122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1008360" y="4913280"/>
                <a:ext cx="930960" cy="184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531600" y="5921280"/>
                <a:ext cx="535680" cy="71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1950480" y="5344920"/>
                <a:ext cx="797400" cy="134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979640" y="6094440"/>
            <a:ext cx="5256360" cy="503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848720" y="5614920"/>
            <a:ext cx="1295280" cy="1243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 flipH="1">
            <a:off x="0" y="5473800"/>
            <a:ext cx="1447920" cy="1384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981080" y="0"/>
            <a:ext cx="496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优秀课代表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590920"/>
            <a:ext cx="7162560" cy="239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宋体"/>
              </a:rPr>
              <a:t>    </a:t>
            </a:r>
            <a:r>
              <a:rPr b="1" lang="zh-CN" sz="6000" spc="-1" strike="noStrike">
                <a:solidFill>
                  <a:srgbClr val="d60093"/>
                </a:solidFill>
                <a:latin typeface="宋体"/>
              </a:rPr>
              <a:t>曹佳蓓 黄泽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20" y="1767960"/>
            <a:ext cx="9108000" cy="5090040"/>
            <a:chOff x="720" y="1767960"/>
            <a:chExt cx="9108000" cy="5090040"/>
          </a:xfrm>
        </p:grpSpPr>
        <p:grpSp>
          <p:nvGrpSpPr>
            <p:cNvPr id="184" name=""/>
            <p:cNvGrpSpPr/>
            <p:nvPr/>
          </p:nvGrpSpPr>
          <p:grpSpPr>
            <a:xfrm>
              <a:off x="611280" y="1767960"/>
              <a:ext cx="7106760" cy="3605400"/>
              <a:chOff x="611280" y="1767960"/>
              <a:chExt cx="7106760" cy="3605400"/>
            </a:xfrm>
          </p:grpSpPr>
          <p:pic>
            <p:nvPicPr>
              <p:cNvPr id="1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98560" y="5084640"/>
                <a:ext cx="662580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898560" y="1767600"/>
                <a:ext cx="6625800" cy="29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5983560" y="3489120"/>
                <a:ext cx="3241800" cy="2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7"/>
              <a:stretch/>
            </p:blipFill>
            <p:spPr>
              <a:xfrm rot="5400000">
                <a:off x="-865800" y="3458880"/>
                <a:ext cx="3241800" cy="28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"/>
            <p:cNvGrpSpPr/>
            <p:nvPr/>
          </p:nvGrpSpPr>
          <p:grpSpPr>
            <a:xfrm>
              <a:off x="4859280" y="4510080"/>
              <a:ext cx="4249440" cy="2303280"/>
              <a:chOff x="4859280" y="4510080"/>
              <a:chExt cx="4249440" cy="2303280"/>
            </a:xfrm>
          </p:grpSpPr>
          <p:pic>
            <p:nvPicPr>
              <p:cNvPr id="19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847280" y="4510080"/>
                <a:ext cx="1261440" cy="23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478480" y="5444640"/>
                <a:ext cx="736920" cy="122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82640" y="4868640"/>
                <a:ext cx="972720" cy="184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59280" y="5876640"/>
                <a:ext cx="559800" cy="71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38080" y="5300280"/>
                <a:ext cx="833040" cy="134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720" y="4554360"/>
              <a:ext cx="4066560" cy="2303640"/>
              <a:chOff x="720" y="4554360"/>
              <a:chExt cx="4066560" cy="2303640"/>
            </a:xfrm>
          </p:grpSpPr>
          <p:pic>
            <p:nvPicPr>
              <p:cNvPr id="196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720" y="4554360"/>
                <a:ext cx="120708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769480" y="5489280"/>
                <a:ext cx="705240" cy="122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1008360" y="4913280"/>
                <a:ext cx="930960" cy="184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3531600" y="5921280"/>
                <a:ext cx="535680" cy="71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1950480" y="5344920"/>
                <a:ext cx="797400" cy="134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75438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但同时，我们也发现了一些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不足之处</a:t>
            </a: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, 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48000" y="220500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作业存在迟交或不交作业现象。极个别学生屡次不交作业或不完成作业现象严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作业马虎差错多，没有养成及时订正巩固的习惯，导致做过的练习屡做屡错。对作业或错题订正应付了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按要求做练习、作业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没能合理安排时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　有决心没恒心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　课后学习时间没有保证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时间利用率不高。特别是周六、日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在家放任自流，有个别甚至整天看电视打游戏，或在外游荡不回家，进入网吧等，导致作业质量特别差。这方面问题尤其需要得到家长的关注和配合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基础训练不够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停留在上课懂就行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课后不及时巩固。部分同学不重视读背的作业，导致常常重默，文科成绩上不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自觉性不强，老师在与不在不能做到一样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上课不能集中精神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个别存在开小差、走神、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小动作、插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等现象。部分学生课间不能静心休息，容易受干扰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爱讲闲话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能利用课余时间及时完成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．个别同学过于骄傲，认为自己小学时成绩不错，学习上不太肯用功钻研，以致学习没有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尊敬的各位家长：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晚上好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您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们能够在百忙之中抽出宝贵时间来参加我校召开的家长会，我代表本班全体任课教师向您们表示衷心地感谢！感谢您们对我校工作的大力支持和配合！</a:t>
            </a:r>
            <a:r>
              <a:rPr b="1" lang="zh-CN" sz="3800" spc="-1" strike="noStrike">
                <a:solidFill>
                  <a:srgbClr val="ff3300"/>
                </a:solidFill>
                <a:latin typeface="Arial"/>
                <a:ea typeface="华文中宋"/>
              </a:rPr>
              <a:t>希望我们彼此能在今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  <a:ea typeface="华文中宋"/>
              </a:rPr>
              <a:t>　天有一个良好的沟通和交流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4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6058080"/>
            <a:ext cx="3676680" cy="799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924680" y="685800"/>
            <a:ext cx="34308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523880"/>
            <a:ext cx="8153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2-1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岁年龄段上，教育学和心理学把这一阶段称为“少年期”。这段时间心理和生理变化比较迅速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身心各方面都比较矛盾。对于这一时期，家长要有心理准备。要高度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重视对这一关键期和危险期的监护和把关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这一时期他们精力充沛，好奇心强，任何事总想试一试，但他们的愿望与自己的实际能力有很大的矛盾，他们的独立性增强了，总认为自己不是孩子了，总想摆脱对教师和家长的依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762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初中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阶段学生的心理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6029280"/>
            <a:ext cx="914400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600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他们有事不愿和父母及师长交流，处于一种半封闭状态，和同龄人诉说又冒着曝光的危险，所以他们感觉没有朋友没有人可以理解他们，特别是处于青春期的女生这种感觉会更加强烈。他们的情感很脆弱，最容易冲动，做事莽撞，后果意识能力差。常有人称这一时期为“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青春叛逆期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8380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初中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阶段学生的心理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6029280"/>
            <a:ext cx="914400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12952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一时期的另一显著特点是生理发育的逐步成熟，他们因此感到羞涩和不安，不愿让父母进自己的房间，有了自己的秘密。心理上的表现是容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奋和冲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神经敏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，大多数早恋的孩子都是发生在这一时期，作为家长要高度重视，决不能有不良的刺激对孩子产生影响，要注意从家庭生活到电影电视节目，一定要有适度的选择。他们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自我抑制能力在这段时间最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，所以父母一定要加强教育和引导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6005520"/>
            <a:ext cx="9144000" cy="852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80880" y="8380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初中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中宋"/>
              </a:rPr>
              <a:t>阶段学生的心理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09480" y="2514600"/>
            <a:ext cx="6248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中学的课程内容增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中学的课程难度加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进入中学，学习压力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竞争激烈</a:t>
            </a:r>
            <a:r>
              <a:rPr b="1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各科考试变频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作业量增多</a:t>
            </a:r>
            <a:r>
              <a:rPr b="1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对学生要求更严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对学生自学能力有更高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990720"/>
            <a:ext cx="5105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三、小学与初中的不同之处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1143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学习方法上，由于小学的学习内容多为常识，要求记忆的多，理解的少，故死记硬背成为小学生的主要学习方法。而中学则要求学生对所学的知识在能够理解基础上记忆，记忆基础上灵活运用。初中阶段，老师们不再像对小学生那样，手把手地指导学生。随着学科的多样化、深刻化、要求初中生的学习具备较强的主动性、自觉性和独立性，积极主动去安排学习计划，养成良好的学习习惯，摸索适合自己的科学的学习方法，形成一定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自学能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828800" y="228600"/>
            <a:ext cx="5105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三、小学与初中的不同之处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四、如何教育好孩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学校最重大的事是教育孩子，一个家庭最重要的事同样也是教育孩子。而往往我们当中有很多家长会认为，孩子上了学，吃穿问题由家长解决，而教育问题全部由教师去管。这种观点是不对的，你想，同样一个教师在同样一个班级上课，为什么有的学生学习成绩好，而有的学生学习成绩差一些呢？这其中关键在于家庭教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114300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43000" y="762120"/>
            <a:ext cx="72388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父母是孩子的第一任老师，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也是最好的老师。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057400" cy="3124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715000" y="3876840"/>
            <a:ext cx="3429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rcRect l="0" t="6862" r="0" b="67255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95280" y="189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琥珀"/>
                <a:ea typeface="华文琥珀"/>
              </a:rPr>
              <a:t>家庭教育五大误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514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  <a:ea typeface="华文新魏"/>
              </a:rPr>
              <a:t>2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过分干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许多家长认为，初中是一个关键的时刻，孩子要一门心思的学习，不许做任何与学习无关的事情，对孩子的自由加以限制，这样可能会适得其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49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  <a:ea typeface="华文新魏"/>
              </a:rPr>
              <a:t>3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过分期待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对孩子的期望值过高，容易挫伤孩子的自信心，产生自暴自弃的念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  <a:ea typeface="华文新魏"/>
              </a:rPr>
              <a:t>1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过分保护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把孩子重点保护起来，全家围绕着孩子转，这样会给孩子造成很大的心理压力，增加孩子的负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6862" r="0" b="67255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95280" y="189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琥珀"/>
                <a:ea typeface="华文琥珀"/>
              </a:rPr>
              <a:t>家庭教育五大误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276720"/>
            <a:ext cx="8915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过多的零用钱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少数同学往往不是用于学习和营养方面，而是用于非正常消费。对自觉性较差的同学来说钱多并不是好事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手里的零用钱多了，往往会不加节制，容易养成大手大脚，相互攀比等不良社会风气，或被居心不良的人所诱惑，甚至误入歧途。所以对孩子的零用钱家长要有所控制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121932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过分放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对孩子的表现漠不关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甚至对孩子已经表现出来的影响孩子健康成长的思想习惯不闻不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错过了教育的时机。发展到一定的时候已经无法管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悔之晚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50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如何能做一个称职的家长，在</a:t>
            </a:r>
            <a:r>
              <a:rPr b="1" lang="zh-CN" sz="6000" spc="-1" strike="noStrike">
                <a:solidFill>
                  <a:srgbClr val="00cc00"/>
                </a:solidFill>
                <a:latin typeface="Arial"/>
              </a:rPr>
              <a:t>品行，性格，学习</a:t>
            </a: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方面对孩子进行良好的教育和影响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838080"/>
            <a:ext cx="73152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此次家长会的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19807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、班级情况汇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二、初中阶段学生的心理状态分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三、讨论小学与初中的不同之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四、探讨教育孩子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676520" y="68580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幼圆"/>
                <a:ea typeface="幼圆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幼圆"/>
                <a:ea typeface="幼圆"/>
              </a:rPr>
              <a:t>、努力帮助孩子尽快适应初中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21337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安排好作息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2819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督促孩子做好预习、复习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35053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有选择地看课外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191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）引导孩子掌握良好的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２、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培养孩子良好的品行习惯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良好习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养成非常重要，包括学习习惯、思维习惯、生活习惯、饮食习惯、卫生习惯、文明礼貌的习惯、勤俭节约的习惯等，这些都有助于孩子的成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此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培养良好的习惯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要从小时抓起，从小事抓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6248520"/>
            <a:ext cx="8610480" cy="361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86800" cy="36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8610480" y="228600"/>
            <a:ext cx="355680" cy="6172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355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380880"/>
            <a:ext cx="84582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良好的学习习惯要求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认真完成作业的习惯，做完作业细心检查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上课认真听讲的习惯，认真记笔记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勤于思考、刻苦钻研、敢于竞争、不懂就问的习惯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在规定时间内学习的习惯，善于支配时间，学会制定计划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现在就行动的习惯，力戒拖延磨蹭，做事心不在焉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阅读课外书的习惯，写读书笔记、摘抄的习惯，使用工具书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复习旧课和预习新课的习惯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良好的考试习惯，及时总结反思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对不良行为的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不良行为要及时地预防和矫治。而常见的、多发的、容易诱发孩子犯罪的不良行为概括起来有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种，它们是：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与品行不正的人交朋友；旷课、夜不归宿；携带管制刀具；吸烟；打架、斗殴、辱骂他人；强行向他人索要财物；偷窃或故意损害公共财物；参与赌博或变相赌博；观看、收听不良内容的音像制品读物；进入法律规定的未成年人不适合进入的营业性歌舞厅、电子游戏厅、网吧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所以希望家长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监督学生课余假期上网吧、游戏室、看课外读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现象，要求学生在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合理利用时间，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有节制地看电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更要注意孩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与哪些人交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及时发现苗头加以制止，每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放学回家的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要关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３、家长要多一些时间和耐心去和孩子交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并不仅仅满足家长物质上的给与，学生需要的是和家长的真诚交流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往往一个学生学习的动力来源与家长的期望，家长要经常性的了解学生的学习情况，在学校表现情况，和学生共同制订学习目标。家长要更多一点的投入精力关心学生的学习。对学生的学习过程进行管理，了解知道孩子什么时间该上学，什么时间放学，一天学习多长时间，完成没完成老师布置的作业。这样，孩子感受到家长对其学习的关注，当然在学习上就会非常用功，努力把学习搞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6005520"/>
            <a:ext cx="91440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14400" y="1143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尽量保证每天与孩子的及时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18288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了解在校学习以及与同学相处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2438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掌握思想动态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,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及时给予关心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、鼓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4343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关注其身体状况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,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饮食均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3733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生活上严格要求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,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把握尺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124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客观分析孩子的成绩，多关注学习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有的家长总是说，工作太忙，我说，家长再忙，又是为了什么？现在有许多的家长把精力用在为孩子攒钱，为孩子攒这个，为孩子攒哪个，那你有没有想过用你现在的精力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孩子攒个大学文凭，攒个孩子将来吃饭的好饭碗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?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再说你一生又能有多少时间用来陪子女呢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?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家长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</a:rPr>
              <a:t>对教育的投资是最明智的投资，是回报率最高的投资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，所以我认为家长同志应该和孩子共同努力，把精力更多的投入到关心孩子的学习中去，把孩子培养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４、家长要言传身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有些家长常常对孩子说，不能看电视，而他们自己却在看电视、打牌、打麻将等，不但容易引起孩子的反感，也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影响孩子的学习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晚上在家看看新闻报纸，看一些专栏节目。这样，孩子从小便养成了一个勤于学习的习惯。 </a:t>
            </a:r>
            <a:br>
              <a:rPr sz="3200"/>
            </a:b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随着孩子年龄的增长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父母的知识就很难全面满足孩子的需求，这是必然的。所以父母所能提供的，便是一种学习的习惯，坚持学习的毅力，这是孩子受益无穷的精神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3716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５、给孩子一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良好的学习环境</a:t>
            </a:r>
            <a:r>
              <a:rPr b="1" lang="zh-CN" sz="4000" spc="-1" strike="noStrike">
                <a:solidFill>
                  <a:srgbClr val="33cc33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   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能家长要问，你让我们更多的关心孩子，但我们不缺他的吃穿，学习上我们又使不上劲，这不是为难我们么？我说不是这样，学生学习的好坏关键是我们能不能给他提供一个好的学习环境。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  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905600" y="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、班级情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任课老师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语文：潘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老师——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39153004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数学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孟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老师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34042786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英语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黄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老师——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36215203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们的任课老师都很认真负责，教学和管理经验丰富，工作态度和作风过硬。我们精心设计每一堂课，批改每一次作业，耐心解答学生的每一个疑难问题，我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不怕学生的万万次请教，就担心学生不问一次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我代表初一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班的所有任课教师表示，我们有信心能够把我们的教学工作做得更好，把你们的孩子我们的学生管理好教育好。我们深知责任重大，会千方百计把教育学生的工作干好，想方设法要把学生的学习成绩搞上去。这一点请家长们放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2590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732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人说教师的孩子往往读书会很好，其实教师的孩子在智力上根本没有优势，关键是当教师的父母往往更注重孩子的家庭教育，往往注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给孩子创造一个学习的良好环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良好的学习环境需要安静，有的家庭上网，打麻将、打扑克，看电视都会影响孩子的学习。最好单独给孩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供一个学习的空间，一间屋子，一张桌子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孩子远离干扰。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33520" y="6095880"/>
            <a:ext cx="80010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６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、多与教师进行交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家长了解学生的学习情况往往不如教师了解得多，何况有的学生向家长汇报假情报，不说真话。所以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要想家庭和学校双方面共同对孩子的教育有所促进，家长同志们就要更多的和我们的教师进行交流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家长和教师进行交流的方法很多，比如平常你可以到学校找找班主任，也可以和教师通过电话进行联系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各位家长想了解孩子在校的情况，可以打电话到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1362152035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与我联系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每次考试完后，我们都要问一问学生的学习情况，乃至学生在学校的表现情况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家长和教师进行的交流会直接影响孩子的学习积极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７、要重视心理健康、全面发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家长对孩子的身体备加呵护，却忽视了孩子的心理健康。思想道德素养非常重要，有专家指出：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习不好是次品，身体不好是废品，心理不好是危险品，思想不好是危害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。 要教育孩子怎样做人，关心孩子的思想动态，  使孩子有正确的思想导向、明确的奋斗目标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多培养孩子的进取心、责任感和吃苦耐劳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学生精力充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避免他们受到不良诱惑而误入歧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余应该适当参加一些有益身心的活动和锻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展爱好和特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每个学生都能展示出自己的个性和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展示自己才能的机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锻炼自己的能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各方面均衡发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时也能陶冶情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扩大知识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加丰富和完善自己。 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04920" y="6095880"/>
            <a:ext cx="8610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4194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305920" cy="60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８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不要过分娇惯孩子。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觉得过于娇惯孩子，怕孩子吃苦，这是家长的共性。事实上学生的学习确实很苦，但有几个不靠吃苦考上重点的天才呢？况且你有没有想过这样孩子眼前确实是不吃苦，不受累，不缺钱花了，可是孩子缺少与困难抗争的经验和能力，将来遇到困难怎么办？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面对竟争激烈的现代社会，没有吃苦精神的人将来能在社会中站稳脚跟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此家长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坚决拒绝孩子的无理要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-112680" y="0"/>
            <a:ext cx="937116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5943240"/>
            <a:ext cx="781200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371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另外，有关交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安全问题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，有必要提一下，因为现在天气一天天变冷了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早晚路上和在家都要注意，有条件的家长最好每天接送一下。特别应该经常叮嘱骑车到校的同学，早晚不骑快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病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英雄车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不要因为一时大意而后悔莫及，影响你们孩子的身体甚至生命安全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899172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我校目前放学时间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00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左右，周六周日成教培训结束时间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每月进行一次综合检测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我们会以口头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、书面或电话等方式告知各位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请家长及时给予关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希望家长每天能认真检查孩子的作业，如发现错误、少做或不认真现象，请及时给予纠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部分基础较差的同学建议家长在星期六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给孩子进行特别辅导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抓好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家长须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899172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老师有自己的一套管理教育方法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请家长给予充分理解和配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有不赞同的地方请及时沟通意见。要知道你的尊重与否会影响老师在孩子心目中的位置，你的理解和配合是教育好你孩子的前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天气逐渐转冷，希望家长叮嘱孩子带足衣物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注意保暖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预防感冒。平时注意个人卫生，积极预防流感等疾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家长须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家长同志们，我们的目标是统一的，我们的任务是一致的，愿我们相互合作，把我们的学生，您的孩子，培养成学习勤奋，品质优良的优秀人才，为将来学生的升学、就业、乃至整个人生的发展打下坚实的良好的基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52280" y="5181480"/>
            <a:ext cx="89917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1600200"/>
            <a:ext cx="73533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        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教育孩子的前提是了解孩子。</a:t>
            </a:r>
            <a:br>
              <a:rPr sz="3200"/>
            </a:br>
            <a:r>
              <a:rPr b="1" lang="en-US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     赏识才能成功，抱怨导致失败。</a:t>
            </a:r>
            <a:br>
              <a:rPr sz="3200"/>
            </a:br>
            <a:r>
              <a:rPr b="1" lang="en-US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     让我们共同携起手来，培养出健康、自律、好学、上进的新一代吧！</a:t>
            </a:r>
            <a:br>
              <a:rPr sz="3200"/>
            </a:br>
            <a:r>
              <a:rPr b="1" lang="en-US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     尊重孩子，了解孩子，与孩子沟通是我们教育好孩子，培养孩子健康人格的前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1066680"/>
            <a:ext cx="71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彩云"/>
              </a:rPr>
              <a:t>亲爱的家长，请记住以下几句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848720" y="228600"/>
            <a:ext cx="998280" cy="1727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295280" y="6072120"/>
            <a:ext cx="7010640" cy="5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324000" y="907920"/>
            <a:ext cx="853416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0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让孩子成为敢于搏击风浪的海燕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而不是温室中的花朵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3505320"/>
            <a:ext cx="8223120" cy="19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>
                    <a:alpha val="61000"/>
                  </a:srgbClr>
                </a:solidFill>
                <a:latin typeface="宋体"/>
              </a:rPr>
              <a:t>感谢您的指导！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>
                  <a:alpha val="61000"/>
                </a:srgbClr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>
                    <a:alpha val="61000"/>
                  </a:srgbClr>
                </a:solidFill>
                <a:latin typeface="宋体"/>
              </a:rPr>
              <a:t>    </a:t>
            </a:r>
            <a:r>
              <a:rPr b="0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>
                    <a:alpha val="61000"/>
                  </a:srgbClr>
                </a:solidFill>
                <a:latin typeface="宋体"/>
              </a:rPr>
              <a:t>孩子的进步是我们共同的心愿！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>
                  <a:alpha val="61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343400" y="30481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247213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86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．班级动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开学之初，我首先加强对学生进行良好行为习惯的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养成教育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通过教育，学生上学能够按时到校，每节课能够提前进教室进入学习状态，自习课保持安静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课间无追逐打闹现象，在校期间秩序井然。无论是纪律、卫生或是学习方面，都非常优秀。通过严格要求，有了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良好的学风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也形成了相互理解相互尊重的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融洽的师生关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04760" y="1218960"/>
            <a:ext cx="5638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</a:rPr>
              <a:t>请</a:t>
            </a: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学生代表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班长</a:t>
            </a:r>
            <a:r>
              <a:rPr b="1" lang="zh-CN" sz="5400" spc="-1" strike="noStrike" u="sng">
                <a:solidFill>
                  <a:srgbClr val="333399"/>
                </a:solidFill>
                <a:uFillTx/>
                <a:latin typeface="Arial"/>
              </a:rPr>
              <a:t>顾晓静</a:t>
            </a:r>
            <a:r>
              <a:rPr b="1" lang="zh-CN" sz="5400" spc="-1" strike="noStrike">
                <a:solidFill>
                  <a:srgbClr val="cc0066"/>
                </a:solidFill>
                <a:latin typeface="Arial"/>
              </a:rPr>
              <a:t>发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35812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ff0000"/>
                </a:solidFill>
                <a:latin typeface="Arial"/>
                <a:ea typeface="幼圆"/>
              </a:rPr>
              <a:t>生活卫生习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6629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Arial"/>
              </a:rPr>
              <a:t>良好的生活卫生习惯与孩子的身心健康有着直接的关系，有规律的生活有助于培养乐观的性格、顽强的毅力、勇敢的进取精神。它包括：饮食起居习惯，体育锻炼习惯，个人卫生习惯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105520"/>
            <a:ext cx="934920" cy="86508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9933">
                  <a:alpha val="74117"/>
                </a:srgbClr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1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良好的学习习惯是提高学习有效的必要条件，一个具有良好学习习惯的学生，即使智力平平，也同样能走上成才之路。它包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676520" y="533520"/>
            <a:ext cx="39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良好的学习习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4" name="Litebulb"/>
          <p:cNvSpPr/>
          <p:nvPr/>
        </p:nvSpPr>
        <p:spPr>
          <a:xfrm>
            <a:off x="7020000" y="5734080"/>
            <a:ext cx="387360" cy="3650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1266840" cy="119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劳动是人生的必修课，我们要有意识、有目的地让孩子经常参加一些力所能及的家务劳动，将会对孩子的成长起到有益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劳动可以培养孩子的观察能力、分析能力、判断能力、创造能力和动手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劳动能培养孩子勤快、主动的工作态度，能锻炼孩子吃苦耐劳、克服困难的坚强意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劳动可以培养孩子珍惜劳动果实，养成勤俭节约的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劳动有益于孩子大脑的开发，促进逻辑思维和形象思维的发展，有助于学习能力的提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劳动能培养孩子自己创造整洁的学习和生活环境的能力，从中感受到劳动能创造美好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514600" y="380880"/>
            <a:ext cx="432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劳动的习惯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867280"/>
            <a:ext cx="504720" cy="432000"/>
          </a:xfrm>
          <a:custGeom>
            <a:avLst/>
            <a:gdLst>
              <a:gd name="textAreaLeft" fmla="*/ 118440 w 504720"/>
              <a:gd name="textAreaRight" fmla="*/ 385920 w 50472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5943600" cy="32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讲文明语言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礼貌待人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敬老爱幼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与同伴和睦相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066680"/>
            <a:ext cx="58323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文明礼貌的习惯</a:t>
            </a:r>
            <a:endParaRPr b="0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229600" y="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0" y="990720"/>
            <a:ext cx="8508600" cy="1294920"/>
            <a:chOff x="0" y="990720"/>
            <a:chExt cx="8508600" cy="1294920"/>
          </a:xfrm>
        </p:grpSpPr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0" y="1314360"/>
              <a:ext cx="590400" cy="86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 txBox="1"/>
            <p:nvPr/>
          </p:nvSpPr>
          <p:spPr>
            <a:xfrm>
              <a:off x="665280" y="990720"/>
              <a:ext cx="7843320" cy="1294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ln w="9360">
                    <a:solidFill>
                      <a:srgbClr val="00ff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课前准备到位。能把上课物品在桌面</a:t>
              </a:r>
              <a:endParaRPr b="1" lang="en-US" sz="2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ln w="9360">
                    <a:solidFill>
                      <a:srgbClr val="00ff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摆放好，安静地等待老师来上课。</a:t>
              </a:r>
              <a:endParaRPr b="1" lang="en-US" sz="2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ln w="9360">
                    <a:solidFill>
                      <a:srgbClr val="00ff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特别是陆飞</a:t>
              </a:r>
              <a:r>
                <a:rPr b="1" lang="en-US" sz="2800" spc="-1" strike="noStrike">
                  <a:ln w="9360">
                    <a:solidFill>
                      <a:srgbClr val="00ff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 </a:t>
              </a:r>
              <a:r>
                <a:rPr b="1" lang="zh-CN" sz="2800" spc="-1" strike="noStrike">
                  <a:ln w="9360">
                    <a:solidFill>
                      <a:srgbClr val="00ff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朱涌</a:t>
              </a:r>
              <a:r>
                <a:rPr b="1" lang="en-US" sz="2800" spc="-1" strike="noStrike">
                  <a:ln w="9360">
                    <a:solidFill>
                      <a:srgbClr val="00ff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 </a:t>
              </a:r>
              <a:r>
                <a:rPr b="1" lang="zh-CN" sz="2800" spc="-1" strike="noStrike">
                  <a:ln w="9360">
                    <a:solidFill>
                      <a:srgbClr val="00ff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朱文武</a:t>
              </a:r>
              <a:r>
                <a:rPr b="1" lang="en-US" sz="2800" spc="-1" strike="noStrike">
                  <a:ln w="9360">
                    <a:solidFill>
                      <a:srgbClr val="00ff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</a:t>
              </a:r>
              <a:r>
                <a:rPr b="1" lang="zh-CN" sz="2800" spc="-1" strike="noStrike">
                  <a:ln w="9360">
                    <a:solidFill>
                      <a:srgbClr val="00ff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俞烽等同学。</a:t>
              </a:r>
              <a:endParaRPr b="1" lang="en-US" sz="28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0" y="-25560"/>
            <a:ext cx="2592360" cy="1005120"/>
            <a:chOff x="0" y="-25560"/>
            <a:chExt cx="2592360" cy="1005120"/>
          </a:xfrm>
        </p:grpSpPr>
        <p:pic>
          <p:nvPicPr>
            <p:cNvPr id="338" name="" descr=""/>
            <p:cNvPicPr/>
            <p:nvPr/>
          </p:nvPicPr>
          <p:blipFill>
            <a:blip r:embed="rId3"/>
            <a:stretch/>
          </p:blipFill>
          <p:spPr>
            <a:xfrm>
              <a:off x="0" y="-25560"/>
              <a:ext cx="259236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 txBox="1"/>
            <p:nvPr/>
          </p:nvSpPr>
          <p:spPr>
            <a:xfrm>
              <a:off x="539640" y="45360"/>
              <a:ext cx="1511280" cy="86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993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新魏"/>
                </a:rPr>
                <a:t>学习</a:t>
              </a:r>
              <a:endPara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0" y="2349360"/>
            <a:ext cx="8892720" cy="1307880"/>
            <a:chOff x="0" y="2349360"/>
            <a:chExt cx="8892720" cy="1307880"/>
          </a:xfrm>
        </p:grpSpPr>
        <p:pic>
          <p:nvPicPr>
            <p:cNvPr id="341" name="" descr=""/>
            <p:cNvPicPr/>
            <p:nvPr/>
          </p:nvPicPr>
          <p:blipFill>
            <a:blip r:embed="rId4"/>
            <a:stretch/>
          </p:blipFill>
          <p:spPr>
            <a:xfrm>
              <a:off x="0" y="2658240"/>
              <a:ext cx="601200" cy="82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 txBox="1"/>
            <p:nvPr/>
          </p:nvSpPr>
          <p:spPr>
            <a:xfrm>
              <a:off x="677520" y="2349360"/>
              <a:ext cx="8215200" cy="13078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ff33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课堂上，能积极与老师配合，积极向老</a:t>
              </a:r>
              <a:endParaRPr b="1" lang="en-US" sz="18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ff33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师提问，上好每一节课，并且做好笔记。</a:t>
              </a:r>
              <a:endParaRPr b="1" lang="en-US" sz="18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ff33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如周馨怡</a:t>
              </a:r>
              <a:r>
                <a:rPr b="1" lang="en-US" sz="1800" spc="-1" strike="noStrike">
                  <a:ln w="9360">
                    <a:solidFill>
                      <a:srgbClr val="ff33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  </a:t>
              </a:r>
              <a:r>
                <a:rPr b="1" lang="zh-CN" sz="1800" spc="-1" strike="noStrike">
                  <a:ln w="9360">
                    <a:solidFill>
                      <a:srgbClr val="ff33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闻智勇</a:t>
              </a:r>
              <a:r>
                <a:rPr b="1" lang="en-US" sz="1800" spc="-1" strike="noStrike">
                  <a:ln w="9360">
                    <a:solidFill>
                      <a:srgbClr val="ff33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 </a:t>
              </a:r>
              <a:r>
                <a:rPr b="1" lang="zh-CN" sz="1800" spc="-1" strike="noStrike">
                  <a:ln w="9360">
                    <a:solidFill>
                      <a:srgbClr val="ff33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朱静玉</a:t>
              </a:r>
              <a:r>
                <a:rPr b="1" lang="en-US" sz="1800" spc="-1" strike="noStrike">
                  <a:ln w="9360">
                    <a:solidFill>
                      <a:srgbClr val="ff33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 </a:t>
              </a:r>
              <a:r>
                <a:rPr b="1" lang="zh-CN" sz="1800" spc="-1" strike="noStrike">
                  <a:ln w="9360">
                    <a:solidFill>
                      <a:srgbClr val="ff33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盛栋栋等。 </a:t>
              </a:r>
              <a:endParaRPr b="1" lang="en-US" sz="18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0" y="3733920"/>
            <a:ext cx="9143640" cy="1599840"/>
            <a:chOff x="0" y="3733920"/>
            <a:chExt cx="9143640" cy="1599840"/>
          </a:xfrm>
        </p:grpSpPr>
        <p:pic>
          <p:nvPicPr>
            <p:cNvPr id="344" name="" descr=""/>
            <p:cNvPicPr/>
            <p:nvPr/>
          </p:nvPicPr>
          <p:blipFill>
            <a:blip r:embed="rId5"/>
            <a:stretch/>
          </p:blipFill>
          <p:spPr>
            <a:xfrm>
              <a:off x="0" y="4124160"/>
              <a:ext cx="628920" cy="87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 txBox="1"/>
            <p:nvPr/>
          </p:nvSpPr>
          <p:spPr>
            <a:xfrm>
              <a:off x="733320" y="3733920"/>
              <a:ext cx="8410320" cy="15998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自习时，能在规定的时间独立</a:t>
              </a:r>
              <a:endParaRPr b="1" lang="en-US" sz="1800" spc="-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完成作业，并做到不干扰他人。</a:t>
              </a:r>
              <a:endParaRPr b="1" lang="en-US" sz="1800" spc="-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如俞晓怡</a:t>
              </a:r>
              <a:r>
                <a:rPr b="1" lang="en-US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 </a:t>
              </a:r>
              <a:r>
                <a:rPr b="1" lang="zh-CN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顾新蕾</a:t>
              </a:r>
              <a:r>
                <a:rPr b="1" lang="en-US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 </a:t>
              </a:r>
              <a:r>
                <a:rPr b="1" lang="zh-CN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曹诗琦</a:t>
              </a:r>
              <a:r>
                <a:rPr b="1" lang="en-US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 </a:t>
              </a:r>
              <a:endParaRPr b="1" lang="en-US" sz="1800" spc="-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陈杰</a:t>
              </a:r>
              <a:r>
                <a:rPr b="1" lang="en-US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 </a:t>
              </a:r>
              <a:r>
                <a:rPr b="1" lang="zh-CN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任婷</a:t>
              </a:r>
              <a:r>
                <a:rPr b="1" lang="en-US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 </a:t>
              </a:r>
              <a:r>
                <a:rPr b="1" lang="zh-CN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罗莲娜</a:t>
              </a:r>
              <a:r>
                <a:rPr b="1" lang="en-US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 </a:t>
              </a:r>
              <a:r>
                <a:rPr b="1" lang="zh-CN" sz="1800" spc="-1" strike="noStrike">
                  <a:ln w="9360">
                    <a:solidFill>
                      <a:srgbClr val="008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施晓蓉等。</a:t>
              </a:r>
              <a:endParaRPr b="1" lang="en-US" sz="1800" spc="-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0" y="5410080"/>
            <a:ext cx="9143640" cy="1218960"/>
            <a:chOff x="0" y="5410080"/>
            <a:chExt cx="9143640" cy="1218960"/>
          </a:xfrm>
        </p:grpSpPr>
        <p:sp>
          <p:nvSpPr>
            <p:cNvPr id="347" name=""/>
            <p:cNvSpPr txBox="1"/>
            <p:nvPr/>
          </p:nvSpPr>
          <p:spPr>
            <a:xfrm>
              <a:off x="804960" y="5410080"/>
              <a:ext cx="8338680" cy="12189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形成了良好的学习习惯——</a:t>
              </a:r>
              <a:endParaRPr b="1" lang="en-US" sz="1800" spc="-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勤学好问、独立思考、互帮互助等。</a:t>
              </a:r>
              <a:endParaRPr b="1" lang="en-US" sz="1800" spc="-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如石静雯</a:t>
              </a:r>
              <a:r>
                <a:rPr b="1" lang="en-US" sz="1800" spc="-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</a:t>
              </a:r>
              <a:r>
                <a:rPr b="1" lang="zh-CN" sz="1800" spc="-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顾晓静</a:t>
              </a:r>
              <a:r>
                <a:rPr b="1" lang="en-US" sz="1800" spc="-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, </a:t>
              </a:r>
              <a:r>
                <a:rPr b="1" lang="zh-CN" sz="1800" spc="-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汤紫薇等同学 。</a:t>
              </a:r>
              <a:endParaRPr b="1" lang="en-US" sz="1800" spc="-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6"/>
            <a:stretch/>
          </p:blipFill>
          <p:spPr>
            <a:xfrm>
              <a:off x="0" y="5612400"/>
              <a:ext cx="69372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25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500720" y="6093000"/>
            <a:ext cx="4643280" cy="4316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09120" y="2666880"/>
            <a:ext cx="8210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中宋"/>
              </a:rPr>
              <a:t>能按时作息，形成了良好的作息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中宋"/>
              </a:rPr>
              <a:t>同学之间和睦相处，互相帮助，不斤斤计较，处处维护班级荣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中宋"/>
              </a:rPr>
              <a:t>饭堂就餐能自觉排队，能保持饭堂的清洁卫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52280" y="152280"/>
            <a:ext cx="2592360" cy="1006560"/>
            <a:chOff x="152280" y="152280"/>
            <a:chExt cx="2592360" cy="1006560"/>
          </a:xfrm>
        </p:grpSpPr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152280" y="152280"/>
              <a:ext cx="2592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 txBox="1"/>
            <p:nvPr/>
          </p:nvSpPr>
          <p:spPr>
            <a:xfrm>
              <a:off x="691920" y="223560"/>
              <a:ext cx="15112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993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ff33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新魏"/>
                </a:rPr>
                <a:t>生活</a:t>
              </a:r>
              <a:endParaRPr b="1" lang="en-US" sz="18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7"/>
          <a:stretch/>
        </p:blipFill>
        <p:spPr>
          <a:xfrm flipH="1">
            <a:off x="-360" y="6093000"/>
            <a:ext cx="47163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华文中宋"/>
              </a:rPr>
              <a:t>课间不追逐打闹，同学们在教室安静地自习或休息，做好下堂课的准备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中宋"/>
              </a:rPr>
              <a:t>出操集队能自觉文明，遵守秩序，做到快静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中宋"/>
              </a:rPr>
              <a:t>晨检前、午饭后、我们班的同学总是来得很早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中宋"/>
              </a:rPr>
              <a:t>到得很齐，表现最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我们的穿着打扮端庄大方，仪容仪表规范整洁，没有不合校规的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0" y="0"/>
            <a:ext cx="2592360" cy="981000"/>
            <a:chOff x="0" y="0"/>
            <a:chExt cx="2592360" cy="981000"/>
          </a:xfrm>
        </p:grpSpPr>
        <p:pic>
          <p:nvPicPr>
            <p:cNvPr id="358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25923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 txBox="1"/>
            <p:nvPr/>
          </p:nvSpPr>
          <p:spPr>
            <a:xfrm>
              <a:off x="539640" y="69120"/>
              <a:ext cx="151128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993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新魏"/>
                </a:rPr>
                <a:t>纪律</a:t>
              </a:r>
              <a:endPara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435640" y="4437000"/>
            <a:ext cx="3708360" cy="2421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590920" y="0"/>
            <a:ext cx="2898720" cy="3789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2627280" cy="2781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5424480" y="0"/>
            <a:ext cx="3719520" cy="4464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2743200" y="3762360"/>
            <a:ext cx="2808360" cy="30956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6"/>
          <a:stretch/>
        </p:blipFill>
        <p:spPr>
          <a:xfrm>
            <a:off x="0" y="981000"/>
            <a:ext cx="2579760" cy="3095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7"/>
          <a:stretch/>
        </p:blipFill>
        <p:spPr>
          <a:xfrm>
            <a:off x="6516720" y="3500280"/>
            <a:ext cx="2627280" cy="33577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中宋"/>
              </a:rPr>
              <a:t>无论是在教室，还是包干区，我们同学都能认真对待，同学都能自觉完成，而且完成得非常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中宋"/>
              </a:rPr>
              <a:t>现在，可以这样说，我们同学已经养成了良好的卫生习惯，每位同学通过自己的努力给自己和他人创造了良好的学习环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0" y="0"/>
            <a:ext cx="2592360" cy="1006560"/>
            <a:chOff x="0" y="0"/>
            <a:chExt cx="2592360" cy="1006560"/>
          </a:xfrm>
        </p:grpSpPr>
        <p:pic>
          <p:nvPicPr>
            <p:cNvPr id="369" name="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2592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 txBox="1"/>
            <p:nvPr/>
          </p:nvSpPr>
          <p:spPr>
            <a:xfrm>
              <a:off x="539640" y="71280"/>
              <a:ext cx="15112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993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新魏"/>
                </a:rPr>
                <a:t>卫生</a:t>
              </a:r>
              <a:endPara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080080" y="838080"/>
            <a:ext cx="46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孩子生活在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批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他就学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谴责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0080" y="1523880"/>
            <a:ext cx="46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孩子生活在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鼓励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他就学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自信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080080" y="2209680"/>
            <a:ext cx="46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孩子生活在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讽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他就学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自卑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80080" y="2895480"/>
            <a:ext cx="46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孩子生活在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表扬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他就学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感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80080" y="3581280"/>
            <a:ext cx="46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孩子生活在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恐惧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他就学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忧虑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4724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孩子生活在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认可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他就学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自爱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8458200" cy="11620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914400" y="4114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孩子生活在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敌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他就学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好斗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３．学习情况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除了给学生强调校规和班规外，还要求他们养成自觉自律的习惯，不断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改进学习方法，提高课堂效率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在课前作好准备工作，课上注意力集中，积极发言，课后及时预习和复习，养成良好的自学习惯．因此，从开学到现在短短几周内，已有一些同学脱颖而出，成为各方面的佼佼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447920" y="914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有个牧场主人，叫他孩子每天在牧场辛勤工作，朋友对他说：“你不需要让孩子如此辛苦，农作物一样会长得很好的。”牧场主人回答说：“我不是在培养农作物，我是在培养我的孩子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426708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原来培养孩子很简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让他吃点苦头就行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51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只要家长对孩子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了解多一点，理解多一点，沟通多一点，方法多一点，耐心多一点，信心 多一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，一定会获得教育的成功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066680" y="1905120"/>
            <a:ext cx="716292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舒体"/>
              </a:rPr>
              <a:t>我们都优秀！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76720" y="4495680"/>
            <a:ext cx="43783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——</a:t>
            </a:r>
            <a:r>
              <a:rPr b="0" lang="zh-CN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开学以来情况小结</a:t>
            </a:r>
            <a:endParaRPr b="0" lang="en-US" sz="1800" spc="1" strike="noStrike">
              <a:ln w="19080">
                <a:solidFill>
                  <a:srgbClr val="cc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flipH="1">
            <a:off x="0" y="5013360"/>
            <a:ext cx="17812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539640" y="836640"/>
            <a:ext cx="7410600" cy="4675320"/>
            <a:chOff x="539640" y="836640"/>
            <a:chExt cx="7410600" cy="467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684000" y="155736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4427280" y="83664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539640" y="393372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2195280" y="4797360"/>
              <a:ext cx="71460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1476360" y="30686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2700360" y="191628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2916000" y="350064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6948360" y="170028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9"/>
            <a:stretch/>
          </p:blipFill>
          <p:spPr>
            <a:xfrm>
              <a:off x="6011640" y="2349360"/>
              <a:ext cx="71460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0"/>
            <a:stretch/>
          </p:blipFill>
          <p:spPr>
            <a:xfrm>
              <a:off x="4643280" y="2852640"/>
              <a:ext cx="71460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1"/>
            <a:stretch/>
          </p:blipFill>
          <p:spPr>
            <a:xfrm>
              <a:off x="7235640" y="3645000"/>
              <a:ext cx="71460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ff0000"/>
                </a:solidFill>
                <a:uFillTx/>
                <a:latin typeface="Arial"/>
                <a:ea typeface="方正姚体"/>
              </a:rPr>
              <a:t>努力，让他们获得荣誉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6443640" y="4826160"/>
            <a:ext cx="2700360" cy="20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152388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8640" y="6125760"/>
            <a:ext cx="52578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6248520" cy="6172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84720" y="4653000"/>
            <a:ext cx="3059280" cy="220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19320" y="358128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华文中宋"/>
                <a:ea typeface="华文中宋"/>
              </a:rPr>
              <a:t>包李勤   李佳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762120"/>
            <a:ext cx="71294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细黑"/>
              </a:rPr>
              <a:t>行规标兵</a:t>
            </a:r>
            <a:endParaRPr b="1" i="1" lang="en-US" sz="1800" spc="-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细黑"/>
              <a:ea typeface="华文细黑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06:36:49Z</dcterms:created>
  <dc:creator/>
  <dc:description/>
  <dc:language>en-US</dc:language>
  <cp:lastModifiedBy>user</cp:lastModifiedBy>
  <dcterms:modified xsi:type="dcterms:W3CDTF">2016-02-23T06:37:35Z</dcterms:modified>
  <cp:revision>1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  <property fmtid="{D5CDD505-2E9C-101B-9397-08002B2CF9AE}" pid="3" name="Version">
    <vt:r8>1</vt:r8>
  </property>
</Properties>
</file>