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1008062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420-7171-4163-93C9-D36E6BAB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1FA-E0E4-4D33-8D31-4E7252CD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781-B6F7-4368-87B3-BC5A7845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40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40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424-5181-4AF6-B723-2A589B40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DD4A-87EB-4EBF-A1DF-491B0D68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2F1-B396-4F8E-BD05-EC882B5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79C9-86F4-4AD7-85B8-D908DFA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DBD1-7FA4-4F97-98B7-B4A81B6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461-2577-4BDE-B111-90118FB8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360" y="266760"/>
            <a:ext cx="907092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4F6-A675-4730-9E72-A92CD14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950-839F-480F-8C50-E680EA3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2BB-8E5F-4EAF-91BD-95561BA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04A-E6FE-498C-A827-5651E05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633-EACC-4BD4-A279-86824D6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D908-C8D5-4A01-A6FD-5A5BD03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FA55-6A0C-431B-B84E-4277AB23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840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840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23E-D58E-4286-9554-45B1769E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00BC-8642-49FE-BBA7-F2A3BF5A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F350-1BCC-44C7-A52D-A9A6EAC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505D-5C89-40D1-B276-04D17B6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5624-50C3-4611-8863-B876DC5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C38C-DEF8-4BC3-A6E8-A4177A74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1C1-F994-4A66-B3D8-93157E4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4360" y="266760"/>
            <a:ext cx="907092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4ACD-9BF3-4CAA-B8D2-9A7A522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454B-2EE9-4D70-9C41-21405593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2592-369E-4B67-971A-D8DE4FA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6CC5-32E5-46E2-932B-2B48948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56EC-E8C8-4E86-9819-B7E7A45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A37F-A54A-4672-99A0-C891F706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156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8400" y="155376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43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156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8400" y="3849840"/>
            <a:ext cx="292068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6421-C09D-48A3-9A53-F49D77A3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5B3-66BA-4F21-ACBB-6F57878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DB3-FCDD-45AA-B4E0-040E52FB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266760"/>
            <a:ext cx="907092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924-088E-42FE-A9BC-4A97C9F7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020-02C6-4827-93D8-E2B71F6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84984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FB4-B2DD-4216-9ADB-0FD1139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553760"/>
            <a:ext cx="442656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3849840"/>
            <a:ext cx="9070920" cy="209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6B3-CA5A-433D-9FF4-8807D4B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064200"/>
            <a:ext cx="2351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064200"/>
            <a:ext cx="3191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064200"/>
            <a:ext cx="2350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A91-FF79-4625-AFE1-ACE46CA1A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064200"/>
            <a:ext cx="235116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064200"/>
            <a:ext cx="319104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2680" y="6064200"/>
            <a:ext cx="235260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1F6-980B-48EC-94B2-101436FB9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52560"/>
            <a:ext cx="10080720" cy="14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266760"/>
            <a:ext cx="9070920" cy="110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4360" y="1553760"/>
            <a:ext cx="9070920" cy="4395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337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4360" y="6064200"/>
            <a:ext cx="235116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4840" y="6064200"/>
            <a:ext cx="319104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2680" y="6064200"/>
            <a:ext cx="2352600" cy="46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D50-79C8-4EA0-89C2-47115212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52560"/>
            <a:ext cx="10080720" cy="14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7ad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47640" y="1962000"/>
            <a:ext cx="442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Arial Black"/>
              </a:rPr>
              <a:t>DESIGNER   BAR </a:t>
            </a:r>
            <a:r>
              <a:rPr b="1" lang="zh-CN" sz="4000" spc="-1" strike="noStrike">
                <a:solidFill>
                  <a:srgbClr val="ffffff"/>
                </a:solidFill>
                <a:latin typeface="Showcard Gothic"/>
                <a:ea typeface="黑体"/>
              </a:rPr>
              <a:t>创意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32320" y="3257640"/>
            <a:ext cx="4603680" cy="3409920"/>
            <a:chOff x="4432320" y="3257640"/>
            <a:chExt cx="4603680" cy="3409920"/>
          </a:xfrm>
        </p:grpSpPr>
        <p:pic>
          <p:nvPicPr>
            <p:cNvPr id="127" name="图片 3" descr=""/>
            <p:cNvPicPr/>
            <p:nvPr/>
          </p:nvPicPr>
          <p:blipFill>
            <a:blip r:embed="rId1"/>
            <a:stretch/>
          </p:blipFill>
          <p:spPr>
            <a:xfrm>
              <a:off x="4432320" y="3257640"/>
              <a:ext cx="460368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6" descr=""/>
            <p:cNvPicPr/>
            <p:nvPr/>
          </p:nvPicPr>
          <p:blipFill>
            <a:blip r:embed="rId2"/>
            <a:stretch/>
          </p:blipFill>
          <p:spPr>
            <a:xfrm>
              <a:off x="5162040" y="4504680"/>
              <a:ext cx="2999520" cy="216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5256360" y="4049640"/>
            <a:ext cx="29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eibo.com/design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720" y="3330720"/>
            <a:ext cx="360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全球创意广告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交流、分享、学习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:/Documents and Settings/Administrator/桌面/创意吧/9.jpg9" descr=""/>
          <p:cNvPicPr/>
          <p:nvPr/>
        </p:nvPicPr>
        <p:blipFill>
          <a:blip r:embed="rId1"/>
          <a:stretch/>
        </p:blipFill>
        <p:spPr>
          <a:xfrm>
            <a:off x="2752560" y="1422360"/>
            <a:ext cx="3649680" cy="4896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42000" y="2212920"/>
            <a:ext cx="279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千上万的以色列女人在被迫从事性工作，不要纵容这种行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以色列妇女组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C:/Documents and Settings/Administrator/桌面/创意吧/10.jpg10" descr=""/>
          <p:cNvPicPr/>
          <p:nvPr/>
        </p:nvPicPr>
        <p:blipFill>
          <a:blip r:embed="rId1"/>
          <a:stretch/>
        </p:blipFill>
        <p:spPr>
          <a:xfrm>
            <a:off x="2521080" y="1827360"/>
            <a:ext cx="4921200" cy="33796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521080" y="5283360"/>
            <a:ext cx="27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撞倒的不仅仅是一个个人，而是他的整个家庭。——澳大利亚行人理事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:/Documents and Settings/Administrator/桌面/创意吧/11.jpg11" descr=""/>
          <p:cNvPicPr/>
          <p:nvPr/>
        </p:nvPicPr>
        <p:blipFill>
          <a:blip r:embed="rId1"/>
          <a:stretch/>
        </p:blipFill>
        <p:spPr>
          <a:xfrm>
            <a:off x="2752560" y="1440000"/>
            <a:ext cx="3649680" cy="486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642000" y="2212920"/>
            <a:ext cx="279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你失去教育孩子的忍耐力，那你将会失去更多东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Pare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父母公益机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:/Documents and Settings/Administrator/桌面/创意吧/12.jpg12" descr=""/>
          <p:cNvPicPr/>
          <p:nvPr/>
        </p:nvPicPr>
        <p:blipFill>
          <a:blip r:embed="rId1"/>
          <a:stretch/>
        </p:blipFill>
        <p:spPr>
          <a:xfrm>
            <a:off x="2752560" y="1440000"/>
            <a:ext cx="3648240" cy="486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642000" y="2212920"/>
            <a:ext cx="279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你失去教育孩子的忍耐力，那你将会失去更多东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Pare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父母公益机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:/Documents and Settings/Administrator/桌面/创意吧/13.jpg13" descr=""/>
          <p:cNvPicPr/>
          <p:nvPr/>
        </p:nvPicPr>
        <p:blipFill>
          <a:blip r:embed="rId1"/>
          <a:stretch/>
        </p:blipFill>
        <p:spPr>
          <a:xfrm>
            <a:off x="2592360" y="1674720"/>
            <a:ext cx="4689360" cy="35942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2664000" y="5418000"/>
            <a:ext cx="27921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全球变暧对我们每个人的影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大利环保组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:/Documents and Settings/Administrator/桌面/创意吧/14.jpg14" descr=""/>
          <p:cNvPicPr/>
          <p:nvPr/>
        </p:nvPicPr>
        <p:blipFill>
          <a:blip r:embed="rId1"/>
          <a:stretch/>
        </p:blipFill>
        <p:spPr>
          <a:xfrm>
            <a:off x="2592360" y="1709640"/>
            <a:ext cx="4689360" cy="35244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2664000" y="53132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痛苦无国界。所谓多难兴邦，但战争、灾难、贫困、饥饿，这些关键词经常出现在欠发达的国家和地区的新闻里。这些地区的人们饱受饥馑、战乱、疾病之苦，挣扎在死亡边缘。伸出每个人的援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停止这苦难的轮回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印度尼西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C:/Documents and Settings/Administrator/桌面/创意吧/15.jpg15" descr=""/>
          <p:cNvPicPr/>
          <p:nvPr/>
        </p:nvPicPr>
        <p:blipFill>
          <a:blip r:embed="rId1"/>
          <a:stretch/>
        </p:blipFill>
        <p:spPr>
          <a:xfrm>
            <a:off x="2808360" y="1241280"/>
            <a:ext cx="3600360" cy="50594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624720" y="203508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要酗酒，更不要在醉酒后跑去玩水。因为几乎有一半成年人溺水身亡都与酒精有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:/Documents and Settings/Administrator/桌面/创意吧/16.jpg16" descr=""/>
          <p:cNvPicPr/>
          <p:nvPr/>
        </p:nvPicPr>
        <p:blipFill>
          <a:blip r:embed="rId1"/>
          <a:stretch/>
        </p:blipFill>
        <p:spPr>
          <a:xfrm>
            <a:off x="2819520" y="1241280"/>
            <a:ext cx="3578040" cy="50594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624720" y="2035080"/>
            <a:ext cx="259236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艾滋病与希特勒，谁更可怕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a mass murderer 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艾滋病是个杀人狂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AIds DAY 2009 / 2009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世界艾滋病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:/Documents and Settings/Administrator/桌面/创意吧/17.jpg17" descr=""/>
          <p:cNvPicPr/>
          <p:nvPr/>
        </p:nvPicPr>
        <p:blipFill>
          <a:blip r:embed="rId1"/>
          <a:stretch/>
        </p:blipFill>
        <p:spPr>
          <a:xfrm>
            <a:off x="2820960" y="1241280"/>
            <a:ext cx="3573360" cy="50594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624720" y="2035080"/>
            <a:ext cx="2592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和平组织提醒各位：基因错乱的转基因食品对您的健康可能造成极大风险，请谨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:/Documents and Settings/Administrator/桌面/创意吧/18.jpg18" descr=""/>
          <p:cNvPicPr/>
          <p:nvPr/>
        </p:nvPicPr>
        <p:blipFill>
          <a:blip r:embed="rId1"/>
          <a:stretch/>
        </p:blipFill>
        <p:spPr>
          <a:xfrm>
            <a:off x="2819520" y="1424160"/>
            <a:ext cx="3578040" cy="46940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6624720" y="2035080"/>
            <a:ext cx="2592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塑料袋版蘑菇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64000" y="1170000"/>
            <a:ext cx="3825720" cy="540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642000" y="2212920"/>
            <a:ext cx="279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HOMELESS,EVERY DAY IS A STRUGGLE.——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于无家可归者来说，生活就像一场斗争：很小的事情，比如是吃一顿有尊严的早餐，他们都很难做到。让更多有能力的人行动起来，为无家可归者提供基本的食物和栖身之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3440" y="5634000"/>
            <a:ext cx="2232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ather Bob Maguir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基金——《垃圾桶篇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:/Documents and Settings/Administrator/桌面/创意吧/19.jpg19" descr=""/>
          <p:cNvPicPr/>
          <p:nvPr/>
        </p:nvPicPr>
        <p:blipFill>
          <a:blip r:embed="rId1"/>
          <a:stretch/>
        </p:blipFill>
        <p:spPr>
          <a:xfrm>
            <a:off x="2819520" y="1298520"/>
            <a:ext cx="3578040" cy="49449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6624720" y="2035080"/>
            <a:ext cx="2592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言论自由奋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。审查制度一直阴魂不散，它总是换了伪装就跑回来。——巴西媒体协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:/Documents and Settings/Administrator/桌面/创意吧/20.jpg20" descr=""/>
          <p:cNvPicPr/>
          <p:nvPr/>
        </p:nvPicPr>
        <p:blipFill>
          <a:blip r:embed="rId1"/>
          <a:stretch/>
        </p:blipFill>
        <p:spPr>
          <a:xfrm>
            <a:off x="2592360" y="1530360"/>
            <a:ext cx="4957920" cy="35290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592360" y="5202360"/>
            <a:ext cx="2808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气候灾难的结果就是：未来水世界，或，地下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:/Documents and Settings/Administrator/桌面/创意吧/21.jpg21" descr=""/>
          <p:cNvPicPr/>
          <p:nvPr/>
        </p:nvPicPr>
        <p:blipFill>
          <a:blip r:embed="rId1"/>
          <a:stretch/>
        </p:blipFill>
        <p:spPr>
          <a:xfrm>
            <a:off x="2449440" y="1560600"/>
            <a:ext cx="5270400" cy="3348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2448000" y="4986360"/>
            <a:ext cx="25923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继续堕掉女性胎儿和残杀女婴的话，男女比例会更加失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 wanna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印度北方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:/Documents and Settings/Administrator/桌面/创意吧/23.jpg23" descr=""/>
          <p:cNvPicPr/>
          <p:nvPr/>
        </p:nvPicPr>
        <p:blipFill>
          <a:blip r:embed="rId1"/>
          <a:stretch/>
        </p:blipFill>
        <p:spPr>
          <a:xfrm>
            <a:off x="2521080" y="1530360"/>
            <a:ext cx="5040360" cy="35751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2521080" y="5275440"/>
            <a:ext cx="2590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意双页杂志广告欣赏。联邦快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:/Documents and Settings/Administrator/桌面/创意吧/24.jpg24" descr=""/>
          <p:cNvPicPr/>
          <p:nvPr/>
        </p:nvPicPr>
        <p:blipFill>
          <a:blip r:embed="rId1"/>
          <a:stretch/>
        </p:blipFill>
        <p:spPr>
          <a:xfrm>
            <a:off x="2521080" y="1563840"/>
            <a:ext cx="5040360" cy="35067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2521080" y="5275440"/>
            <a:ext cx="2590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意双页杂志广告欣赏。联邦快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C:/Documents and Settings/Administrator/桌面/创意吧/22.jpg22" descr=""/>
          <p:cNvPicPr/>
          <p:nvPr/>
        </p:nvPicPr>
        <p:blipFill>
          <a:blip r:embed="rId1"/>
          <a:stretch/>
        </p:blipFill>
        <p:spPr>
          <a:xfrm>
            <a:off x="2787480" y="1563840"/>
            <a:ext cx="3895920" cy="41605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6912000" y="2610000"/>
            <a:ext cx="2592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实你看到是一本杂志内的创意双页广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:/Documents and Settings/Administrator/桌面/创意吧/26.jpg26" descr=""/>
          <p:cNvPicPr/>
          <p:nvPr/>
        </p:nvPicPr>
        <p:blipFill>
          <a:blip r:embed="rId1"/>
          <a:stretch/>
        </p:blipFill>
        <p:spPr>
          <a:xfrm>
            <a:off x="2819520" y="3772080"/>
            <a:ext cx="3578040" cy="17906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624720" y="2035080"/>
            <a:ext cx="2592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牛奶广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:/Documents and Settings/Administrator/桌面/创意吧/25.jpg25" descr=""/>
          <p:cNvPicPr/>
          <p:nvPr/>
        </p:nvPicPr>
        <p:blipFill>
          <a:blip r:embed="rId2"/>
          <a:stretch/>
        </p:blipFill>
        <p:spPr>
          <a:xfrm>
            <a:off x="2819520" y="1889280"/>
            <a:ext cx="3578040" cy="17906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:/Documents and Settings/Administrator/桌面/创意吧/27.jpg27" descr=""/>
          <p:cNvPicPr/>
          <p:nvPr/>
        </p:nvPicPr>
        <p:blipFill>
          <a:blip r:embed="rId1"/>
          <a:stretch/>
        </p:blipFill>
        <p:spPr>
          <a:xfrm>
            <a:off x="2558880" y="1563840"/>
            <a:ext cx="4962600" cy="35067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521080" y="5275440"/>
            <a:ext cx="3527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护儿童避免交通：对孩子们来说，他们认识不到道路的危险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ketball 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篮球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:/Documents and Settings/Administrator/桌面/创意吧/27.jpg27" descr=""/>
          <p:cNvPicPr/>
          <p:nvPr/>
        </p:nvPicPr>
        <p:blipFill>
          <a:blip r:embed="rId1"/>
          <a:stretch/>
        </p:blipFill>
        <p:spPr>
          <a:xfrm>
            <a:off x="2558880" y="1563840"/>
            <a:ext cx="4962600" cy="35067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521080" y="5275440"/>
            <a:ext cx="3527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护儿童避免交通：对孩子们来说，他们认识不到道路的危险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ketball 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篮球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:/Documents and Settings/Administrator/桌面/创意吧/28.jpg28" descr=""/>
          <p:cNvPicPr/>
          <p:nvPr/>
        </p:nvPicPr>
        <p:blipFill>
          <a:blip r:embed="rId1"/>
          <a:stretch/>
        </p:blipFill>
        <p:spPr>
          <a:xfrm>
            <a:off x="2576520" y="1563840"/>
            <a:ext cx="4929120" cy="35067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2521080" y="5275440"/>
            <a:ext cx="44640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't help feed them,who will? Please call Concordia Children's Services at (02) 713-34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你不能帮助喂养他们，谁会？请致电肯考迪娅儿童救护中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(02) 713-346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:/Documents and Settings/Administrator/桌面/2.jpg2" descr=""/>
          <p:cNvPicPr/>
          <p:nvPr/>
        </p:nvPicPr>
        <p:blipFill>
          <a:blip r:embed="rId1"/>
          <a:stretch/>
        </p:blipFill>
        <p:spPr>
          <a:xfrm>
            <a:off x="2752560" y="1170000"/>
            <a:ext cx="3649680" cy="540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642000" y="2212920"/>
            <a:ext cx="279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哪边更可怕？ 没有生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死气沉沉的世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远比凶禽猛兽可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—— WWF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世界自然基金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:/Documents and Settings/Administrator/桌面/创意吧/29.jpg29" descr=""/>
          <p:cNvPicPr/>
          <p:nvPr/>
        </p:nvPicPr>
        <p:blipFill>
          <a:blip r:embed="rId1"/>
          <a:stretch/>
        </p:blipFill>
        <p:spPr>
          <a:xfrm>
            <a:off x="2576520" y="1670040"/>
            <a:ext cx="4929120" cy="329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全球都跳脱衣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:/Documents and Settings/Administrator/桌面/创意吧/30.jpg30" descr=""/>
          <p:cNvPicPr/>
          <p:nvPr/>
        </p:nvPicPr>
        <p:blipFill>
          <a:blip r:embed="rId1"/>
          <a:stretch/>
        </p:blipFill>
        <p:spPr>
          <a:xfrm>
            <a:off x="2576520" y="1574640"/>
            <a:ext cx="4929120" cy="3483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一天要让全世界的士兵都成为过去式，让战争成为过去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:/Documents and Settings/Administrator/桌面/创意吧/32.jpg32" descr=""/>
          <p:cNvPicPr/>
          <p:nvPr/>
        </p:nvPicPr>
        <p:blipFill>
          <a:blip r:embed="rId1"/>
          <a:stretch/>
        </p:blipFill>
        <p:spPr>
          <a:xfrm>
            <a:off x="2576520" y="1616040"/>
            <a:ext cx="4929120" cy="3402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烟抽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:/Documents and Settings/Administrator/桌面/创意吧/33.jpg33" descr=""/>
          <p:cNvPicPr/>
          <p:nvPr/>
        </p:nvPicPr>
        <p:blipFill>
          <a:blip r:embed="rId1"/>
          <a:stretch/>
        </p:blipFill>
        <p:spPr>
          <a:xfrm>
            <a:off x="2576520" y="1711440"/>
            <a:ext cx="4929120" cy="32115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it's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C:/Documents and Settings/Administrator/桌面/创意吧/35.jpg35" descr=""/>
          <p:cNvPicPr/>
          <p:nvPr/>
        </p:nvPicPr>
        <p:blipFill>
          <a:blip r:embed="rId1"/>
          <a:stretch/>
        </p:blipFill>
        <p:spPr>
          <a:xfrm>
            <a:off x="3240000" y="1386000"/>
            <a:ext cx="3481560" cy="49194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7128000" y="2106720"/>
            <a:ext cx="2232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don't move ,you get f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:/Documents and Settings/Administrator/桌面/创意吧/36.jpg36" descr=""/>
          <p:cNvPicPr/>
          <p:nvPr/>
        </p:nvPicPr>
        <p:blipFill>
          <a:blip r:embed="rId1"/>
          <a:stretch/>
        </p:blipFill>
        <p:spPr>
          <a:xfrm>
            <a:off x="2762280" y="1711440"/>
            <a:ext cx="4556160" cy="32115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2735280" y="5275440"/>
            <a:ext cx="4465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游戏机：雕像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:/Documents and Settings/Administrator/桌面/创意吧/38.jpg38" descr=""/>
          <p:cNvPicPr/>
          <p:nvPr/>
        </p:nvPicPr>
        <p:blipFill>
          <a:blip r:embed="rId1"/>
          <a:stretch/>
        </p:blipFill>
        <p:spPr>
          <a:xfrm>
            <a:off x="2768760" y="1711440"/>
            <a:ext cx="4938480" cy="34909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2736720" y="5275440"/>
            <a:ext cx="4753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想象一个没有战争的世界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航母上的游泳池篇——世界和平组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C:/Documents and Settings/Administrator/桌面/创意吧/37.jpg37" descr=""/>
          <p:cNvPicPr/>
          <p:nvPr/>
        </p:nvPicPr>
        <p:blipFill>
          <a:blip r:embed="rId1"/>
          <a:stretch/>
        </p:blipFill>
        <p:spPr>
          <a:xfrm>
            <a:off x="2768760" y="1711440"/>
            <a:ext cx="4938480" cy="34909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735280" y="5275440"/>
            <a:ext cx="4465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想象一个没有战争的世界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战斗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:/Documents and Settings/Administrator/桌面/创意吧/40.jpg40" descr=""/>
          <p:cNvPicPr/>
          <p:nvPr/>
        </p:nvPicPr>
        <p:blipFill>
          <a:blip r:embed="rId1"/>
          <a:stretch/>
        </p:blipFill>
        <p:spPr>
          <a:xfrm>
            <a:off x="2808360" y="1457280"/>
            <a:ext cx="3908520" cy="47689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696000" y="2035080"/>
            <a:ext cx="2521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奥林巴斯：定格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:/Documents and Settings/Administrator/桌面/创意吧/34.jpg34" descr=""/>
          <p:cNvPicPr/>
          <p:nvPr/>
        </p:nvPicPr>
        <p:blipFill>
          <a:blip r:embed="rId1"/>
          <a:stretch/>
        </p:blipFill>
        <p:spPr>
          <a:xfrm>
            <a:off x="2773440" y="1711440"/>
            <a:ext cx="4533840" cy="32115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国的森林砍伐威胁到了巨大的熊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:/Documents and Settings/Administrator/桌面/2.jpg2" descr=""/>
          <p:cNvPicPr/>
          <p:nvPr/>
        </p:nvPicPr>
        <p:blipFill>
          <a:blip r:embed="rId1"/>
          <a:stretch/>
        </p:blipFill>
        <p:spPr>
          <a:xfrm>
            <a:off x="1943280" y="2033640"/>
            <a:ext cx="5170320" cy="36432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7129440" y="1962000"/>
            <a:ext cx="279252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things hang on forever. Set the kids free from abuse and violence.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些伤害将延续一生。让孩子远离虐待和暴力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43280" y="5850000"/>
            <a:ext cx="3528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《保护孩子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:/Documents and Settings/Administrator/桌面/创意吧/39.jpg39" descr=""/>
          <p:cNvPicPr/>
          <p:nvPr/>
        </p:nvPicPr>
        <p:blipFill>
          <a:blip r:embed="rId1"/>
          <a:stretch/>
        </p:blipFill>
        <p:spPr>
          <a:xfrm>
            <a:off x="2664000" y="1890720"/>
            <a:ext cx="5189400" cy="33195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多么想飞。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 República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捷克航空公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:/Documents and Settings/Administrator/桌面/创意吧/39.jpg39" descr=""/>
          <p:cNvPicPr/>
          <p:nvPr/>
        </p:nvPicPr>
        <p:blipFill>
          <a:blip r:embed="rId1"/>
          <a:stretch/>
        </p:blipFill>
        <p:spPr>
          <a:xfrm>
            <a:off x="2664000" y="1890720"/>
            <a:ext cx="5189400" cy="33195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521080" y="5275440"/>
            <a:ext cx="446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多么想飞。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 República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捷克航空公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7ad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47640" y="1962000"/>
            <a:ext cx="442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Arial Black"/>
              </a:rPr>
              <a:t>DESIGNER   BAR </a:t>
            </a:r>
            <a:r>
              <a:rPr b="1" lang="zh-CN" sz="4000" spc="-1" strike="noStrike">
                <a:solidFill>
                  <a:srgbClr val="ffffff"/>
                </a:solidFill>
                <a:latin typeface="Showcard Gothic"/>
                <a:ea typeface="黑体"/>
              </a:rPr>
              <a:t>创意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2" descr=""/>
          <p:cNvPicPr/>
          <p:nvPr/>
        </p:nvPicPr>
        <p:blipFill>
          <a:blip r:embed="rId1"/>
          <a:stretch/>
        </p:blipFill>
        <p:spPr>
          <a:xfrm>
            <a:off x="792000" y="3546360"/>
            <a:ext cx="3537000" cy="2303640"/>
          </a:xfrm>
          <a:prstGeom prst="rect">
            <a:avLst/>
          </a:prstGeom>
          <a:ln w="0">
            <a:noFill/>
          </a:ln>
        </p:spPr>
      </p:pic>
      <p:sp>
        <p:nvSpPr>
          <p:cNvPr id="217" name="圆角矩形 4"/>
          <p:cNvSpPr/>
          <p:nvPr/>
        </p:nvSpPr>
        <p:spPr>
          <a:xfrm>
            <a:off x="755640" y="5081760"/>
            <a:ext cx="4105440" cy="113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5"/>
          <p:cNvSpPr/>
          <p:nvPr/>
        </p:nvSpPr>
        <p:spPr>
          <a:xfrm>
            <a:off x="1403280" y="4869000"/>
            <a:ext cx="863640" cy="2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40360" y="5059440"/>
            <a:ext cx="4753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欢迎转载，转载请注明来源新浪微博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SIGN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吧，悉心整理全球优秀创意作品，和朋友们交流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于整理完了，可以好好休息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新浪微博上，我们将分享各式的创意广告，欢迎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000" y="5778360"/>
            <a:ext cx="297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eibo.com/design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:/Documents and Settings/Administrator/桌面/3.jpg3" descr=""/>
          <p:cNvPicPr/>
          <p:nvPr/>
        </p:nvPicPr>
        <p:blipFill>
          <a:blip r:embed="rId1"/>
          <a:stretch/>
        </p:blipFill>
        <p:spPr>
          <a:xfrm>
            <a:off x="2585880" y="1530360"/>
            <a:ext cx="3816360" cy="44845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642000" y="2212920"/>
            <a:ext cx="2792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中下方的翻译是，“可悲的是，本应该感到安全的地方成了孩子们感动恐惧。请帮助举报虐待儿童。” 英语不太好，大致是这个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:/Documents and Settings/Administrator/桌面/4.jpg4" descr=""/>
          <p:cNvPicPr/>
          <p:nvPr/>
        </p:nvPicPr>
        <p:blipFill>
          <a:blip r:embed="rId1"/>
          <a:stretch/>
        </p:blipFill>
        <p:spPr>
          <a:xfrm>
            <a:off x="2592360" y="1817640"/>
            <a:ext cx="4584600" cy="3240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527280" y="5202360"/>
            <a:ext cx="2792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意户外广告牌！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:/Documents and Settings/Administrator/桌面/创意吧/6.jpg6" descr=""/>
          <p:cNvPicPr/>
          <p:nvPr/>
        </p:nvPicPr>
        <p:blipFill>
          <a:blip r:embed="rId1"/>
          <a:stretch/>
        </p:blipFill>
        <p:spPr>
          <a:xfrm>
            <a:off x="3384720" y="1170000"/>
            <a:ext cx="2384280" cy="540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642000" y="2212920"/>
            <a:ext cx="27925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父母是孩子最好的老师，但也有可能是最坏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 for Childhood Education 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幼年教育协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3440" y="5634000"/>
            <a:ext cx="2232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sociation for Childhood Education 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《跟你学的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:/Documents and Settings/Administrator/桌面/创意吧/7.jpg7" descr=""/>
          <p:cNvPicPr/>
          <p:nvPr/>
        </p:nvPicPr>
        <p:blipFill>
          <a:blip r:embed="rId1"/>
          <a:stretch/>
        </p:blipFill>
        <p:spPr>
          <a:xfrm>
            <a:off x="2521080" y="1530360"/>
            <a:ext cx="5016240" cy="35431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2592360" y="5130720"/>
            <a:ext cx="31687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France, One million people can’t get hold their mem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法国，有一百万人无法走出他们的记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:/Documents and Settings/Administrator/桌面/创意吧/8.jpg8" descr=""/>
          <p:cNvPicPr/>
          <p:nvPr/>
        </p:nvPicPr>
        <p:blipFill>
          <a:blip r:embed="rId1"/>
          <a:stretch/>
        </p:blipFill>
        <p:spPr>
          <a:xfrm>
            <a:off x="2752560" y="1419120"/>
            <a:ext cx="3649680" cy="4902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642000" y="2212920"/>
            <a:ext cx="27925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50% of all suicides are committed by senior citizens.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超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自杀者是老年人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m Le Ada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年社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9:49:1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