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954-5B1E-4430-AC25-1F7930CC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5B5-F122-41A8-B1FE-605C62FD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E64-0E24-46AC-9FDD-B2D69EE1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477-1D95-4F32-8A7D-2078CA51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719-A639-429A-98A9-433C9A5B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3DA-1DB2-4A72-B384-F0BF889F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547-3560-492E-8F38-5DB69815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B9A-28F8-425F-9CCB-A0BCA941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9A7-4E19-4071-82D2-DF46C349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704-8DD7-46DF-852B-9314209A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EEE-49FD-435C-B797-CAA7686D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59C-1114-4E86-9938-990D4902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286A-CF59-4DB3-BEBD-E5BFFC792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8:04:09Z</dcterms:created>
  <dc:creator/>
  <dc:description/>
  <dc:language>en-US</dc:language>
  <cp:lastModifiedBy>WIN7EN</cp:lastModifiedBy>
  <dcterms:modified xsi:type="dcterms:W3CDTF">2010-06-25T08:04:52Z</dcterms:modified>
  <cp:revision>1</cp:revision>
  <dc:subject/>
  <dc:title>Slide 1</dc:title>
</cp:coreProperties>
</file>