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34.png" ContentType="image/png"/>
  <Override PartName="/ppt/media/image29.png" ContentType="image/png"/>
  <Override PartName="/ppt/media/image6.png" ContentType="image/png"/>
  <Override PartName="/ppt/media/image30.png" ContentType="image/png"/>
  <Override PartName="/ppt/media/image10.png" ContentType="image/png"/>
  <Override PartName="/ppt/media/image5.wmf" ContentType="image/x-wmf"/>
  <Override PartName="/ppt/media/image33.wmf" ContentType="image/x-wmf"/>
  <Override PartName="/ppt/media/image13.png" ContentType="image/png"/>
  <Override PartName="/ppt/media/image11.png" ContentType="image/png"/>
  <Override PartName="/ppt/media/image35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7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type.wav" ContentType="audio/x-wav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4720" y="72972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67080" y="8442360"/>
            <a:ext cx="30211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71CEF3-D35E-4609-BAF9-BC18D2FEE68E}" type="slidenum">
              <a:rPr b="0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58720" y="8723160"/>
            <a:ext cx="951120" cy="212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4360" y="363600"/>
            <a:ext cx="32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era APEX 20K Devic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152000" y="4430880"/>
            <a:ext cx="4613400" cy="4039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35080" y="728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152000" y="4430880"/>
            <a:ext cx="4613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APEX20K Altera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(Coming Soon: Other Altera families: FLEX 10KE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35080" y="72864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152000" y="4430880"/>
            <a:ext cx="461340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APEX20K Altera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7640" indent="0" algn="ctr">
              <a:spcBef>
                <a:spcPts val="451"/>
              </a:spcBef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(Coming Soon: Other Altera families: FLEX 10KE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8EB2-95BA-48B4-B748-5ADBC1278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97100-5EEC-4398-BF66-179D99012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CA77-AA1B-469F-B3F3-650A89663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7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93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7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6AD3-B2C0-4F16-986C-090162838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5A913-1852-49EF-AC80-EF530CDF43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8A130-A149-4236-94B1-29225DEA0F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9E41-5411-40A7-888E-EB25EEA51E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70DE-DAF4-4F7A-98AA-B709E0CDDF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3F241-433E-4871-8A47-0D59711F49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9360" y="0"/>
            <a:ext cx="834732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16E6-5DF6-4B30-9B78-C2B6846F2D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3A0A-ADF3-4D78-A41F-64E2AEFF45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FDAA-F776-40BC-8E25-6B1639678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5F0A-EB0E-4B57-8B9F-86FB13B9BD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01833-6B69-4FE7-8FA5-9D194AAE91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16CFD-F8A3-4FE7-A5FD-C53A6E2F3A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41227-D5AC-4027-9077-487E688DB3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176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520" y="120456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93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176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520" y="3546720"/>
            <a:ext cx="268776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AE26-6A20-44C3-918F-E05708403D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7EEA-E9DF-47A6-A35B-BA01258431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B4D6-E7A2-4AB0-85BE-3697EF2EE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D156-76F6-4A4B-86B5-9365CE18D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9360" y="0"/>
            <a:ext cx="834732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A84D-F33E-4F5B-B158-EE95A5D74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B9DD-36F6-47F7-B9B8-06E897A96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6880" y="354672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B5AA0-DDE6-42A7-B5CF-203D98556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6880" y="1204560"/>
            <a:ext cx="407340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9360" y="3546720"/>
            <a:ext cx="8347320" cy="213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8F4B-C3C0-4FAC-B6CE-534BA09183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5680" y="6248520"/>
            <a:ext cx="2890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363240" y="6362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3000-9193-4F78-A623-E980822B90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66920" indent="-22860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09640" indent="-228600">
              <a:spcBef>
                <a:spcPts val="60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096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096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915840"/>
            <a:ext cx="9144000" cy="160560"/>
          </a:xfrm>
          <a:prstGeom prst="bevel">
            <a:avLst>
              <a:gd name="adj" fmla="val 50000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374400" y="6362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7CD-CD47-4D61-99E6-9CC3D4602A6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4343400"/>
            <a:ext cx="3390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5840"/>
            <a:ext cx="9144000" cy="160560"/>
          </a:xfrm>
          <a:prstGeom prst="bevel">
            <a:avLst>
              <a:gd name="adj" fmla="val 50000"/>
            </a:avLst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3832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1040" algn="ctr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1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1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设计流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0AFD-9937-4CB4-BE3F-D695A4B05216}" type="slidenum">
              <a:t>1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程安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29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的仿真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户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功能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rtu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输出仿真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序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random/>
    <p:sndAc>
      <p:stSnd>
        <p:snd r:embed="rId1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技术公司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591080" cy="3832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53000" y="1676520"/>
            <a:ext cx="84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main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主窗口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2440" y="3352680"/>
            <a:ext cx="116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structure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结构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343400"/>
            <a:ext cx="144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process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处理窗口</a:t>
            </a: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3600" y="5257800"/>
            <a:ext cx="202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Signal&amp;variable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信号和变量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5880" y="579132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dataflow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数据流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98000" y="1523880"/>
            <a:ext cx="89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source</a:t>
            </a: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源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16160" y="3962520"/>
            <a:ext cx="7948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33cc"/>
                </a:solidFill>
                <a:uFillTx/>
                <a:latin typeface="Arial"/>
              </a:rPr>
              <a:t>Wave&amp;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33cc"/>
                </a:solidFill>
                <a:uFillTx/>
                <a:latin typeface="Arial"/>
              </a:rPr>
              <a:t>波形和列表窗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1828800"/>
            <a:ext cx="68580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7400" y="3429000"/>
            <a:ext cx="304920" cy="763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4495680"/>
            <a:ext cx="30492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124080" y="3504960"/>
            <a:ext cx="762120" cy="1600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124080" y="4648320"/>
            <a:ext cx="76212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81320" y="1752480"/>
            <a:ext cx="685800" cy="5335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781680" y="3657600"/>
            <a:ext cx="45720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781680" y="4114800"/>
            <a:ext cx="45720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962520" y="4952520"/>
            <a:ext cx="685800" cy="8384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626F-912A-49DB-88A7-70054CD1F5E2}" type="slidenum">
              <a:t>11</a:t>
            </a:fld>
          </a:p>
        </p:txBody>
      </p:sp>
    </p:spTree>
  </p:cSld>
  <p:transition advTm="13000">
    <p:random/>
    <p:sndAc>
      <p:stSnd>
        <p:snd r:embed="rId2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现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互式的命令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唯一的界面是控制台的命令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用户界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户界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接受菜单输入和命令行输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程主要讨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批处理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行运行批处理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讨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0031-6FF5-4170-8FFD-211C0C45873B}" type="slidenum">
              <a:t>12</a:t>
            </a:fld>
          </a:p>
        </p:txBody>
      </p:sp>
    </p:spTree>
  </p:cSld>
  <p:transition advTm="18000">
    <p:random/>
    <p:sndAc>
      <p:stSnd>
        <p:snd r:embed="rId1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基本仿真步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9720" y="1204920"/>
            <a:ext cx="834732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映射库到物理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编译源代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所有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代码必须被编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erilo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动仿真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5  </a:t>
            </a:r>
            <a:r>
              <a:rPr b="0" lang="en-US" sz="24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执行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07890-7016-4EAD-9099-D52D51A482A1}" type="slidenum">
              <a:t>13</a:t>
            </a:fld>
          </a:p>
        </p:txBody>
      </p:sp>
    </p:spTree>
  </p:cSld>
  <p:transition advTm="17000">
    <p:random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257800" y="1219320"/>
            <a:ext cx="3505320" cy="20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128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7280" y="3352680"/>
            <a:ext cx="666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U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主菜单里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reate a New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m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记录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ModelSim&gt;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宋体"/>
              </a:rPr>
              <a:t>vlib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lt;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库名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A338-147E-4628-8CB8-1C25540E8B8A}" type="slidenum">
              <a:t>14</a:t>
            </a:fld>
          </a:p>
        </p:txBody>
      </p:sp>
    </p:spTree>
  </p:cSld>
  <p:transition advTm="20000">
    <p:random/>
    <p:sndAc>
      <p:stSnd>
        <p:snd r:embed="rId2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9720" y="1204920"/>
            <a:ext cx="8347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包含编译设计单元的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都被编译到库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个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当前被编译的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前必须建立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每个编译只允许一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能被当前编译引用的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编译期间允许多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能通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子句引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3726-53A7-4EE1-86E1-FDD3DD1425AC}" type="slidenum">
              <a:t>15</a:t>
            </a:fld>
          </a:p>
        </p:txBody>
      </p:sp>
    </p:spTree>
  </p:cSld>
  <p:transition advTm="22000">
    <p:random/>
    <p:sndAc>
      <p:stSnd>
        <p:snd r:embed="rId1" name="type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219320"/>
            <a:ext cx="405000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特定的库中必须有唯一的名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Declaration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声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结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Defined Primitives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户定义原语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11760" y="1233360"/>
            <a:ext cx="404964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次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相同的库里单元可以用一个普通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s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体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次要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1CF13-BA09-4C69-8071-EB0E99FF91AC}" type="slidenum">
              <a:t>16</a:t>
            </a:fld>
          </a:p>
        </p:txBody>
      </p:sp>
    </p:spTree>
  </p:cSld>
  <p:transition advTm="29000">
    <p:random/>
    <p:sndAc>
      <p:stSnd>
        <p:snd r:embed="rId1" name="type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x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初学者不要去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p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唯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认可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_logic_1164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仿真加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预编译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psy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算法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_logi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基本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仿真加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预先确定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4889-A922-45C0-B56E-EA75E7D77FE1}" type="slidenum">
              <a:t>17</a:t>
            </a:fld>
          </a:p>
        </p:txBody>
      </p:sp>
    </p:spTree>
  </p:cSld>
  <p:transition advTm="24000">
    <p:random/>
    <p:sndAc>
      <p:stSnd>
        <p:snd r:embed="rId1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vli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lt;library_name&gt;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3059280" cy="10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缺省值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41680" y="1447920"/>
            <a:ext cx="17658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_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8480" y="1828800"/>
            <a:ext cx="67428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96280" y="2514600"/>
            <a:ext cx="221832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_verilog_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61720" y="2514600"/>
            <a:ext cx="158580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_vhdl_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60480" y="1828800"/>
            <a:ext cx="7124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95560" y="2971800"/>
            <a:ext cx="1499040" cy="13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primary.v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562080" y="2971800"/>
            <a:ext cx="2084040" cy="13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rch_name&gt;.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rch_name&gt;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267080" y="1676520"/>
            <a:ext cx="1067040" cy="304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029200" y="1828800"/>
            <a:ext cx="533520" cy="685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81680" y="1828800"/>
            <a:ext cx="304920" cy="68580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86600" y="1676520"/>
            <a:ext cx="1066680" cy="304560"/>
          </a:xfrm>
          <a:prstGeom prst="line">
            <a:avLst/>
          </a:prstGeom>
          <a:ln w="25560">
            <a:solidFill>
              <a:srgbClr val="fc0128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44956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primary.dat -    Verilog module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HDL entit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编码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primary.vhd -   Verilog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端口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HDL entity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陈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rch_name&gt;.dat - VHD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体系的编码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log.asm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rch_name&gt;.asm –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执行代码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A486-B803-4CC5-8A91-A6550D3CAACD}" type="slidenum">
              <a:t>18</a:t>
            </a:fld>
          </a:p>
        </p:txBody>
      </p:sp>
    </p:spTree>
  </p:cSld>
  <p:transition advTm="61000">
    <p:random/>
    <p:sndAc>
      <p:stSnd>
        <p:snd r:embed="rId1" name="type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505320" cy="20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429000" cy="2766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6400800" y="2514600"/>
            <a:ext cx="25146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c0128"/>
                </a:solidFill>
                <a:uFillTx/>
                <a:latin typeface="Arial"/>
              </a:rPr>
              <a:t>a new library 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和输入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76560" y="2971800"/>
            <a:ext cx="1600200" cy="3049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343040" y="2971800"/>
            <a:ext cx="2133720" cy="9144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3886200"/>
            <a:ext cx="221004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这个命令在局部目录建立一个库子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17200" y="5715000"/>
            <a:ext cx="1709280" cy="3682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CN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lib lpm_s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03E80-8623-4F83-921F-6781985C2FC8}" type="slidenum">
              <a:t>19</a:t>
            </a:fld>
          </a:p>
        </p:txBody>
      </p:sp>
    </p:spTree>
  </p:cSld>
  <p:transition advTm="26000">
    <p:random/>
    <p:sndAc>
      <p:stSnd>
        <p:snd r:embed="rId3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10800000">
            <a:off x="6400800" y="5562360"/>
            <a:ext cx="1295280" cy="152280"/>
          </a:xfrm>
          <a:prstGeom prst="leftArrow">
            <a:avLst>
              <a:gd name="adj1" fmla="val 50000"/>
              <a:gd name="adj2" fmla="val 55249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5562720" y="4952880"/>
            <a:ext cx="2133360" cy="152640"/>
          </a:xfrm>
          <a:prstGeom prst="leftArrow">
            <a:avLst>
              <a:gd name="adj1" fmla="val 50000"/>
              <a:gd name="adj2" fmla="val 90782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4800240" y="4343040"/>
            <a:ext cx="2895480" cy="152280"/>
          </a:xfrm>
          <a:prstGeom prst="leftArrow">
            <a:avLst>
              <a:gd name="adj1" fmla="val 50000"/>
              <a:gd name="adj2" fmla="val 123504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3962160" y="3733560"/>
            <a:ext cx="3733560" cy="152280"/>
          </a:xfrm>
          <a:prstGeom prst="leftArrow">
            <a:avLst>
              <a:gd name="adj1" fmla="val 50000"/>
              <a:gd name="adj2" fmla="val 159252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3276720" y="2513880"/>
            <a:ext cx="4419360" cy="152280"/>
          </a:xfrm>
          <a:prstGeom prst="leftArrow">
            <a:avLst>
              <a:gd name="adj1" fmla="val 50000"/>
              <a:gd name="adj2" fmla="val 188504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3600" y="5791320"/>
            <a:ext cx="152280" cy="380880"/>
          </a:xfrm>
          <a:prstGeom prst="downArrow">
            <a:avLst>
              <a:gd name="adj1" fmla="val 50000"/>
              <a:gd name="adj2" fmla="val 12507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1676520"/>
            <a:ext cx="152640" cy="761760"/>
          </a:xfrm>
          <a:prstGeom prst="upArrow">
            <a:avLst>
              <a:gd name="adj1" fmla="val 50000"/>
              <a:gd name="adj2" fmla="val 166675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1600200"/>
            <a:ext cx="3504960" cy="152280"/>
          </a:xfrm>
          <a:prstGeom prst="leftArrow">
            <a:avLst>
              <a:gd name="adj1" fmla="val 50000"/>
              <a:gd name="adj2" fmla="val 14950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1981080"/>
            <a:ext cx="152280" cy="457200"/>
          </a:xfrm>
          <a:prstGeom prst="downArrow">
            <a:avLst>
              <a:gd name="adj1" fmla="val 50000"/>
              <a:gd name="adj2" fmla="val 73878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1447920"/>
            <a:ext cx="119160" cy="380880"/>
          </a:xfrm>
          <a:prstGeom prst="downArrow">
            <a:avLst>
              <a:gd name="adj1" fmla="val 50000"/>
              <a:gd name="adj2" fmla="val 159833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5181480"/>
            <a:ext cx="152280" cy="292320"/>
          </a:xfrm>
          <a:prstGeom prst="downArrow">
            <a:avLst>
              <a:gd name="adj1" fmla="val 50000"/>
              <a:gd name="adj2" fmla="val 95990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743200"/>
            <a:ext cx="152640" cy="304920"/>
          </a:xfrm>
          <a:prstGeom prst="downArrow">
            <a:avLst>
              <a:gd name="adj1" fmla="val 50000"/>
              <a:gd name="adj2" fmla="val 9989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3352680"/>
            <a:ext cx="152640" cy="304920"/>
          </a:xfrm>
          <a:prstGeom prst="downArrow">
            <a:avLst>
              <a:gd name="adj1" fmla="val 50000"/>
              <a:gd name="adj2" fmla="val 9989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962520"/>
            <a:ext cx="152640" cy="291960"/>
          </a:xfrm>
          <a:prstGeom prst="downArrow">
            <a:avLst>
              <a:gd name="adj1" fmla="val 50000"/>
              <a:gd name="adj2" fmla="val 95645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572000"/>
            <a:ext cx="152280" cy="291960"/>
          </a:xfrm>
          <a:prstGeom prst="downArrow">
            <a:avLst>
              <a:gd name="adj1" fmla="val 50000"/>
              <a:gd name="adj2" fmla="val 95871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6194520"/>
            <a:ext cx="2270160" cy="2919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8280" y="1241280"/>
            <a:ext cx="2197080" cy="2923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81600" y="6172200"/>
            <a:ext cx="67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系统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23920" y="1219320"/>
            <a:ext cx="67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计规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438280"/>
            <a:ext cx="152640" cy="1371600"/>
          </a:xfrm>
          <a:prstGeom prst="upArrow">
            <a:avLst>
              <a:gd name="adj1" fmla="val 50000"/>
              <a:gd name="adj2" fmla="val 314463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3809880"/>
            <a:ext cx="152640" cy="533520"/>
          </a:xfrm>
          <a:prstGeom prst="upArrow">
            <a:avLst>
              <a:gd name="adj1" fmla="val 50000"/>
              <a:gd name="adj2" fmla="val 59760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183456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计输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44404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L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305388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设计综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29000" y="427284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门级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66880" y="366336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局和布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88268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时序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5492160"/>
            <a:ext cx="228600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系统上验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1499760"/>
            <a:ext cx="1523880" cy="3373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修改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4343400"/>
            <a:ext cx="152640" cy="685800"/>
          </a:xfrm>
          <a:prstGeom prst="upArrow">
            <a:avLst>
              <a:gd name="adj1" fmla="val 50000"/>
              <a:gd name="adj2" fmla="val 76816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5029200"/>
            <a:ext cx="152640" cy="609480"/>
          </a:xfrm>
          <a:prstGeom prst="upArrow">
            <a:avLst>
              <a:gd name="adj1" fmla="val 50000"/>
              <a:gd name="adj2" fmla="val 68268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1600200"/>
            <a:ext cx="1524240" cy="152280"/>
          </a:xfrm>
          <a:prstGeom prst="leftArrow">
            <a:avLst>
              <a:gd name="adj1" fmla="val 50000"/>
              <a:gd name="adj2" fmla="val 65015"/>
            </a:avLst>
          </a:prstGeom>
          <a:solidFill>
            <a:srgbClr val="60fcf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5CDC-0CE5-4794-A191-01CD98F10F74}" type="slidenum">
              <a:t>2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逻辑库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必须映射一个逻辑库名到库路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定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库路径里的文件必须已经被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支持相对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绝对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软件路径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需要库在工作目录里没有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ma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B152-5F7D-4ED8-9CB0-2228D4AB59E1}" type="slidenum">
              <a:t>20</a:t>
            </a:fld>
          </a:p>
        </p:txBody>
      </p:sp>
    </p:spTree>
  </p:cSld>
  <p:transition advTm="29000">
    <p:random/>
    <p:sndAc>
      <p:stSnd>
        <p:snd r:embed="rId1" name="type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5486400" y="1828800"/>
          <a:ext cx="34480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828800"/>
                    <a:ext cx="3448080" cy="1905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128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逻辑库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ogical_name&gt; &lt;directory_pa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37339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U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主菜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Brows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reate a New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m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主体的记录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delSim&gt;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  <a:ea typeface="宋体"/>
              </a:rPr>
              <a:t>vmap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y_work c:/my_design/my_lib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C16D5-F4AD-4C26-B0F0-F3B1DF738AFC}" type="slidenum">
              <a:t>21</a:t>
            </a:fld>
          </a:p>
        </p:txBody>
      </p:sp>
    </p:spTree>
  </p:cSld>
  <p:transition advTm="29000">
    <p:random/>
    <p:sndAc>
      <p:stSnd>
        <p:snd r:embed="rId3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50532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现有的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09680" y="1981080"/>
          <a:ext cx="3133800" cy="26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981080"/>
                    <a:ext cx="3133800" cy="2695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095880" y="1905120"/>
            <a:ext cx="205740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fc0128"/>
                </a:solidFill>
                <a:uFillTx/>
                <a:latin typeface="Arial"/>
              </a:rPr>
              <a:t>a map to an existing libra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和输入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885840" y="2362320"/>
            <a:ext cx="2133720" cy="10666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419720"/>
            <a:ext cx="12956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浏览库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81120" y="3733920"/>
            <a:ext cx="1143000" cy="8380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2895480"/>
            <a:ext cx="152388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3200400"/>
            <a:ext cx="274320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用这个命令可映射一个设计单元已经预编译的库目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74560" y="5486400"/>
            <a:ext cx="4159800" cy="3682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CN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map lpm_sim c:/Quartus/library/l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CC58-C94A-42F9-96C4-43DAEA1B837C}" type="slidenum">
              <a:t>22</a:t>
            </a:fld>
          </a:p>
        </p:txBody>
      </p:sp>
    </p:spTree>
  </p:cSld>
  <p:transition advTm="30000">
    <p:random/>
    <p:sndAc>
      <p:stSnd>
        <p:snd r:embed="rId4" name="type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228600" y="1143000"/>
          <a:ext cx="350532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3505320" cy="2028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现有的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1981080"/>
            <a:ext cx="2514600" cy="824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 u="sng">
                <a:solidFill>
                  <a:srgbClr val="fc0128"/>
                </a:solidFill>
                <a:uFillTx/>
                <a:latin typeface="Arial"/>
              </a:rPr>
              <a:t>a new library and a logical mapping to i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输入库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209680" y="1905120"/>
          <a:ext cx="3124440" cy="26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1905120"/>
                    <a:ext cx="3124440" cy="2695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 flipH="1">
            <a:off x="3809520" y="2362320"/>
            <a:ext cx="2210040" cy="9903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3276720"/>
            <a:ext cx="1904760" cy="3373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这个命令在局部目录建立一个库目录然后为它设立映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9480" y="5234040"/>
            <a:ext cx="2457360" cy="64260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zh-CN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vlib my_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</a:t>
            </a:r>
            <a:r>
              <a:rPr b="0" lang="en-US" sz="1800" spc="-1" strike="noStrike">
                <a:solidFill>
                  <a:srgbClr val="fc0128"/>
                </a:solidFill>
                <a:latin typeface="Arial"/>
              </a:rPr>
              <a:t> vmap my_lib my_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66880" y="2286000"/>
            <a:ext cx="2133720" cy="3049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A986D-DD5C-4E66-AD3D-45355BE50E15}" type="slidenum">
              <a:t>23</a:t>
            </a:fld>
          </a:p>
        </p:txBody>
      </p:sp>
    </p:spTree>
  </p:cSld>
  <p:transition advTm="42000">
    <p:random/>
    <p:sndAc>
      <p:stSnd>
        <p:snd r:embed="rId5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344808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射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143000" y="2133720"/>
            <a:ext cx="487836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6324480" y="2895480"/>
            <a:ext cx="19814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dd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按钮建立一个新的库和映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62320" y="4572000"/>
            <a:ext cx="609480" cy="60948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2971440" y="3276720"/>
            <a:ext cx="3352680" cy="1523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0056-31BD-47EF-965D-968BFFD97062}" type="slidenum">
              <a:t>24</a:t>
            </a:fld>
          </a:p>
        </p:txBody>
      </p:sp>
    </p:spTree>
  </p:cSld>
  <p:transition advTm="9000">
    <p:random/>
    <p:sndAc>
      <p:stSnd>
        <p:snd r:embed="rId3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他的库命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指定的库中删除一个完整的库或者一个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Design -&gt; Library Brow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删除库或者映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Design -&gt; View Library Cont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删除设计单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library_name&gt; &lt;design_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指定库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Design -&gt; View Library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d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li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library_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9459-0EF2-413D-9652-40E05A1680D0}" type="slidenum">
              <a:t>25</a:t>
            </a:fld>
          </a:p>
        </p:txBody>
      </p:sp>
    </p:spTree>
  </p:cSld>
  <p:transition advTm="15000">
    <p:random/>
    <p:sndAc>
      <p:stSnd>
        <p:snd r:embed="rId1" name="type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3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译源代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HD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854568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co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-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ibrary_name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1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h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2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按出现的顺序被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ilation order/dependencies (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 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是缺省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Default 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设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9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是第一个参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缺省编译到工作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com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9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_design.v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586728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注意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当库中涉及的设计单元被改变时设计单元必须重新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0791-0001-4B98-8D13-36B1FD9D700A}" type="slidenum">
              <a:t>26</a:t>
            </a:fld>
          </a:p>
        </p:txBody>
      </p:sp>
    </p:spTree>
  </p:cSld>
  <p:transition advTm="0">
    <p:random/>
    <p:sndAc>
      <p:stSnd>
        <p:snd r:embed="rId1" name="type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HDL Design Units Dependenc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219320"/>
            <a:ext cx="838224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befo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Declaration before Package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units must compiled before being referen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before Entity/Architectures us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/Configurations before Architectures referenci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s are compiled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8FBE-7EEB-497C-94B2-A2C30F50D877}" type="slidenum">
              <a:t>27</a:t>
            </a:fld>
          </a:p>
        </p:txBody>
      </p:sp>
    </p:spTree>
  </p:cSld>
  <p:transition advTm="1000">
    <p:random/>
    <p:sndAc>
      <p:stSnd>
        <p:snd r:embed="rId1" name="type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3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译源代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Verilo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84693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Comp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lo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-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ibrary_name&gt;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1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&lt;file2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按出现的顺序被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的顺序或者编辑的顺序不重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增量式编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缺省编译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例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lo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y_design.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14600" y="51055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 u="sng">
                <a:solidFill>
                  <a:srgbClr val="000000"/>
                </a:solidFill>
                <a:uFillTx/>
                <a:latin typeface="Arial"/>
              </a:rPr>
              <a:t>注意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当库中涉及的设计单元被改变时设计单元必须重新分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45DE-9092-4814-82EB-3B45186BE5A7}" type="slidenum">
              <a:t>28</a:t>
            </a:fld>
          </a:p>
        </p:txBody>
      </p:sp>
    </p:spTree>
  </p:cSld>
  <p:transition advTm="25000">
    <p:random/>
    <p:sndAc>
      <p:stSnd>
        <p:snd r:embed="rId1" name="type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量编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19320"/>
            <a:ext cx="8382240" cy="42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只有被改变的设计单元被编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动或者手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手动更有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动在命令行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inc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实例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 referenc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在仿真时解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些错误在编辑时将不能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用的模块没有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正确的端口连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正确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E064-68A7-4306-9ADB-8464384C5FE7}" type="slidenum">
              <a:t>29</a:t>
            </a:fld>
          </a:p>
        </p:txBody>
      </p:sp>
    </p:spTree>
  </p:cSld>
  <p:transition advTm="31000">
    <p:random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7670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流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1066680"/>
            <a:ext cx="839340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计的行为或结构描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仿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l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功能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证逻辑模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使用时间延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要求编辑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综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把设计翻译成原始的目标工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2360" indent="-15804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合适的面积要求和性能要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布局和布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映射设计到目标工艺里指定位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的布线资源应被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4430A-9806-4695-80D3-D7794FE4ED99}" type="slidenum">
              <a:t>3</a:t>
            </a:fld>
          </a:p>
        </p:txBody>
      </p:sp>
    </p:spTree>
  </p:cSld>
  <p:transition advTm="24000">
    <p:random/>
    <p:sndAc>
      <p:stSnd>
        <p:snd r:embed="rId1" name="typ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381480" cy="192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438280" y="2590920"/>
            <a:ext cx="4010040" cy="32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6934320" y="2895480"/>
            <a:ext cx="198108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亮一个或多个文件并点击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124080" y="3276720"/>
            <a:ext cx="3810240" cy="6094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248160" y="3276720"/>
            <a:ext cx="685800" cy="1600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0EEA7-3539-470C-9719-B87322C9E985}" type="slidenum">
              <a:t>30</a:t>
            </a:fld>
          </a:p>
        </p:txBody>
      </p:sp>
    </p:spTree>
  </p:cSld>
  <p:transition advTm="12000">
    <p:random/>
    <p:sndAc>
      <p:stSnd>
        <p:snd r:embed="rId3" name="type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错误信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4267080" y="1143000"/>
          <a:ext cx="4729320" cy="24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143000"/>
                    <a:ext cx="4729320" cy="24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52280" y="3124080"/>
            <a:ext cx="5810400" cy="3005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295280" y="1600200"/>
            <a:ext cx="190512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错误信息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zh-CN" sz="16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窗口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114800" y="1981080"/>
            <a:ext cx="3657600" cy="53352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1828800"/>
            <a:ext cx="99072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4114800"/>
            <a:ext cx="213372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在信息上双击，引起错误的代码在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ourc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窗口被点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047760" y="4419720"/>
            <a:ext cx="3352680" cy="7617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651A-00DE-48EC-928F-EB05B5C2075F}" type="slidenum">
              <a:t>31</a:t>
            </a:fld>
          </a:p>
        </p:txBody>
      </p:sp>
    </p:spTree>
  </p:cSld>
  <p:transition advTm="0">
    <p:random/>
    <p:sndAc>
      <p:stSnd>
        <p:snd r:embed="rId4" name="type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4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仿真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-&gt; Load New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d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-l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library_name&gt; &lt;top_level_desig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p_entity top_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/Architectur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也能选择一个结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p_level1 top_leve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多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级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E64A-26D0-4882-92B8-D1ADDB18C17B}" type="slidenum">
              <a:t>32</a:t>
            </a:fld>
          </a:p>
        </p:txBody>
      </p:sp>
    </p:spTree>
  </p:cSld>
  <p:transition advTm="35000">
    <p:random/>
    <p:sndAc>
      <p:stSnd>
        <p:snd r:embed="rId1" name="type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仿真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391200" cy="197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828800" y="2362320"/>
            <a:ext cx="4097160" cy="347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3" name=""/>
          <p:cNvSpPr/>
          <p:nvPr/>
        </p:nvSpPr>
        <p:spPr>
          <a:xfrm>
            <a:off x="5715000" y="1447920"/>
            <a:ext cx="20574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仿真器的分辨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53080" y="2362320"/>
            <a:ext cx="8384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34320" y="3200400"/>
            <a:ext cx="20574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顶级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modu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entity/archite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276360" y="1600200"/>
            <a:ext cx="2438280" cy="13716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800600" y="2514600"/>
            <a:ext cx="1752480" cy="7621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4038480" y="3429000"/>
            <a:ext cx="2895840" cy="6094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B9B8-2824-4EFB-A699-31D26600B7C3}" type="slidenum">
              <a:t>33</a:t>
            </a:fld>
          </a:p>
        </p:txBody>
      </p:sp>
    </p:spTree>
  </p:cSld>
  <p:transition advTm="19000">
    <p:random/>
    <p:sndAc>
      <p:stSnd>
        <p:snd r:embed="rId3" name="type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仿真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4419720" y="1523880"/>
          <a:ext cx="433368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4333680" cy="3773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3124080" y="2895480"/>
          <a:ext cx="45529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2895480"/>
                    <a:ext cx="4552920" cy="1648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914400" y="2286000"/>
            <a:ext cx="18288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指定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DF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343400"/>
            <a:ext cx="213372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使用定时值的等级的类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如果不是顶级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514600"/>
            <a:ext cx="457200" cy="76212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666880" y="3733920"/>
            <a:ext cx="1524240" cy="8380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B2D4B-6E72-4E18-99A0-9E2B06DFFA7F}" type="slidenum">
              <a:t>34</a:t>
            </a:fld>
          </a:p>
        </p:txBody>
      </p:sp>
    </p:spTree>
  </p:cSld>
  <p:transition advTm="34000">
    <p:random/>
    <p:sndAc>
      <p:stSnd>
        <p:snd r:embed="rId5" name="type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的参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me_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仿真的时间分辨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位可以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fs, ps, ns, ms, sec, min, hr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用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ca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将使用整个设计中的最小的时间精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sdfmin | -sdftyp | -sdf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instance&gt;=&lt;sdf_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实例名也是可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没有使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D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于顶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FC89-5B01-406C-A449-CB49EA5847A6}" type="slidenum">
              <a:t>35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c0128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c0128"/>
                </a:solidFill>
                <a:latin typeface="Wingdings"/>
                <a:ea typeface="Wingdings"/>
              </a:rPr>
              <a:t>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行仿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6183360" cy="19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ru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ime_step&gt; &lt;time_unit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定的时间长度执行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09F31-0CB0-4277-9E9D-F6A3AC3A04DD}" type="slidenum">
              <a:t>36</a:t>
            </a:fld>
          </a:p>
        </p:txBody>
      </p:sp>
    </p:spTree>
  </p:cSld>
  <p:transition advTm="11000">
    <p:random/>
    <p:sndAc>
      <p:stSnd>
        <p:snd r:embed="rId1" name="typ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行仿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UI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572000" y="1905120"/>
          <a:ext cx="324972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05120"/>
                    <a:ext cx="3249720" cy="18478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1066680" y="2666880"/>
            <a:ext cx="2286000" cy="580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数量就可以执行仿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352680" y="2743200"/>
            <a:ext cx="2590920" cy="45720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4267080"/>
            <a:ext cx="2743200" cy="1067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star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重装任何已改动的设计元素并把仿真时间设为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)  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re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4876920" y="3581280"/>
            <a:ext cx="1143000" cy="106704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46574-394D-484C-93B0-F19C15E3FF35}" type="slidenum">
              <a:t>37</a:t>
            </a:fld>
          </a:p>
        </p:txBody>
      </p:sp>
    </p:spTree>
  </p:cSld>
  <p:transition advTm="26000">
    <p:random/>
    <p:sndAc>
      <p:stSnd>
        <p:snd r:embed="rId3" name="typ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参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选的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&lt;timesteps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me_un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运行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位可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fs, ps, ns, ms, se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to the next HDL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contin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上次在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step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断点后的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行仿真器直到没有其他的事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FB71-EED7-4EFC-85F8-509209111642}" type="slidenum">
              <a:t>38</a:t>
            </a:fld>
          </a:p>
        </p:txBody>
      </p:sp>
    </p:spTree>
  </p:cSld>
  <p:transition advTm="15000">
    <p:random/>
    <p:sndAc>
      <p:stSnd>
        <p:snd r:embed="rId1" name="type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举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当前位置运行仿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 timeste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从当前位置运行仿真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0 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3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运行仿真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step 3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14C14-1238-4252-B73D-EEC54701B6D6}" type="slidenum">
              <a:t>39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76708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典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流程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066680"/>
            <a:ext cx="8393400" cy="48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门级仿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delSi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序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验证设计一旦编程或配置将能在目标工艺里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要求编辑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序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验证合乎性能规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能要求编辑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版图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版图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板编程和测试器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8BA5-840D-4672-B68F-387104E54F4A}" type="slidenum">
              <a:t>4</a:t>
            </a:fld>
          </a:p>
        </p:txBody>
      </p:sp>
    </p:spTree>
  </p:cSld>
  <p:transition advTm="10000">
    <p:random/>
    <p:sndAc>
      <p:stSnd>
        <p:snd r:embed="rId1" name="type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仿真器激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测试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常复杂的仿真 交互式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简单的模块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直接从命令控制台输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DO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宏文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5589-52C7-449A-B0AB-6C162D062218}" type="slidenum">
              <a:t>40</a:t>
            </a:fld>
          </a:p>
        </p:txBody>
      </p:sp>
    </p:spTree>
  </p:cSld>
  <p:transition advTm="20000">
    <p:random/>
    <p:sndAc>
      <p:stSnd>
        <p:snd r:embed="rId1" name="type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允许用户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信号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线网予以激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常规语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item_name&gt; &lt;value&gt; &lt;time&gt;, &lt;value&gt; &lt;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item_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被激励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的名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需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是一个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a scalar or one-dimensional array of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66920" indent="-22860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n indexed array, array slice, or record sub-element as long as its of the abov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wildcards as long as only one match is ob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17C2-A4EF-4EF1-8E0F-856C6D5DA9F9}" type="slidenum">
              <a:t>41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被强制的项的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须适合项的数据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必需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值的时间单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相对于当前的仿真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3240" indent="-226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@ character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指定绝对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单位能被指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3240" indent="-226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值是仿真分辨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105520" y="1219320"/>
            <a:ext cx="3733560" cy="219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F30D-8FBB-46AE-9128-4A9430087638}" type="slidenum">
              <a:t>42</a:t>
            </a:fld>
          </a:p>
        </p:txBody>
      </p:sp>
    </p:spTree>
  </p:cSld>
  <p:transition advTm="19000">
    <p:random/>
    <p:sndAc>
      <p:stSnd>
        <p:snd r:embed="rId2" name="type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8347320" cy="45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他参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r[epeat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指定周期重复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for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canc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指定周期后取消强制</a:t>
            </a: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for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选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9BDC-3390-4254-9C27-64AB8D082997}" type="slidenum">
              <a:t>43</a:t>
            </a:fld>
          </a:p>
        </p:txBody>
      </p:sp>
    </p:spTree>
  </p:cSld>
  <p:transition advTm="7000">
    <p:random/>
    <p:sndAc>
      <p:stSnd>
        <p:snd r:embed="rId1" name="type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令举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当前仿真时间强制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s1 01XZ 10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当前仿真时间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强制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1X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s2 16#4F @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仿真启动后强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直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辨率在仿真启动时选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k 0 0, 1 20 -repeat 50 -cancel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当前仿真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强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强制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重复直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下一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时间单位发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ae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k2 1 10 ns, 0 {20 ns} -r 10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ae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上一个例子相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前面的时间单位表达式必须放在大括号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EE08-ACFD-4775-B08A-B2539ADAE674}" type="slidenum">
              <a:t>44</a:t>
            </a:fld>
          </a:p>
        </p:txBody>
      </p:sp>
    </p:spTree>
  </p:cSld>
  <p:transition advTm="27000">
    <p:random/>
    <p:sndAc>
      <p:stSnd>
        <p:snd r:embed="rId1" name="type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动完成仿真步骤的宏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强制仿真激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在所有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式里被调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I)  </a:t>
            </a:r>
            <a:r>
              <a:rPr b="1" i="1" lang="en-US" sz="2000" spc="-1" strike="noStrike">
                <a:solidFill>
                  <a:srgbClr val="063de8"/>
                </a:solidFill>
                <a:latin typeface="Courier New"/>
              </a:rPr>
              <a:t>Macro -&gt;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)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filename&gt;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能调用其他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722640" y="2895480"/>
            <a:ext cx="1783800" cy="2040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cd c:\my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lib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com counter.v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sim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iew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list 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do run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06E3-2F45-4CBB-8DB2-3444C0286AFE}" type="slidenum">
              <a:t>45</a:t>
            </a:fld>
          </a:p>
        </p:txBody>
      </p:sp>
    </p:spTree>
  </p:cSld>
  <p:transition advTm="13000">
    <p:random/>
    <p:sndAc>
      <p:stSnd>
        <p:snd r:embed="rId1" name="type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举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733560" cy="403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cl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cl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-hex /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add wave /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clk 0 0, 1 50 -repeat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clr 0 0, 1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run 5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load 1 0, 0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data 16#A5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force /clk 0 0, 1 50 -repeat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run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5000" y="1752480"/>
            <a:ext cx="1783800" cy="1554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cd c:\myd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lib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com counter.v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sim cou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view 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</a:rPr>
              <a:t>do stimulus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49240" y="135576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_sim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725000" y="1371600"/>
            <a:ext cx="120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mulus.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D1D7-0602-4A4B-92E1-54892DF4D4BD}" type="slidenum">
              <a:t>46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77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F18E-0A8D-4107-ABF9-8CD2901DD477}" type="slidenum">
              <a:t>47</a:t>
            </a:fld>
          </a:p>
        </p:txBody>
      </p:sp>
    </p:spTree>
  </p:cSld>
  <p:transition advTm="2000">
    <p:random/>
    <p:sndAc>
      <p:stSnd>
        <p:snd r:embed="rId2" name="type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特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九个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main, structure, source, signals, process, variables, dataflow, wave,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i="1" lang="zh-CN" sz="2000" spc="-1" strike="noStrike">
                <a:solidFill>
                  <a:srgbClr val="00ae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list </a:t>
            </a:r>
            <a:r>
              <a:rPr b="1" i="1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任何窗口的多个副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拖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一个窗口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鼠标左键，这些项能被从一个窗口拖和放到另一个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可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Dataflow, List, Signals, Source, Structure, Variable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Wave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窗口拖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把它们放到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Lis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ae00"/>
                </a:solidFill>
                <a:latin typeface="Arial"/>
              </a:rPr>
              <a:t>W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8120" y="2895480"/>
            <a:ext cx="5486400" cy="609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注意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i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窗口只允许存在一个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因为这个窗口控制仿真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389A-CE00-46D8-93A8-9DD4FA41463C}" type="slidenum">
              <a:t>48</a:t>
            </a:fld>
          </a:p>
        </p:txBody>
      </p:sp>
    </p:spTree>
  </p:cSld>
  <p:transition advTm="32000">
    <p:random/>
    <p:sndAc>
      <p:stSnd>
        <p:snd r:embed="rId1" name="type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1204920"/>
            <a:ext cx="84884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delSim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是设计加载前的提示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浏览帮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源代码而不用调用一个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SIM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加载后显示的提示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告诉我们仿真器的行为动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声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91120" y="3352680"/>
          <a:ext cx="469584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352680"/>
                    <a:ext cx="4695840" cy="26672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DB62-B4FE-4E22-B405-C1BF5BCA36E1}" type="slidenum">
              <a:t>49</a:t>
            </a:fld>
          </a:p>
        </p:txBody>
      </p:sp>
    </p:spTree>
  </p:cSld>
  <p:transition advTm="0">
    <p:random/>
    <p:sndAc>
      <p:stSnd>
        <p:snd r:embed="rId3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6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概览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57600" y="3809880"/>
            <a:ext cx="1752480" cy="17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2B718-AFD2-4DF0-862D-1FBE1E6F0F30}" type="slidenum">
              <a:t>5</a:t>
            </a:fld>
          </a:p>
        </p:txBody>
      </p:sp>
    </p:spTree>
  </p:cSld>
  <p:transition advTm="4000">
    <p:random/>
    <p:sndAc>
      <p:stSnd>
        <p:snd r:embed="rId2" name="type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8347320" cy="13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Menu -&gt; Brows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加入新库或编辑已有的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浏览和编辑库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5181480" cy="33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78B4-ECAD-4EA0-A99B-32C570F50516}" type="slidenum">
              <a:t>50</a:t>
            </a:fld>
          </a:p>
        </p:txBody>
      </p:sp>
    </p:spTree>
  </p:cSld>
  <p:transition advTm="15000">
    <p:random/>
    <p:sndAc>
      <p:stSnd>
        <p:snd r:embed="rId2" name="type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启动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81480" y="1218960"/>
            <a:ext cx="37641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于选择要加载的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分辨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iers of 1, 10, and 100 each time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包含顶级设计单元的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顶级设计单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y/Architectu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构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441936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76320" y="5181480"/>
            <a:ext cx="5486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Design Me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       </a:t>
            </a: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-&gt; Load New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6248520"/>
            <a:ext cx="38862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si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library_name&gt; &lt;top_level_design_uni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8433-3A34-4C80-91BA-0D64A707EBFF}" type="slidenum">
              <a:t>51</a:t>
            </a:fld>
          </a:p>
        </p:txBody>
      </p:sp>
    </p:spTree>
  </p:cSld>
  <p:transition advTm="35000">
    <p:random/>
    <p:sndAc>
      <p:stSnd>
        <p:snd r:embed="rId2" name="type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Ma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Options Menu -&gt; Simul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486400" cy="384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7C3C-64EB-4331-88EF-685A960B7570}" type="slidenum">
              <a:t>52</a:t>
            </a:fld>
          </a:p>
        </p:txBody>
      </p:sp>
    </p:spTree>
  </p:cSld>
  <p:transition advTm="18000">
    <p:random/>
    <p:sndAc>
      <p:stSnd>
        <p:snd r:embed="rId2" name="type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tructu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54975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设计的结构多层浏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Package, component instantiation, generate and block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– modu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实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named fork, named begin, task,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iation label, entity/module,                                   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为当前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pda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021360" y="1676520"/>
            <a:ext cx="2760840" cy="43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9599-C30C-4473-8BB4-95ECD8A613FA}" type="slidenum">
              <a:t>53</a:t>
            </a:fld>
          </a:p>
        </p:txBody>
      </p:sp>
    </p:spTree>
  </p:cSld>
  <p:transition advTm="13000">
    <p:random/>
    <p:sndAc>
      <p:stSnd>
        <p:snd r:embed="rId2" name="type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ou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3469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菜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源代码的控制浏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-co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关键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符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执行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标识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系统任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全的编辑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保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和重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拖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                                            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变量和常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72428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9" name=""/>
          <p:cNvSpPr/>
          <p:nvPr/>
        </p:nvSpPr>
        <p:spPr>
          <a:xfrm>
            <a:off x="3657600" y="632448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5570-A4E7-4622-8046-79EC1E87C75F}" type="slidenum">
              <a:t>54</a:t>
            </a:fld>
          </a:p>
        </p:txBody>
      </p:sp>
    </p:spTree>
  </p:cSld>
  <p:transition advTm="22000">
    <p:random/>
    <p:sndAc>
      <p:stSnd>
        <p:snd r:embed="rId2" name="type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ourc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所选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的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显示所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当前仿真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724280" cy="293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3" name=""/>
          <p:cNvSpPr/>
          <p:nvPr/>
        </p:nvSpPr>
        <p:spPr>
          <a:xfrm>
            <a:off x="990720" y="4114800"/>
            <a:ext cx="2666880" cy="15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c0128"/>
                </a:solidFill>
                <a:latin typeface="Arial"/>
              </a:rPr>
              <a:t>1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高亮信号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变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常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或寄存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Arial"/>
              </a:rPr>
              <a:t>2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右击鼠标并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400" spc="-1" strike="noStrike">
                <a:solidFill>
                  <a:srgbClr val="063de8"/>
                </a:solidFill>
                <a:latin typeface="Courier New"/>
              </a:rPr>
              <a:t>Object Menu -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63de8"/>
                </a:solidFill>
                <a:latin typeface="Courier New"/>
              </a:rPr>
              <a:t>    </a:t>
            </a:r>
            <a:r>
              <a:rPr b="1" i="1" lang="en-US" sz="1400" spc="-1" strike="noStrike">
                <a:solidFill>
                  <a:srgbClr val="063de8"/>
                </a:solidFill>
                <a:latin typeface="Courier New"/>
              </a:rPr>
              <a:t>Examine/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352680" y="4572000"/>
            <a:ext cx="1981440" cy="38088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3352680" y="4876560"/>
            <a:ext cx="2362320" cy="7596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F6D1-EC7B-43DE-8FEC-D8CFBEC5A86C}" type="slidenum">
              <a:t>55</a:t>
            </a:fld>
          </a:p>
        </p:txBody>
      </p:sp>
    </p:spTree>
  </p:cSld>
  <p:transition advTm="19000">
    <p:random/>
    <p:sndAc>
      <p:stSnd>
        <p:snd r:embed="rId2" name="type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oces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123720" y="1142640"/>
            <a:ext cx="56041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显示外部和内部的处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View -&gt;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all processes scheduled for execution during the current simulation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Courier New"/>
              </a:rPr>
              <a:t>View -&gt;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names of all processes in the region selected in the Structur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819520" cy="268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C770-8A65-4D51-A88E-C10CAE9ABC35}" type="slidenum">
              <a:t>56</a:t>
            </a:fld>
          </a:p>
        </p:txBody>
      </p:sp>
    </p:spTree>
  </p:cSld>
  <p:transition advTm="25000">
    <p:random/>
    <p:sndAc>
      <p:stSnd>
        <p:snd r:embed="rId2" name="type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Proces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123720" y="1142640"/>
            <a:ext cx="56041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示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&lt;Rea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s scheduled to be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&lt;Wai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处理正等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网改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等待超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&lt;Don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has executed a VHDL wait statement without a time-out or sensitivity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2280" y="1295280"/>
          <a:ext cx="2819520" cy="268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2819520" cy="26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FB293-8CF6-460D-A9B1-70C47C9002F7}" type="slidenum">
              <a:t>57</a:t>
            </a:fld>
          </a:p>
        </p:txBody>
      </p:sp>
    </p:spTree>
  </p:cSld>
  <p:transition advTm="18000">
    <p:random/>
    <p:sndAc>
      <p:stSnd>
        <p:snd r:embed="rId3" name="type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Signal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紧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的当前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项的名称和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排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升序，降序或声明顺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层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(+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展开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(-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已展开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寄存器变量和已命名的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拖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于激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浏览选择信号类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输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6356520" y="2666880"/>
            <a:ext cx="25524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8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96E9-E540-4B6A-80F5-085AAB917163}" type="slidenum">
              <a:t>58</a:t>
            </a:fld>
          </a:p>
        </p:txBody>
      </p:sp>
    </p:spTree>
  </p:cSld>
  <p:transition advTm="27000">
    <p:random/>
    <p:sndAc>
      <p:stSnd>
        <p:snd r:embed="rId2" name="type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ataf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4419720"/>
            <a:ext cx="834732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或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网的图形描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或线网在窗口中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that drive signal or net on th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that read the signal or are triggered by the net on th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657600" y="62485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F198-2C39-44BF-B834-53BA1BD0508F}" type="slidenum">
              <a:t>59</a:t>
            </a:fld>
          </a:p>
        </p:txBody>
      </p:sp>
    </p:spTree>
  </p:cSld>
  <p:transition advTm="21000">
    <p:random/>
    <p:sndAc>
      <p:stSnd>
        <p:snd r:embed="rId2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仿真工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5954760" cy="48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技术公司开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工业上最通用的仿真器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版本允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 u="sng">
                <a:solidFill>
                  <a:srgbClr val="fc0128"/>
                </a:solidFill>
                <a:uFillTx/>
                <a:latin typeface="Arial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24480" y="1905120"/>
            <a:ext cx="2286000" cy="2273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24480" y="4400640"/>
            <a:ext cx="2286000" cy="457200"/>
          </a:xfrm>
          <a:prstGeom prst="rect">
            <a:avLst/>
          </a:prstGeom>
          <a:ln w="0">
            <a:noFill/>
          </a:ln>
        </p:spPr>
      </p:pic>
    </p:spTree>
  </p:cSld>
  <p:transition advTm="13000">
    <p:random/>
    <p:sndAc>
      <p:stSnd>
        <p:snd r:embed="rId3" name="type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429000" cy="2971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Dataf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80520" y="4419720"/>
            <a:ext cx="8347320" cy="16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read by or nets that trigger the process on th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or nets driven by the process on th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Double clicking update of signals a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2CD9-E3C5-407F-82C6-132484700739}" type="slidenum">
              <a:t>60</a:t>
            </a:fld>
          </a:p>
        </p:txBody>
      </p:sp>
    </p:spTree>
  </p:cSld>
  <p:transition advTm="9000">
    <p:random/>
    <p:sndAc>
      <p:stSnd>
        <p:snd r:embed="rId2" name="type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Wa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9360" y="1204920"/>
            <a:ext cx="8347320" cy="22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波形浏览仿真结果的图形化的历史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和过程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寄存器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已命名事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于更多的逻辑信号多个波形窗口用于更多的逻辑信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改变信号和向量的基数已方便查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印波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5259600" cy="2616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571800" y="4049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拖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664680" y="3429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缩放菜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64680" y="458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项格式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64680" y="5116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个指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73520" y="6045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强大的编辑和查找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55000" y="353052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i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657600" y="647712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D0D1-DCC1-4EAF-AC28-56218B04F5A2}" type="slidenum">
              <a:t>61</a:t>
            </a:fld>
          </a:p>
        </p:txBody>
      </p:sp>
    </p:spTree>
  </p:cSld>
  <p:transition advTm="116000">
    <p:random/>
    <p:sndAc>
      <p:stSnd>
        <p:snd r:embed="rId2" name="type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Li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表格显示仿真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信号和过程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–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线网和寄存器变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这个窗口或到这个窗口“拖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辑功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建立用户定义的总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dit&gt;Comb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设置触发和选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List - Tabular, Event or TS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r - Add, Delete or G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00600" y="3429000"/>
            <a:ext cx="4172040" cy="269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9" name=""/>
          <p:cNvSpPr/>
          <p:nvPr/>
        </p:nvSpPr>
        <p:spPr>
          <a:xfrm>
            <a:off x="3657600" y="640080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A3EB-49B0-4FBE-85C5-217AED439C3E}" type="slidenum">
              <a:t>62</a:t>
            </a:fld>
          </a:p>
        </p:txBody>
      </p:sp>
    </p:spTree>
  </p:cSld>
  <p:transition advTm="10000">
    <p:random/>
    <p:sndAc>
      <p:stSnd>
        <p:snd r:embed="rId2" name="type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Variab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200040" y="1204560"/>
            <a:ext cx="571500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列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的名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常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eneric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寄存器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当前过程的路径被显示在左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树层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+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可展开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-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已展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升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降序或声明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改变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浏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的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择变量或层中的变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2948040" cy="297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83" name=""/>
          <p:cNvSpPr/>
          <p:nvPr/>
        </p:nvSpPr>
        <p:spPr>
          <a:xfrm>
            <a:off x="3657600" y="6172200"/>
            <a:ext cx="18288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c0128"/>
                </a:solidFill>
                <a:latin typeface="Arial"/>
              </a:rPr>
              <a:t>CO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200" spc="-1" strike="noStrike">
                <a:solidFill>
                  <a:srgbClr val="fc0128"/>
                </a:solidFill>
                <a:latin typeface="Arial"/>
              </a:rPr>
              <a:t>view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6875-268D-420B-B18F-3F9240F870B1}" type="slidenum">
              <a:t>63</a:t>
            </a:fld>
          </a:p>
        </p:txBody>
      </p:sp>
    </p:spTree>
  </p:cSld>
  <p:transition advTm="9000">
    <p:random/>
    <p:sndAc>
      <p:stSnd>
        <p:snd r:embed="rId2" name="type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动更新窗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flow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一个进程被选到这个窗口的中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, Signals, Source, Structur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会被更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一个进程被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flow, Signals, Structure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被更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被选择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是唯一被更新的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从你的设计结构中层次浏览中的一个被选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将自动更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5515-6B1B-48C2-BC8E-9F7B14E48F9C}" type="slidenum">
              <a:t>64</a:t>
            </a:fld>
          </a:p>
        </p:txBody>
      </p:sp>
    </p:spTree>
  </p:cSld>
  <p:transition advTm="0">
    <p:random/>
    <p:sndAc>
      <p:stSnd>
        <p:snd r:embed="rId1" name="type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69720" y="1204560"/>
            <a:ext cx="846936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查找名称或搜索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除两个窗口外其他窗口都允许用户通过菜单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&gt;Fi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查找项名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只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fl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没有这个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能通过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&gt;Search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搜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it&gt;S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菜单选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能被排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升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降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声明顺序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缺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些项按被声明的顺序排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63E5-9651-48CD-AD67-01DBC59A7250}" type="slidenum">
              <a:t>65</a:t>
            </a:fld>
          </a:p>
        </p:txBody>
      </p:sp>
    </p:spTree>
  </p:cSld>
  <p:transition advTm="24000">
    <p:random/>
    <p:sndAc>
      <p:stSnd>
        <p:snd r:embed="rId1" name="type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户界面特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继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个窗口副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从主窗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iew&gt;New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菜单选项建立额外的相同窗口的副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0364-3EFF-49A3-BB82-7C10FDBE87A7}" type="slidenum">
              <a:t>66</a:t>
            </a:fld>
          </a:p>
        </p:txBody>
      </p:sp>
    </p:spTree>
  </p:cSld>
  <p:transition advTm="10000">
    <p:random/>
    <p:sndAc>
      <p:stSnd>
        <p:snd r:embed="rId1" name="type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设计调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什么时候调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编译失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正确或意外的仿真结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调试能力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监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A458-13A6-4D9D-86AF-3C1E77928B77}" type="slidenum">
              <a:t>67</a:t>
            </a:fld>
          </a:p>
        </p:txBody>
      </p:sp>
    </p:spTree>
  </p:cSld>
  <p:transition advTm="15000">
    <p:random/>
    <p:sndAc>
      <p:stSnd>
        <p:snd r:embed="rId1" name="type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监视更多的信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给跟踪加入附加的信号或变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选择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, Signals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窗口 “拖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窗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8334-16E8-41C8-9BF2-09C14C9047CF}" type="slidenum">
              <a:t>68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断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支持两种类型的断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源代码窗口设置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gles –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再次点击删除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有断点数量的限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3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file_name&gt; &lt;line#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条件断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&lt;condition&gt; &lt;ac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hen {b=1 and c/=0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信号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线网和寄存器一起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-1648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也可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p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命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3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b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file_name&gt; &lt;line#&gt; {if{$now/=100}then{cont}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26FD-98A5-4543-B19D-287E4652026A}" type="slidenum">
              <a:t>69</a:t>
            </a:fld>
          </a:p>
        </p:txBody>
      </p:sp>
    </p:spTree>
  </p:cSld>
  <p:transition advTm="11000">
    <p:random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54975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V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者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许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但是不同时许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P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计者能立刻混合仿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log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H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首要的版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所有功能连同附加功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9920" y="1230480"/>
            <a:ext cx="2671560" cy="2298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19920" y="3657600"/>
            <a:ext cx="2684520" cy="234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CAB1-5EEF-4CF0-AB0D-5A3894A57508}" type="slidenum">
              <a:t>7</a:t>
            </a:fld>
          </a:p>
        </p:txBody>
      </p:sp>
    </p:spTree>
  </p:cSld>
  <p:transition advTm="11000">
    <p:random/>
    <p:sndAc>
      <p:stSnd>
        <p:snd r:embed="rId3" name="type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项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集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根目录和子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器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允许你保留当前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项目目录里保存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PF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仍然支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INI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项目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-&gt; New / Open / 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C6462-E68C-4ABC-A100-0AD3AB429BD5}" type="slidenum">
              <a:t>70</a:t>
            </a:fld>
          </a:p>
        </p:txBody>
      </p:sp>
    </p:spTree>
  </p:cSld>
  <p:transition advTm="10000">
    <p:random/>
    <p:sndAc>
      <p:stSnd>
        <p:snd r:embed="rId1" name="type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由用户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安装目录一个缺省文件被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被编译器和仿真器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有初始信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启动文件的定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166680">
              <a:lnSpc>
                <a:spcPct val="80000"/>
              </a:lnSpc>
              <a:spcBef>
                <a:spcPts val="451"/>
              </a:spcBef>
              <a:buClr>
                <a:srgbClr val="fc01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m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</a:rPr>
              <a:t>其他缺省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i="1" lang="en-US" sz="24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下列顺序搜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.i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环境变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 variable called MODELSIM which points directly to the modelsim.ini file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file called modelsim.ini located in the current working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缺省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件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Si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软件安装树目录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47DB-0C7A-463C-BE53-3CED167DC0D0}" type="slidenum">
              <a:t>71</a:t>
            </a:fld>
          </a:p>
        </p:txBody>
      </p:sp>
    </p:spTree>
  </p:cSld>
  <p:transition advTm="47000">
    <p:random/>
    <p:sndAc>
      <p:stSnd>
        <p:snd r:embed="rId1" name="type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rtup.do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脚本自动执行通过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s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例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up.d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象这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wave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调用一个启动文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未注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移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”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im.in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行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文件提供路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Startup = do /path ..../startup.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269E-F7C9-4657-80B6-B6A2B8D46620}" type="slidenum">
              <a:t>72</a:t>
            </a:fld>
          </a:p>
        </p:txBody>
      </p:sp>
    </p:spTree>
  </p:cSld>
  <p:transition advTm="21000">
    <p:random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0"/>
            <a:ext cx="8347320" cy="8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Si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EM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9360" y="1204560"/>
            <a:ext cx="8347320" cy="44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提供完全的标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7 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3 VH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1364-’95 Veri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F 1.0 -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 2.2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TAL ‘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易用的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用的平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6E8E-A4AB-4EB9-961D-9F6855831CF4}" type="slidenum">
              <a:t>8</a:t>
            </a:fld>
          </a:p>
        </p:txBody>
      </p:sp>
    </p:spTree>
  </p:cSld>
  <p:transition advTm="6000">
    <p:random/>
    <p:sndAc>
      <p:stSnd>
        <p:snd r:embed="rId1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95320" y="17521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i="1" lang="en-US" sz="3600" spc="-1" strike="noStrike">
                <a:solidFill>
                  <a:srgbClr val="063de8"/>
                </a:solidFill>
                <a:latin typeface="Arial"/>
              </a:rPr>
              <a:t>Sim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仿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2286000" cy="2273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5315040"/>
            <a:ext cx="228600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EE92-948D-4504-988B-B0C7E0F1911E}" type="slidenum">
              <a:t>9</a:t>
            </a:fld>
          </a:p>
        </p:txBody>
      </p:sp>
    </p:spTree>
  </p:cSld>
  <p:transition advTm="6000">
    <p:random/>
    <p:sndAc>
      <p:stSnd>
        <p:snd r:embed="rId3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1:08:45Z</dcterms:created>
  <dc:creator>张冬平</dc:creator>
  <dc:description/>
  <dc:language>en-US</dc:language>
  <cp:lastModifiedBy>wuxinhua</cp:lastModifiedBy>
  <cp:lastPrinted>2000-08-02T19:25:09Z</cp:lastPrinted>
  <dcterms:modified xsi:type="dcterms:W3CDTF">2005-05-30T03:28:24Z</dcterms:modified>
  <cp:revision>473</cp:revision>
  <dc:subject>ver. 2</dc:subject>
  <dc:title>Modelsim中文教程</dc:title>
</cp:coreProperties>
</file>