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64C-6B39-4CF7-88DE-406241C1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BB4E-C3AF-451B-82F7-0A1A8D39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A10-7169-4776-A07F-8E006C56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610-2A0E-44A8-AD7D-67CFBB14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EA4D-6AC7-46D0-834F-0F89B10E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52F1-C0EF-4111-AFF6-BC364F85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E041-D36D-4EE6-85DF-96A712FD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3ED6-B9D1-4653-9F36-1A6EAF85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780E-D0AE-4C9D-B806-721B1F1C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F1F0-D6EA-4230-83C0-2003AB29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4138-D0E3-4D76-B721-1FC77BF8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56B-43E7-4048-BAE1-5F2DDEAB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BDEE-E468-49FB-BAEC-5EA961BC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FF8E-47EB-42FB-9809-4287C0A3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237B-961F-4CA4-A8E8-46CC69BD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D6EA-269C-492C-B825-42379E39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86AC-FB4A-4C4F-9275-C03D845D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2DE-B1C3-4139-A0E3-AA7C250D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6F9-B2E4-4E76-9059-CE66DDC0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C8C-A3CA-4A2E-AF2B-B9C29619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C766-B7D2-4A82-8E7D-FCE4A79E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B32-27FB-443A-AD9B-03CE091D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1866-705B-45F2-906F-A27A02DB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D77-7E13-48AE-B289-1F72DF1E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BA69-8034-4F8D-BE98-B64371C4952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063F-276F-4D25-A1F8-7E37751034A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spiration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905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Inspiration</a:t>
            </a: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软件的使用方法</a:t>
            </a: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010480" cy="3943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03280" y="64911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南师范大学教育技术系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云端老师编写于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8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编辑文字和框图。选中某个框图后，通过点击“符号标记面板”中的框图符号概念当前的框图符号，还可以通过下面的“文本编辑工具”编辑选中的框图中文字和框图的颜色等。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经过修改编辑后的概念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431964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为概念增加注释。选择一个概念，如选中“主题概念”，然后用鼠标单击工具中的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ote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钮（注释按钮），即弹出一个文字输入框，在其中可以输入文字，也可以通过“复制——粘贴”的操作插入图片，其中的文字仍然可以按照前面的方法进行编辑，如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388800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超级链接功能。选中某概念框图或者注释中的文字，点击工具中的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yperlink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弹出对话框，可以进行选择，链接其他文件，如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示，选择了“概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1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行超级链接，可以和网页、电子邮件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spira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者其他任何文件链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22936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．官方网站：</a:t>
            </a:r>
            <a:r>
              <a:rPr b="0" lang="zh-CN" sz="2400" spc="-1" strike="noStrike" u="sng">
                <a:solidFill>
                  <a:srgbClr val="996600"/>
                </a:solidFill>
                <a:uFillTx/>
                <a:latin typeface="Garamond"/>
                <a:hlinkClick r:id="rId1"/>
              </a:rPr>
              <a:t>www.inspiration.com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，网站上提供试用版下载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2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．界面介绍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图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是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inspiration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的图表视图界面，图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2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是它的提纲结构界面。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76360" y="1700280"/>
            <a:ext cx="52484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57610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3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．主要功能按钮简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43000" y="1133640"/>
            <a:ext cx="731664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4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．操作简介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      确认本计算机安装了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inspiration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软件后，运行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inspiration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软件，即打开界面，如图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3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所示。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1525680"/>
            <a:ext cx="568800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在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in idea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概念框图中输入相应的概念，例如我们输入“主题概念”，然后在空白处单击鼠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将鼠标移到空白的某一位置，假设该位置就是下一个概念框图的位置，然后单击鼠标（这步操作暂称为“确定概念框图位置”，下同），然后单击鼠标，出现一“十”字形状，此时通过键盘输入“概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1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就能够再建立一个概念框图了，如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63640" y="3429000"/>
            <a:ext cx="5114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如果制作者感到这些图不能满足要求的时候，还可以通过“复制——粘贴”的操作将外部的图形导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spira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作为概念的框图符号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54007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建立概念间的链接。点击“图标工具”中的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ink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钮（链接按钮），将鼠标移到“主题概念”框图上并单击，不松开鼠标，拖动到“概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1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再放开鼠标，就建立了两个概念间的联系线条。同样可以建立其他概念间的联系线条。如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示，</a:t>
            </a:r>
            <a:r>
              <a:rPr b="0" lang="zh-CN" sz="2400" spc="-1" strike="noStrike">
                <a:solidFill>
                  <a:srgbClr val="3b812f"/>
                </a:solidFill>
                <a:latin typeface="Arial"/>
              </a:rPr>
              <a:t>可以在连线上出现的方框中写入表示概念间关系的简短关键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439272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修改线条。选择某根线条，鼠标指在其上并单击右键，在快捷菜单中可以对线条的粗细、类型、颜色、方向等进行编辑。如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示，将图示中的线条箭头选择为双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429588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3:23:51Z</dcterms:created>
  <dc:creator>User</dc:creator>
  <dc:description/>
  <dc:language>en-US</dc:language>
  <cp:lastModifiedBy>USER</cp:lastModifiedBy>
  <dcterms:modified xsi:type="dcterms:W3CDTF">2009-03-29T14:20:59Z</dcterms:modified>
  <cp:revision>11</cp:revision>
  <dc:subject/>
  <dc:title>Inspiration软件的使用方法 </dc:title>
</cp:coreProperties>
</file>