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696-85E9-4C25-8E6B-DB0677BF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126-177A-44AF-BD35-71582125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A73-DD71-4BA5-8F88-DAEE9DA6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438-0CF1-421D-AA68-DBC91FCE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C3B-93D1-47F4-8BD3-A53EB509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511-4144-461C-AE1A-3D0FB570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3D0-6248-4002-96F0-688FF842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64F-D7E2-47A5-A063-D88FF147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553-20AD-47E4-B560-BCD9C2EA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8B4-1FD8-4A0D-B1BA-D0DA5E44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6A61-906F-44A5-B503-E0EE4B7B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AFF-A476-4D94-86E1-58BFE268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4D04-0701-49A2-9C77-1DF3121FCA1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C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2C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8192C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quick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xecute shell script “install.s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./install.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192cu_linux_v2.0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rtl8192CU_linux_v2.0.1180.20101116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2) step2: make 8192C USB drive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./c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4) step4: insert 8192C USB 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insmod 8192cu.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step1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georgia</cp:lastModifiedBy>
  <dcterms:modified xsi:type="dcterms:W3CDTF">2010-11-16T14:10:58Z</dcterms:modified>
  <cp:revision>115</cp:revision>
  <dc:subject/>
  <dc:title>投影片 1</dc:title>
</cp:coreProperties>
</file>