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C70-FDD4-463D-8DB2-716D3C87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A71-B23A-4C9D-BA15-6C1721BB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9D536-0EDC-4BB0-93DC-C4ECD9C4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81A95-41A1-4EA8-A559-65D73DBA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45438-C3C4-4787-9EAA-C84A883A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FC88E-2667-40B8-B803-34C4E089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124F2-4B14-417A-8D72-E78939F3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39E01-BC4C-4922-B0A4-81257BD7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29256-AD33-4E95-851D-EC514C51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C0E82-A70A-4590-A792-4F86C2F4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343BB-C211-4379-924F-51CCAF68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5C4F2-4996-4940-B52A-B0A1EC04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F8B-2E45-4D80-BE48-18896846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B49B6-6831-44C2-A4F5-574D2CB5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7C4A9-85E0-4871-B2EB-D5F0D5AC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18C8F-7BF1-4840-8486-1291E5F0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64267-843A-4E67-B7C4-4F7BA300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55A84-3234-4EF6-BF86-59C7908A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45AB6-BE14-4EF9-9931-2944F248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DC298-CE26-4843-A20A-1F48819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705EC-133B-44F3-9982-D0621B94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4903E-8731-47CA-BE75-3822C7D3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C6CA2-1944-424C-A241-3FE58179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E65-7EAA-49C9-BBD2-626606BC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E5CE6-5CD1-4EC5-8986-BDF41517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3176B-1406-44D5-B91A-D6BBD776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25447-CA0B-4D87-A97B-F730D45E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22C9E-6ACA-490C-960B-39E45CDC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BBDC0-B85F-427C-BBA7-3602A552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2B6BB-0E71-43EF-923D-0891D9C8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D313C-2372-49B0-8A5D-975E5D05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4A07F-8624-4756-8E5E-51FC462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F9EEC-0986-4605-BF40-790F4FD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68D38-F420-40DE-9234-C44142C7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5EE1-4DE1-4694-AE3B-1B406248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1609A-FDDC-4E31-8B68-A4AE92C2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DC829-C317-45AF-81A4-95073413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572CF-17A3-4127-9AF6-A7A16E72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ED1F-D125-4E86-A6E0-3E17D629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2F4E-8FC9-4269-9F8D-318FD69C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F138-2D5D-407A-92A6-ED11AFC7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0C0C-B576-4997-A89F-FA5A636B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AF52-C04C-4BC1-B6A5-03411307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D7E7-FF29-4516-9CE5-AB833B08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6C2-2284-4768-9259-5EFD2CFA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0E19-19A5-4F78-88D6-745D665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2CE0-E605-4D25-9E2D-C357D3B0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27F7-3178-4005-AB7F-38CFC756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59EA-E70C-400D-82FC-500D5A4C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EF3E-CD8E-44E0-9842-F4E23EC5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2609-486F-48CC-B316-0BDEC6B4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5C97-3EA2-4139-81B7-6673A296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1C578-F445-438D-94A5-2B820C1F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A504-4BA9-463D-9E06-2E2021C3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30A7E-23A7-46DE-8DE0-C546BAFB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825-EF03-4273-90B2-DB2E85BB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4B03-E95E-4E98-A1AB-9B683464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3FAD-3675-4F63-9D97-E6367339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801D-5EF3-46F8-BB74-71D8568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702E-B2F0-4D15-8E42-AE74B7B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FADF5-0570-4DF2-8119-154280B7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9DA3-8809-4CD5-B705-3648CCD4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866D-99DB-4F03-AABD-7AE44583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3A058-33C9-4DA8-AD4F-561755CA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F4BFC-CB67-4B96-82F5-5142AF1E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2E5E9-0615-4258-9FE2-9C28CF1A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7FD-62E0-41DE-8DA7-9F03D20E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8ABE1-D865-45CF-AA8E-85D9C4A1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77AE8-09A9-4247-A519-713943D5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3318B-BAED-4904-9347-5F16BCAB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4CD8B-E9EB-4B5F-BE82-78284815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15F83-5E24-4DAE-B533-E1225D0A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DEED-E337-4378-B5CF-21001E32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809BD-264F-4AFE-AD5F-74B224E9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F339-1F95-4D3C-A4CA-40F091D0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7075E-DDC8-4CAF-8EDA-40781124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45046-1D1F-4CC2-980A-89CEBBF7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FB4-2E65-4E7E-8069-374D976A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FA2A1-8647-4477-BE07-43A903B4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FBA48-3EF8-4321-A81E-69F5BA47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975F9-8553-4BFD-B86D-9BED7FAF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E1DB4-31D7-4031-AF92-0619FD34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07407-F440-47B1-B0E9-B3275986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76C22-6F27-41FA-B31A-8A87E66B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2313E-3AE0-4A86-9377-C11E86C0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1AECF-006C-4F61-9952-77ED7CF9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8651B-0720-4F10-9D8A-57630007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9D3AE-7026-4591-A7F9-5CA5138D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640-18C2-4FC8-9BBC-F00AD3C8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DBB08-5CDC-4A5B-9433-E9AC16AF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DBA6-9F89-4282-9B10-CAE15F5B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60302-8A84-4703-A920-F22C0477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02E31-5246-4E7C-996D-2E90D6EF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F36C5-82E8-46FC-859D-E2EEAF62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E2B2-338D-4119-9A0D-3C3B3C40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9BD3A-AB01-4D4D-9D6E-ED788E95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5301A-3EFE-44C8-A0E0-AAA13761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BC6C5-2249-4685-90FF-0B92D505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51AB5-2BF6-4590-90DC-017DB2B8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001-49AC-4C87-9EFF-6AA49BD6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F6F6A-2A4E-404D-85EA-21F32245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528D4-445A-4E81-985A-ECF00F0A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81F1C-08BF-4A9C-B9EA-1E94E5AB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667CA-FDA6-4E2B-ACFB-C254EE69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F6894-B6D2-441D-8BEB-2800AB6C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CF8AC-3A7E-4978-801D-CB830483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7701D-F0DE-4AEB-B6A4-A6462D18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26CC4-FF2B-4FBB-B307-6E130D95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DD5AF-54E3-46B9-8313-DCC16DB8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B3D03-E63A-4086-B471-320B4BBB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A95-E902-4279-9376-AB135E71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DCF46-EC59-4E14-A683-C42E0743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0C1A7-0875-4399-B88C-D6B71A3E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8BCA8-2CC4-40A2-AC7A-53AB4062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CA5CC-5C4B-4A3E-A56F-0C48D49D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E052B-CC1A-4FF7-B851-22CB8DC0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0D839-CACC-4039-BF0B-09C37991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EF094-9B77-46F5-9263-BF5EA35D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5D92B-E833-4D30-B51C-EF032C3D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23640-73FC-48B4-9433-ED0FDC66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C17E4-2721-44C2-AA05-3DF0D702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501-51E3-4770-8B09-835EA747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DD3B1-25F2-41E4-B3CE-FAA6A85E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78024-5B55-44A5-81C3-FD9A315D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EBE9D-14C4-4C1A-891B-9E9FCB2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02892-BFA4-4AFF-BA95-16535E7B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72EEA-9B8A-4C4D-A0F4-1971FB3A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6E077-CE5C-458C-A952-3D0F69FB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312F3-EC38-48B1-B69D-DB88EA98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02444-31F6-4307-93BA-078FE02C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54883-CB9A-4B52-A2CA-0E4A9C5B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F1237-12E0-4FA0-895E-C61FA6BB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28CE-8149-40FA-8D71-4F0AF29BB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9070-1C11-4D7B-A08E-6880EB4ED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CD94-FD92-4352-A397-2E5104BDC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47AB-5E9A-4EEC-96B0-B96122E0C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2495-9648-414F-89B1-5DD406FF6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765E-7C3A-4FCF-B56F-A5F52C51C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7982-C1C9-4C97-B244-5680711EE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EAEC-BB27-4D85-98E6-B9C4F0740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B602-8A1A-4CAD-9619-3D0264428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E060-78F1-4F05-8B5B-86A70B3BF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B367-8273-42F8-A522-961B8BB4E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35:03Z</dcterms:created>
  <dc:creator>MC SYSTEM</dc:creator>
  <dc:description/>
  <dc:language>en-US</dc:language>
  <cp:lastModifiedBy>未知用户</cp:lastModifiedBy>
  <dcterms:modified xsi:type="dcterms:W3CDTF">2016-02-22T06:50:47Z</dcterms:modified>
  <cp:revision>10</cp:revision>
  <dc:subject/>
  <dc:title>模板世界祝所有女性朋友节日快乐！</dc:title>
</cp:coreProperties>
</file>