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420920" cy="6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1c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541c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AutoShape 12"/>
          <p:cNvCxnSpPr/>
          <p:nvPr/>
        </p:nvCxnSpPr>
        <p:spPr>
          <a:xfrm>
            <a:off x="5549400" y="5519520"/>
            <a:ext cx="2164680" cy="1080"/>
          </a:xfrm>
          <a:prstGeom prst="straightConnector1">
            <a:avLst/>
          </a:prstGeom>
          <a:ln w="15840">
            <a:solidFill>
              <a:srgbClr val="ffffff"/>
            </a:solidFill>
            <a:prstDash val="sysDot"/>
            <a:miter/>
          </a:ln>
        </p:spPr>
      </p:cxnSp>
      <p:cxnSp>
        <p:nvCxnSpPr>
          <p:cNvPr id="42" name="AutoShape 12"/>
          <p:cNvCxnSpPr/>
          <p:nvPr/>
        </p:nvCxnSpPr>
        <p:spPr>
          <a:xfrm>
            <a:off x="5765400" y="5986080"/>
            <a:ext cx="1948320" cy="1080"/>
          </a:xfrm>
          <a:prstGeom prst="straightConnector1">
            <a:avLst/>
          </a:prstGeom>
          <a:ln w="15840">
            <a:solidFill>
              <a:srgbClr val="ffffff"/>
            </a:solidFill>
            <a:prstDash val="sysDot"/>
            <a:miter/>
          </a:ln>
        </p:spPr>
      </p:cxnSp>
      <p:cxnSp>
        <p:nvCxnSpPr>
          <p:cNvPr id="43" name="AutoShape 12"/>
          <p:cNvCxnSpPr/>
          <p:nvPr/>
        </p:nvCxnSpPr>
        <p:spPr>
          <a:xfrm flipH="1">
            <a:off x="1361880" y="5519520"/>
            <a:ext cx="2164320" cy="1080"/>
          </a:xfrm>
          <a:prstGeom prst="straightConnector1">
            <a:avLst/>
          </a:prstGeom>
          <a:ln w="15840">
            <a:solidFill>
              <a:srgbClr val="ffffff"/>
            </a:solidFill>
            <a:prstDash val="sysDot"/>
            <a:miter/>
          </a:ln>
        </p:spPr>
      </p:cxnSp>
      <p:cxnSp>
        <p:nvCxnSpPr>
          <p:cNvPr id="44" name="AutoShape 12"/>
          <p:cNvCxnSpPr/>
          <p:nvPr/>
        </p:nvCxnSpPr>
        <p:spPr>
          <a:xfrm flipH="1">
            <a:off x="1361880" y="5986080"/>
            <a:ext cx="1948320" cy="1080"/>
          </a:xfrm>
          <a:prstGeom prst="straightConnector1">
            <a:avLst/>
          </a:prstGeom>
          <a:ln w="15840">
            <a:solidFill>
              <a:srgbClr val="ffffff"/>
            </a:solidFill>
            <a:prstDash val="sysDot"/>
            <a:miter/>
          </a:ln>
        </p:spPr>
      </p:cxnSp>
      <p:cxnSp>
        <p:nvCxnSpPr>
          <p:cNvPr id="45" name="AutoShape 12"/>
          <p:cNvCxnSpPr/>
          <p:nvPr/>
        </p:nvCxnSpPr>
        <p:spPr>
          <a:xfrm flipH="1">
            <a:off x="1362240" y="5117760"/>
            <a:ext cx="2379960" cy="1080"/>
          </a:xfrm>
          <a:prstGeom prst="straightConnector1">
            <a:avLst/>
          </a:prstGeom>
          <a:ln w="15840">
            <a:solidFill>
              <a:srgbClr val="ffffff"/>
            </a:solidFill>
            <a:prstDash val="sysDot"/>
            <a:miter/>
          </a:ln>
        </p:spPr>
      </p:cxnSp>
      <p:sp>
        <p:nvSpPr>
          <p:cNvPr id="46" name="TextBox 5"/>
          <p:cNvSpPr/>
          <p:nvPr/>
        </p:nvSpPr>
        <p:spPr>
          <a:xfrm>
            <a:off x="25092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扩散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655560" y="1247760"/>
            <a:ext cx="7813800" cy="5319720"/>
          </a:xfrm>
          <a:prstGeom prst="roundRect">
            <a:avLst>
              <a:gd name="adj" fmla="val 5269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4"/>
          <p:cNvSpPr/>
          <p:nvPr/>
        </p:nvSpPr>
        <p:spPr>
          <a:xfrm flipH="1" flipV="1" rot="14748600">
            <a:off x="5135400" y="2309040"/>
            <a:ext cx="1217520" cy="446040"/>
          </a:xfrm>
          <a:prstGeom prst="pie">
            <a:avLst/>
          </a:prstGeom>
          <a:gradFill rotWithShape="0">
            <a:gsLst>
              <a:gs pos="0">
                <a:srgbClr val="38c52d"/>
              </a:gs>
              <a:gs pos="100000">
                <a:srgbClr val="195a14"/>
              </a:gs>
            </a:gsLst>
            <a:lin ang="68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 flipV="1" rot="6851400">
            <a:off x="2823480" y="2285280"/>
            <a:ext cx="1217880" cy="446400"/>
          </a:xfrm>
          <a:prstGeom prst="pie">
            <a:avLst/>
          </a:prstGeom>
          <a:gradFill rotWithShape="0">
            <a:gsLst>
              <a:gs pos="0">
                <a:srgbClr val="fa5900"/>
              </a:gs>
              <a:gs pos="100000">
                <a:srgbClr val="732900"/>
              </a:gs>
            </a:gsLst>
            <a:lin ang="68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2"/>
          <p:cNvCxnSpPr/>
          <p:nvPr/>
        </p:nvCxnSpPr>
        <p:spPr>
          <a:xfrm>
            <a:off x="5334120" y="5117760"/>
            <a:ext cx="2379960" cy="1080"/>
          </a:xfrm>
          <a:prstGeom prst="straightConnector1">
            <a:avLst/>
          </a:prstGeom>
          <a:ln w="15840">
            <a:solidFill>
              <a:srgbClr val="ffffff"/>
            </a:solidFill>
            <a:prstDash val="sysDot"/>
            <a:miter/>
          </a:ln>
        </p:spPr>
      </p:cxnSp>
      <p:sp>
        <p:nvSpPr>
          <p:cNvPr id="51" name="AutoShape 6"/>
          <p:cNvSpPr/>
          <p:nvPr/>
        </p:nvSpPr>
        <p:spPr>
          <a:xfrm flipH="1" rot="16200000">
            <a:off x="7415280" y="4818240"/>
            <a:ext cx="263520" cy="295200"/>
          </a:xfrm>
          <a:custGeom>
            <a:avLst/>
            <a:gdLst>
              <a:gd name="textAreaLeft" fmla="*/ 360 w 263520"/>
              <a:gd name="textAreaRight" fmla="*/ 264240 w 26352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flipH="1" rot="16200000">
            <a:off x="7414560" y="5241240"/>
            <a:ext cx="264960" cy="295200"/>
          </a:xfrm>
          <a:custGeom>
            <a:avLst/>
            <a:gdLst>
              <a:gd name="textAreaLeft" fmla="*/ 360 w 264960"/>
              <a:gd name="textAreaRight" fmla="*/ 265680 w 26496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flipH="1" rot="16200000">
            <a:off x="7414560" y="5698440"/>
            <a:ext cx="264960" cy="295200"/>
          </a:xfrm>
          <a:custGeom>
            <a:avLst/>
            <a:gdLst>
              <a:gd name="textAreaLeft" fmla="*/ 360 w 264960"/>
              <a:gd name="textAreaRight" fmla="*/ 265680 w 26496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空心弧 69"/>
          <p:cNvSpPr/>
          <p:nvPr/>
        </p:nvSpPr>
        <p:spPr>
          <a:xfrm>
            <a:off x="3427560" y="1862280"/>
            <a:ext cx="2286000" cy="2286000"/>
          </a:xfrm>
          <a:prstGeom prst="pie">
            <a:avLst/>
          </a:prstGeom>
          <a:gradFill rotWithShape="0">
            <a:gsLst>
              <a:gs pos="0">
                <a:srgbClr val="094f71"/>
              </a:gs>
              <a:gs pos="50000">
                <a:srgbClr val="15acf7"/>
              </a:gs>
              <a:gs pos="100000">
                <a:srgbClr val="094f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空心弧 68"/>
          <p:cNvSpPr/>
          <p:nvPr/>
        </p:nvSpPr>
        <p:spPr>
          <a:xfrm>
            <a:off x="3492360" y="1938240"/>
            <a:ext cx="2160720" cy="2160720"/>
          </a:xfrm>
          <a:prstGeom prst="pie">
            <a:avLst/>
          </a:prstGeom>
          <a:gradFill rotWithShape="0">
            <a:gsLst>
              <a:gs pos="0">
                <a:srgbClr val="094f71"/>
              </a:gs>
              <a:gs pos="50000">
                <a:srgbClr val="15acf7"/>
              </a:gs>
              <a:gs pos="100000">
                <a:srgbClr val="094f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41"/>
          <p:cNvSpPr/>
          <p:nvPr/>
        </p:nvSpPr>
        <p:spPr>
          <a:xfrm flipH="1" rot="1539000">
            <a:off x="2714400" y="5635440"/>
            <a:ext cx="76176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5900"/>
              </a:gs>
              <a:gs pos="50000">
                <a:srgbClr val="732900"/>
              </a:gs>
              <a:gs pos="100000">
                <a:srgbClr val="fa5900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40"/>
          <p:cNvSpPr/>
          <p:nvPr/>
        </p:nvSpPr>
        <p:spPr>
          <a:xfrm flipH="1" rot="1539000">
            <a:off x="2924280" y="5197320"/>
            <a:ext cx="761760" cy="30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5900"/>
              </a:gs>
              <a:gs pos="50000">
                <a:srgbClr val="732900"/>
              </a:gs>
              <a:gs pos="100000">
                <a:srgbClr val="fa5900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39"/>
          <p:cNvSpPr/>
          <p:nvPr/>
        </p:nvSpPr>
        <p:spPr>
          <a:xfrm flipH="1" rot="1539000">
            <a:off x="3145680" y="4743360"/>
            <a:ext cx="76176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5900"/>
              </a:gs>
              <a:gs pos="50000">
                <a:srgbClr val="732900"/>
              </a:gs>
              <a:gs pos="100000">
                <a:srgbClr val="fa5900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36"/>
          <p:cNvSpPr/>
          <p:nvPr/>
        </p:nvSpPr>
        <p:spPr>
          <a:xfrm flipH="1" rot="1539000">
            <a:off x="2997360" y="4057560"/>
            <a:ext cx="380880" cy="213516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2135160"/>
              <a:gd name="textAreaBottom" fmla="*/ 2079360 h 2135160"/>
            </a:gdLst>
            <a:ahLst/>
            <a:rect l="textAreaLeft" t="textAreaTop" r="textAreaRight" b="textAreaBottom"/>
            <a:pathLst>
              <a:path w="21600" h="120993">
                <a:moveTo>
                  <a:pt x="10800" y="0"/>
                </a:moveTo>
                <a:arcTo wR="10800" hR="10800" stAng="16200000" swAng="-5400000"/>
                <a:lnTo>
                  <a:pt x="0" y="110193"/>
                </a:lnTo>
                <a:arcTo wR="10800" hR="10800" stAng="10800000" swAng="-5400000"/>
                <a:lnTo>
                  <a:pt x="10800" y="12099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732900"/>
              </a:gs>
              <a:gs pos="100000">
                <a:srgbClr val="fa5900"/>
              </a:gs>
            </a:gsLst>
            <a:lin ang="9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37"/>
          <p:cNvSpPr/>
          <p:nvPr/>
        </p:nvSpPr>
        <p:spPr>
          <a:xfrm flipH="1" rot="1539000">
            <a:off x="3091680" y="4066920"/>
            <a:ext cx="152280" cy="213336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133360"/>
              <a:gd name="textAreaBottom" fmla="*/ 2111040 h 2133360"/>
            </a:gdLst>
            <a:ahLst/>
            <a:rect l="textAreaLeft" t="textAreaTop" r="textAreaRight" b="textAreaBottom"/>
            <a:pathLst>
              <a:path w="21600" h="301942">
                <a:moveTo>
                  <a:pt x="10800" y="0"/>
                </a:moveTo>
                <a:arcTo wR="10800" hR="10800" stAng="16200000" swAng="-5400000"/>
                <a:lnTo>
                  <a:pt x="0" y="291142"/>
                </a:lnTo>
                <a:arcTo wR="10800" hR="10800" stAng="10800000" swAng="-5400000"/>
                <a:lnTo>
                  <a:pt x="10800" y="3019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a5900"/>
              </a:gs>
              <a:gs pos="50000">
                <a:srgbClr val="732900"/>
              </a:gs>
              <a:gs pos="100000">
                <a:srgbClr val="fa5900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心圆 35"/>
          <p:cNvSpPr/>
          <p:nvPr/>
        </p:nvSpPr>
        <p:spPr>
          <a:xfrm flipH="1" rot="1539000">
            <a:off x="3201480" y="3087720"/>
            <a:ext cx="1371600" cy="1373040"/>
          </a:xfrm>
          <a:prstGeom prst="pie">
            <a:avLst/>
          </a:prstGeom>
          <a:gradFill rotWithShape="0">
            <a:gsLst>
              <a:gs pos="0">
                <a:srgbClr val="1e0a00"/>
              </a:gs>
              <a:gs pos="100000">
                <a:srgbClr val="fa5900"/>
              </a:gs>
            </a:gsLst>
            <a:lin ang="150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心圆 38"/>
          <p:cNvSpPr/>
          <p:nvPr/>
        </p:nvSpPr>
        <p:spPr>
          <a:xfrm flipH="1" rot="1539000">
            <a:off x="3237840" y="3121920"/>
            <a:ext cx="1292040" cy="1292400"/>
          </a:xfrm>
          <a:prstGeom prst="pie">
            <a:avLst/>
          </a:prstGeom>
          <a:gradFill rotWithShape="0">
            <a:gsLst>
              <a:gs pos="0">
                <a:srgbClr val="fa5900"/>
              </a:gs>
              <a:gs pos="100000">
                <a:srgbClr val="341200"/>
              </a:gs>
            </a:gsLst>
            <a:lin ang="150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54"/>
          <p:cNvSpPr/>
          <p:nvPr/>
        </p:nvSpPr>
        <p:spPr>
          <a:xfrm rot="20014800">
            <a:off x="5694120" y="5622840"/>
            <a:ext cx="76176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8c52d"/>
              </a:gs>
              <a:gs pos="50000">
                <a:srgbClr val="195a14"/>
              </a:gs>
              <a:gs pos="100000">
                <a:srgbClr val="38c52d"/>
              </a:gs>
            </a:gsLst>
            <a:lin ang="12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55"/>
          <p:cNvSpPr/>
          <p:nvPr/>
        </p:nvSpPr>
        <p:spPr>
          <a:xfrm rot="20014800">
            <a:off x="5459040" y="5154120"/>
            <a:ext cx="76212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8c52d"/>
              </a:gs>
              <a:gs pos="50000">
                <a:srgbClr val="195a14"/>
              </a:gs>
              <a:gs pos="100000">
                <a:srgbClr val="38c52d"/>
              </a:gs>
            </a:gsLst>
            <a:lin ang="12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56"/>
          <p:cNvSpPr/>
          <p:nvPr/>
        </p:nvSpPr>
        <p:spPr>
          <a:xfrm rot="20014800">
            <a:off x="5250960" y="4736880"/>
            <a:ext cx="76212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8c52d"/>
              </a:gs>
              <a:gs pos="50000">
                <a:srgbClr val="195a14"/>
              </a:gs>
              <a:gs pos="100000">
                <a:srgbClr val="38c52d"/>
              </a:gs>
            </a:gsLst>
            <a:lin ang="12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57"/>
          <p:cNvSpPr/>
          <p:nvPr/>
        </p:nvSpPr>
        <p:spPr>
          <a:xfrm rot="20014800">
            <a:off x="5783400" y="4046400"/>
            <a:ext cx="380880" cy="213372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2133720"/>
              <a:gd name="textAreaBottom" fmla="*/ 2077920 h 2133720"/>
            </a:gdLst>
            <a:ahLst/>
            <a:rect l="textAreaLeft" t="textAreaTop" r="textAreaRight" b="textAreaBottom"/>
            <a:pathLst>
              <a:path w="21600" h="120911">
                <a:moveTo>
                  <a:pt x="10800" y="0"/>
                </a:moveTo>
                <a:arcTo wR="10800" hR="10800" stAng="16200000" swAng="-5400000"/>
                <a:lnTo>
                  <a:pt x="0" y="110111"/>
                </a:lnTo>
                <a:arcTo wR="10800" hR="10800" stAng="10800000" swAng="-5400000"/>
                <a:lnTo>
                  <a:pt x="10800" y="1209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195a14"/>
              </a:gs>
              <a:gs pos="100000">
                <a:srgbClr val="38c52d"/>
              </a:gs>
            </a:gsLst>
            <a:lin ang="9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58"/>
          <p:cNvSpPr/>
          <p:nvPr/>
        </p:nvSpPr>
        <p:spPr>
          <a:xfrm rot="20014800">
            <a:off x="5916600" y="4053960"/>
            <a:ext cx="152280" cy="213372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133720"/>
              <a:gd name="textAreaBottom" fmla="*/ 2111400 h 2133720"/>
            </a:gdLst>
            <a:ahLst/>
            <a:rect l="textAreaLeft" t="textAreaTop" r="textAreaRight" b="textAreaBottom"/>
            <a:pathLst>
              <a:path w="21600" h="301992">
                <a:moveTo>
                  <a:pt x="10800" y="0"/>
                </a:moveTo>
                <a:arcTo wR="10800" hR="10800" stAng="16200000" swAng="-5400000"/>
                <a:lnTo>
                  <a:pt x="0" y="291192"/>
                </a:lnTo>
                <a:arcTo wR="10800" hR="10800" stAng="10800000" swAng="-5400000"/>
                <a:lnTo>
                  <a:pt x="10800" y="3019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38c52d"/>
              </a:gs>
              <a:gs pos="50000">
                <a:srgbClr val="195a14"/>
              </a:gs>
              <a:gs pos="100000">
                <a:srgbClr val="38c52d"/>
              </a:gs>
            </a:gsLst>
            <a:lin ang="12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同心圆 60"/>
          <p:cNvSpPr/>
          <p:nvPr/>
        </p:nvSpPr>
        <p:spPr>
          <a:xfrm rot="20014800">
            <a:off x="4570200" y="3086280"/>
            <a:ext cx="1371600" cy="1371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38c52d"/>
              </a:gs>
            </a:gsLst>
            <a:lin ang="15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同心圆 61"/>
          <p:cNvSpPr/>
          <p:nvPr/>
        </p:nvSpPr>
        <p:spPr>
          <a:xfrm rot="20014800">
            <a:off x="4613400" y="3120840"/>
            <a:ext cx="1292040" cy="1290600"/>
          </a:xfrm>
          <a:prstGeom prst="pie">
            <a:avLst/>
          </a:prstGeom>
          <a:gradFill rotWithShape="0">
            <a:gsLst>
              <a:gs pos="0">
                <a:srgbClr val="38c52d"/>
              </a:gs>
              <a:gs pos="100000">
                <a:srgbClr val="195a14"/>
              </a:gs>
            </a:gsLst>
            <a:lin ang="15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空心弧 72"/>
          <p:cNvSpPr/>
          <p:nvPr/>
        </p:nvSpPr>
        <p:spPr>
          <a:xfrm flipV="1">
            <a:off x="3427560" y="1859040"/>
            <a:ext cx="2286000" cy="2286000"/>
          </a:xfrm>
          <a:prstGeom prst="pie">
            <a:avLst/>
          </a:prstGeom>
          <a:gradFill rotWithShape="0">
            <a:gsLst>
              <a:gs pos="0">
                <a:srgbClr val="094f71"/>
              </a:gs>
              <a:gs pos="50000">
                <a:srgbClr val="15acf7"/>
              </a:gs>
              <a:gs pos="100000">
                <a:srgbClr val="094f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空心弧 73"/>
          <p:cNvSpPr/>
          <p:nvPr/>
        </p:nvSpPr>
        <p:spPr>
          <a:xfrm flipV="1">
            <a:off x="3490920" y="1936080"/>
            <a:ext cx="2158920" cy="2160360"/>
          </a:xfrm>
          <a:prstGeom prst="pie">
            <a:avLst/>
          </a:prstGeom>
          <a:gradFill rotWithShape="0">
            <a:gsLst>
              <a:gs pos="0">
                <a:srgbClr val="094f71"/>
              </a:gs>
              <a:gs pos="50000">
                <a:srgbClr val="15acf7"/>
              </a:gs>
              <a:gs pos="100000">
                <a:srgbClr val="094f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4997520" y="5697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4778280" y="52243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4572000" y="480528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2394000" y="56880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2606760" y="52545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2836800" y="48099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 rot="5400000">
            <a:off x="1396440" y="4817880"/>
            <a:ext cx="263520" cy="2955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 rot="5400000">
            <a:off x="1395720" y="5240880"/>
            <a:ext cx="264960" cy="295560"/>
          </a:xfrm>
          <a:custGeom>
            <a:avLst/>
            <a:gdLst>
              <a:gd name="textAreaLeft" fmla="*/ 0 w 264960"/>
              <a:gd name="textAreaRight" fmla="*/ 265320 w 264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 rot="5400000">
            <a:off x="1395720" y="5698080"/>
            <a:ext cx="264960" cy="295560"/>
          </a:xfrm>
          <a:custGeom>
            <a:avLst/>
            <a:gdLst>
              <a:gd name="textAreaLeft" fmla="*/ 0 w 264960"/>
              <a:gd name="textAreaRight" fmla="*/ 265320 w 264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095880" y="3124080"/>
            <a:ext cx="1916280" cy="12286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f350c"/>
              </a:gs>
              <a:gs pos="50000">
                <a:srgbClr val="38c52d"/>
              </a:gs>
              <a:gs pos="100000">
                <a:srgbClr val="0f350c"/>
              </a:gs>
            </a:gsLst>
            <a:lin ang="5400000"/>
          </a:gradFill>
          <a:ln w="25560">
            <a:solidFill>
              <a:srgbClr val="38c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1143000" y="3124080"/>
            <a:ext cx="1916280" cy="12286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41800"/>
              </a:gs>
              <a:gs pos="50000">
                <a:srgbClr val="fa5900"/>
              </a:gs>
              <a:gs pos="100000">
                <a:srgbClr val="441800"/>
              </a:gs>
            </a:gsLst>
            <a:lin ang="5400000"/>
          </a:gradFill>
          <a:ln w="25560">
            <a:solidFill>
              <a:srgbClr val="fa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2"/>
          <p:cNvSpPr/>
          <p:nvPr/>
        </p:nvSpPr>
        <p:spPr>
          <a:xfrm>
            <a:off x="1193760" y="35384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2"/>
          <p:cNvSpPr/>
          <p:nvPr/>
        </p:nvSpPr>
        <p:spPr>
          <a:xfrm>
            <a:off x="6146640" y="3538440"/>
            <a:ext cx="17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13"/>
          <p:cNvSpPr/>
          <p:nvPr/>
        </p:nvSpPr>
        <p:spPr>
          <a:xfrm>
            <a:off x="3757680" y="1690560"/>
            <a:ext cx="1655640" cy="57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541c7"/>
              </a:gs>
              <a:gs pos="100000">
                <a:srgbClr val="01113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4"/>
          <p:cNvSpPr/>
          <p:nvPr/>
        </p:nvSpPr>
        <p:spPr>
          <a:xfrm>
            <a:off x="3882960" y="1728720"/>
            <a:ext cx="1397160" cy="18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5"/>
          <p:cNvSpPr/>
          <p:nvPr/>
        </p:nvSpPr>
        <p:spPr>
          <a:xfrm>
            <a:off x="3800520" y="180504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116680" y="3621240"/>
            <a:ext cx="339120" cy="348840"/>
            <a:chOff x="5116680" y="3621240"/>
            <a:chExt cx="339120" cy="348840"/>
          </a:xfrm>
        </p:grpSpPr>
        <p:sp>
          <p:nvSpPr>
            <p:cNvPr id="89" name="Oval 8"/>
            <p:cNvSpPr/>
            <p:nvPr/>
          </p:nvSpPr>
          <p:spPr>
            <a:xfrm>
              <a:off x="5118480" y="3646440"/>
              <a:ext cx="32364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5116680" y="3646440"/>
              <a:ext cx="324000" cy="323640"/>
            </a:xfrm>
            <a:prstGeom prst="ellipse">
              <a:avLst/>
            </a:prstGeom>
            <a:gradFill rotWithShape="0">
              <a:gsLst>
                <a:gs pos="0">
                  <a:srgbClr val="38c52d">
                    <a:alpha val="82352"/>
                  </a:srgbClr>
                </a:gs>
                <a:gs pos="100000">
                  <a:srgbClr val="000000">
                    <a:alpha val="8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105"/>
            <p:cNvSpPr/>
            <p:nvPr/>
          </p:nvSpPr>
          <p:spPr>
            <a:xfrm rot="17869800">
              <a:off x="5204880" y="3645360"/>
              <a:ext cx="198360" cy="237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5"/>
            <p:cNvSpPr/>
            <p:nvPr/>
          </p:nvSpPr>
          <p:spPr>
            <a:xfrm rot="10266000">
              <a:off x="5261040" y="3714120"/>
              <a:ext cx="106200" cy="9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733920" y="3619800"/>
            <a:ext cx="339120" cy="348840"/>
            <a:chOff x="3733920" y="3619800"/>
            <a:chExt cx="339120" cy="348840"/>
          </a:xfrm>
        </p:grpSpPr>
        <p:sp>
          <p:nvSpPr>
            <p:cNvPr id="94" name="Oval 8"/>
            <p:cNvSpPr/>
            <p:nvPr/>
          </p:nvSpPr>
          <p:spPr>
            <a:xfrm>
              <a:off x="3735360" y="3645000"/>
              <a:ext cx="32400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"/>
            <p:cNvSpPr/>
            <p:nvPr/>
          </p:nvSpPr>
          <p:spPr>
            <a:xfrm>
              <a:off x="3733920" y="3645000"/>
              <a:ext cx="323640" cy="323640"/>
            </a:xfrm>
            <a:prstGeom prst="ellipse">
              <a:avLst/>
            </a:prstGeom>
            <a:gradFill rotWithShape="0">
              <a:gsLst>
                <a:gs pos="0">
                  <a:srgbClr val="fa5900">
                    <a:alpha val="82352"/>
                  </a:srgbClr>
                </a:gs>
                <a:gs pos="100000">
                  <a:srgbClr val="000000">
                    <a:alpha val="8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05"/>
            <p:cNvSpPr/>
            <p:nvPr/>
          </p:nvSpPr>
          <p:spPr>
            <a:xfrm rot="17869800">
              <a:off x="3821760" y="3643560"/>
              <a:ext cx="198360" cy="23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5"/>
            <p:cNvSpPr/>
            <p:nvPr/>
          </p:nvSpPr>
          <p:spPr>
            <a:xfrm rot="10266000">
              <a:off x="3877920" y="3712680"/>
              <a:ext cx="106200" cy="9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圆角矩形 14"/>
          <p:cNvSpPr/>
          <p:nvPr/>
        </p:nvSpPr>
        <p:spPr>
          <a:xfrm>
            <a:off x="1173240" y="3156120"/>
            <a:ext cx="1859040" cy="457200"/>
          </a:xfrm>
          <a:prstGeom prst="roundRect">
            <a:avLst>
              <a:gd name="adj" fmla="val 21181"/>
            </a:avLst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4"/>
          <p:cNvSpPr/>
          <p:nvPr/>
        </p:nvSpPr>
        <p:spPr>
          <a:xfrm>
            <a:off x="6118200" y="3156120"/>
            <a:ext cx="1859040" cy="457200"/>
          </a:xfrm>
          <a:prstGeom prst="roundRect">
            <a:avLst>
              <a:gd name="adj" fmla="val 21181"/>
            </a:avLst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14:42:54Z</dcterms:created>
  <dc:creator>锐普</dc:creator>
  <dc:description/>
  <dc:language>en-US</dc:language>
  <cp:lastModifiedBy>applena</cp:lastModifiedBy>
  <dcterms:modified xsi:type="dcterms:W3CDTF">2010-01-26T21:48:25Z</dcterms:modified>
  <cp:revision>86</cp:revision>
  <dc:subject/>
  <dc:title/>
</cp:coreProperties>
</file>