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348E-601D-4F25-8C84-34CCEE83B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DCED-2749-4E6D-BB3E-F3B2373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1657-C399-4C30-B9F3-007733B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512D-7F3C-44AF-B554-1F69113DD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EEBF-E0FD-43B2-8EAD-C3A3705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46D1-8D31-4472-B733-9F3CE12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9EFB-5B16-45FD-9198-25511ED5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5CFF-D92D-4FBB-B1AF-CB3E3C55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AF52-7784-4967-95C0-46FD2FF0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493D-28DF-455E-81F5-0E4A3AF1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431-0366-4387-AA8A-DDDBC6F0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45F0-518C-4ADA-8EB3-35B13D7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e2f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47dd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2d0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F8FD-B9CE-4778-8DEE-A971D97778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e2f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79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0"/>
          <p:cNvSpPr/>
          <p:nvPr/>
        </p:nvSpPr>
        <p:spPr>
          <a:xfrm>
            <a:off x="4608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6880" y="2165400"/>
            <a:ext cx="8132760" cy="4316400"/>
          </a:xfrm>
          <a:prstGeom prst="roundRect">
            <a:avLst>
              <a:gd name="adj" fmla="val 389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9280" y="1438200"/>
            <a:ext cx="8831520" cy="1393920"/>
            <a:chOff x="179280" y="1438200"/>
            <a:chExt cx="8831520" cy="1393920"/>
          </a:xfrm>
        </p:grpSpPr>
        <p:sp>
          <p:nvSpPr>
            <p:cNvPr id="45" name="AutoShape 7"/>
            <p:cNvSpPr/>
            <p:nvPr/>
          </p:nvSpPr>
          <p:spPr>
            <a:xfrm>
              <a:off x="179280" y="1590840"/>
              <a:ext cx="1152720" cy="10778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0"/>
            <p:cNvSpPr/>
            <p:nvPr/>
          </p:nvSpPr>
          <p:spPr>
            <a:xfrm>
              <a:off x="1403280" y="1438200"/>
              <a:ext cx="7607520" cy="1393920"/>
            </a:xfrm>
            <a:prstGeom prst="rightArrow">
              <a:avLst>
                <a:gd name="adj1" fmla="val 78463"/>
                <a:gd name="adj2" fmla="val 4247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31"/>
          <p:cNvSpPr/>
          <p:nvPr/>
        </p:nvSpPr>
        <p:spPr>
          <a:xfrm>
            <a:off x="235728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439092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>
            <a:off x="642456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"/>
          <p:cNvSpPr/>
          <p:nvPr/>
        </p:nvSpPr>
        <p:spPr>
          <a:xfrm>
            <a:off x="506520" y="1380960"/>
            <a:ext cx="1744560" cy="1511640"/>
          </a:xfrm>
          <a:prstGeom prst="hexagon">
            <a:avLst>
              <a:gd name="adj" fmla="val 2885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0"/>
          <p:cNvSpPr/>
          <p:nvPr/>
        </p:nvSpPr>
        <p:spPr>
          <a:xfrm>
            <a:off x="679320" y="151452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6"/>
          <p:cNvSpPr/>
          <p:nvPr/>
        </p:nvSpPr>
        <p:spPr>
          <a:xfrm>
            <a:off x="2527200" y="139068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7"/>
          <p:cNvSpPr/>
          <p:nvPr/>
        </p:nvSpPr>
        <p:spPr>
          <a:xfrm>
            <a:off x="2700360" y="152388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549680" y="140004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722840" y="153360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6572160" y="140976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3"/>
          <p:cNvSpPr/>
          <p:nvPr/>
        </p:nvSpPr>
        <p:spPr>
          <a:xfrm>
            <a:off x="6745320" y="154296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45252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547dd8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0"/>
          <p:cNvSpPr/>
          <p:nvPr/>
        </p:nvSpPr>
        <p:spPr>
          <a:xfrm>
            <a:off x="247824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42d0b5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1"/>
          <p:cNvSpPr/>
          <p:nvPr/>
        </p:nvSpPr>
        <p:spPr>
          <a:xfrm>
            <a:off x="450540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af52b6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2"/>
          <p:cNvSpPr/>
          <p:nvPr/>
        </p:nvSpPr>
        <p:spPr>
          <a:xfrm>
            <a:off x="6532560" y="3224160"/>
            <a:ext cx="180036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8e5bd9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433440" y="4005360"/>
            <a:ext cx="183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4454640" y="4005360"/>
            <a:ext cx="1917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469200" y="4005360"/>
            <a:ext cx="1919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2455920" y="4005360"/>
            <a:ext cx="1828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5540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25844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46162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66484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6000" y="1773360"/>
            <a:ext cx="100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404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2300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596360" y="106200"/>
            <a:ext cx="14205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>锐普</dc:creator>
  <dc:description/>
  <dc:language>en-US</dc:language>
  <cp:lastModifiedBy>applena</cp:lastModifiedBy>
  <dcterms:modified xsi:type="dcterms:W3CDTF">2010-01-26T21:48:25Z</dcterms:modified>
  <cp:revision>1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4·立体</vt:lpwstr>
  </property>
  <property fmtid="{D5CDD505-2E9C-101B-9397-08002B2CF9AE}" pid="3" name="SlideDescription">
    <vt:lpwstr/>
  </property>
</Properties>
</file>