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486-3D02-40A2-850F-0ADFAC82741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A911-F453-4191-911D-D323870497C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0D7-DDB1-412C-A312-CB058345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F03-34F0-4ABD-8B34-4445A57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436-A7D4-4120-9591-B8FD113C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D33-24DC-4B8E-865C-AB7C9503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D63-38DC-4D82-A828-8A15D592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579-E4C1-4E0E-9772-5C7559F1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7B0-7016-4EEB-AA38-9B2C2CA0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579-0F00-47C0-A309-5E12E3B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765-6186-4869-850A-B1898A3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AF0-FED4-465F-9609-BEBB9A7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705-FFED-40A3-A1F6-039296C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29A-8D21-4B6A-8C22-58D6EC1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3444-A8E4-496E-BC94-ABC1652BB170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​​ 5"/>
          <p:cNvSpPr/>
          <p:nvPr/>
        </p:nvSpPr>
        <p:spPr>
          <a:xfrm>
            <a:off x="0" y="4653000"/>
            <a:ext cx="9144000" cy="10796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成为平凡岗位上的专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3499920"/>
            <a:ext cx="64008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Verdana"/>
              </a:rPr>
              <a:t>——</a:t>
            </a:r>
            <a:r>
              <a:rPr b="0" lang="en-US" sz="2400" spc="-1" strike="noStrike">
                <a:solidFill>
                  <a:srgbClr val="898989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898989"/>
                </a:solidFill>
                <a:latin typeface="Verdana"/>
              </a:rPr>
              <a:t>邮差弗雷德</a:t>
            </a:r>
            <a:r>
              <a:rPr b="0" lang="en-US" sz="2400" spc="-1" strike="noStrike">
                <a:solidFill>
                  <a:srgbClr val="898989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898989"/>
                </a:solidFill>
                <a:latin typeface="Verdana"/>
              </a:rPr>
              <a:t>读后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图片 4" descr="http://www.golden-book.com/ProductImage/201006/9787508621647.jpg"/>
          <p:cNvPicPr/>
          <p:nvPr/>
        </p:nvPicPr>
        <p:blipFill>
          <a:blip r:embed="rId1"/>
          <a:stretch/>
        </p:blipFill>
        <p:spPr>
          <a:xfrm>
            <a:off x="5883120" y="2030400"/>
            <a:ext cx="2962440" cy="7223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985560" y="405432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管理部    蔡家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高速公路大图 点击还原"/>
          <p:cNvPicPr/>
          <p:nvPr/>
        </p:nvPicPr>
        <p:blipFill>
          <a:blip r:embed="rId1"/>
          <a:srcRect l="0" t="0" r="0" b="7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​​ 50"/>
          <p:cNvSpPr/>
          <p:nvPr/>
        </p:nvSpPr>
        <p:spPr>
          <a:xfrm>
            <a:off x="3265560" y="4097160"/>
            <a:ext cx="3251160" cy="1800360"/>
          </a:xfrm>
          <a:prstGeom prst="roundRect">
            <a:avLst>
              <a:gd name="adj" fmla="val 6083"/>
            </a:avLst>
          </a:prstGeom>
          <a:solidFill>
            <a:srgbClr val="ffffff">
              <a:alpha val="7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圆角矩形​​ 37"/>
          <p:cNvSpPr/>
          <p:nvPr/>
        </p:nvSpPr>
        <p:spPr>
          <a:xfrm>
            <a:off x="1417680" y="4097160"/>
            <a:ext cx="3128760" cy="1800360"/>
          </a:xfrm>
          <a:prstGeom prst="roundRect">
            <a:avLst>
              <a:gd name="adj" fmla="val 6083"/>
            </a:avLst>
          </a:prstGeom>
          <a:solidFill>
            <a:srgbClr val="ffffff">
              <a:alpha val="7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文本框 15"/>
          <p:cNvSpPr/>
          <p:nvPr/>
        </p:nvSpPr>
        <p:spPr>
          <a:xfrm>
            <a:off x="1307520" y="3024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自己成为弗雷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文本框 16"/>
          <p:cNvSpPr/>
          <p:nvPr/>
        </p:nvSpPr>
        <p:spPr>
          <a:xfrm>
            <a:off x="2997000" y="2341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如何教导别人成为弗雷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文本框 17"/>
          <p:cNvSpPr/>
          <p:nvPr/>
        </p:nvSpPr>
        <p:spPr>
          <a:xfrm>
            <a:off x="6316560" y="167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大家都成为弗雷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596960" y="4397400"/>
            <a:ext cx="3448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心做好本职工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良好的人际关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运用想象及创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3403440" y="4340160"/>
            <a:ext cx="3570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自我，增加价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塑自我，完善自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上行动，与自己激烈角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直接连接符​​ 10"/>
          <p:cNvSpPr/>
          <p:nvPr/>
        </p:nvSpPr>
        <p:spPr>
          <a:xfrm flipV="1">
            <a:off x="755640" y="3549240"/>
            <a:ext cx="936720" cy="139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直接连接符​​ 16"/>
          <p:cNvSpPr/>
          <p:nvPr/>
        </p:nvSpPr>
        <p:spPr>
          <a:xfrm>
            <a:off x="1692360" y="3543480"/>
            <a:ext cx="617400" cy="441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直接连接符​​ 19"/>
          <p:cNvSpPr/>
          <p:nvPr/>
        </p:nvSpPr>
        <p:spPr>
          <a:xfrm flipV="1">
            <a:off x="2300400" y="3685680"/>
            <a:ext cx="104760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直接连接符​​ 21"/>
          <p:cNvSpPr/>
          <p:nvPr/>
        </p:nvSpPr>
        <p:spPr>
          <a:xfrm flipV="1">
            <a:off x="3348000" y="2973240"/>
            <a:ext cx="503280" cy="712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直接连接符​​ 25"/>
          <p:cNvSpPr/>
          <p:nvPr/>
        </p:nvSpPr>
        <p:spPr>
          <a:xfrm>
            <a:off x="3841920" y="2960640"/>
            <a:ext cx="496800" cy="3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直接连接符​​ 30"/>
          <p:cNvSpPr/>
          <p:nvPr/>
        </p:nvSpPr>
        <p:spPr>
          <a:xfrm flipV="1">
            <a:off x="4338720" y="2181240"/>
            <a:ext cx="1962000" cy="11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直接连接符​​ 33"/>
          <p:cNvSpPr/>
          <p:nvPr/>
        </p:nvSpPr>
        <p:spPr>
          <a:xfrm>
            <a:off x="6313320" y="2181240"/>
            <a:ext cx="78264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直接连接符​​ 36"/>
          <p:cNvSpPr/>
          <p:nvPr/>
        </p:nvSpPr>
        <p:spPr>
          <a:xfrm flipV="1">
            <a:off x="7075440" y="2449440"/>
            <a:ext cx="163368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组合 35" descr=""/>
          <p:cNvPicPr/>
          <p:nvPr/>
        </p:nvPicPr>
        <p:blipFill>
          <a:blip r:embed="rId2"/>
          <a:stretch/>
        </p:blipFill>
        <p:spPr>
          <a:xfrm>
            <a:off x="1554120" y="3425760"/>
            <a:ext cx="32400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组合 43" descr=""/>
          <p:cNvPicPr/>
          <p:nvPr/>
        </p:nvPicPr>
        <p:blipFill>
          <a:blip r:embed="rId3"/>
          <a:stretch/>
        </p:blipFill>
        <p:spPr>
          <a:xfrm>
            <a:off x="3724200" y="279864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95" name="圆角矩形​​ 51"/>
          <p:cNvSpPr/>
          <p:nvPr/>
        </p:nvSpPr>
        <p:spPr>
          <a:xfrm>
            <a:off x="5459400" y="2862360"/>
            <a:ext cx="3249720" cy="1800000"/>
          </a:xfrm>
          <a:prstGeom prst="roundRect">
            <a:avLst>
              <a:gd name="adj" fmla="val 6083"/>
            </a:avLst>
          </a:prstGeom>
          <a:solidFill>
            <a:srgbClr val="ffffff">
              <a:alpha val="7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组合 46" descr=""/>
          <p:cNvPicPr/>
          <p:nvPr/>
        </p:nvPicPr>
        <p:blipFill>
          <a:blip r:embed="rId4"/>
          <a:stretch/>
        </p:blipFill>
        <p:spPr>
          <a:xfrm>
            <a:off x="6175440" y="2048040"/>
            <a:ext cx="322200" cy="3171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6"/>
          <p:cNvSpPr/>
          <p:nvPr/>
        </p:nvSpPr>
        <p:spPr>
          <a:xfrm>
            <a:off x="5586480" y="3228840"/>
            <a:ext cx="3122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倡导学习弗雷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激励人有所作为、改变世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0600" indent="-120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肯定与鼓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​​ 3"/>
          <p:cNvSpPr/>
          <p:nvPr/>
        </p:nvSpPr>
        <p:spPr>
          <a:xfrm>
            <a:off x="550800" y="695520"/>
            <a:ext cx="6913800" cy="4561920"/>
          </a:xfrm>
          <a:prstGeom prst="roundRect">
            <a:avLst>
              <a:gd name="adj" fmla="val 2968"/>
            </a:avLst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雷德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不仅是一个邮差的名字，而是一种精神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雷德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用快乐去体验工作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平凡的工作岗位上做出不平凡的工作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离这三个字并非遥遥不可及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以树立正确的心态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同样也能成为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弗雷德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燕尾形 5"/>
          <p:cNvSpPr/>
          <p:nvPr/>
        </p:nvSpPr>
        <p:spPr>
          <a:xfrm>
            <a:off x="6299280" y="6137280"/>
            <a:ext cx="179280" cy="244440"/>
          </a:xfrm>
          <a:custGeom>
            <a:avLst/>
            <a:gdLst>
              <a:gd name="textAreaLeft" fmla="*/ 0 w 179280"/>
              <a:gd name="textAreaRight" fmla="*/ 179640 w 179280"/>
              <a:gd name="textAreaTop" fmla="*/ 0 h 244440"/>
              <a:gd name="textAreaBottom" fmla="*/ 24444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燕尾形 6"/>
          <p:cNvSpPr/>
          <p:nvPr/>
        </p:nvSpPr>
        <p:spPr>
          <a:xfrm>
            <a:off x="6478560" y="6137280"/>
            <a:ext cx="179280" cy="244440"/>
          </a:xfrm>
          <a:custGeom>
            <a:avLst/>
            <a:gdLst>
              <a:gd name="textAreaLeft" fmla="*/ 0 w 179280"/>
              <a:gd name="textAreaRight" fmla="*/ 179640 w 179280"/>
              <a:gd name="textAreaTop" fmla="*/ 0 h 244440"/>
              <a:gd name="textAreaBottom" fmla="*/ 24444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987600" y="6084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Verdana"/>
                <a:ea typeface="微软雅黑"/>
              </a:rPr>
              <a:t>谢谢您的聆听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0" y="189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是弗雷德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矩形​​ 3"/>
          <p:cNvSpPr/>
          <p:nvPr/>
        </p:nvSpPr>
        <p:spPr>
          <a:xfrm>
            <a:off x="4058640" y="1639800"/>
            <a:ext cx="7902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Verdana"/>
                <a:ea typeface="微软雅黑"/>
              </a:rPr>
              <a:t>谁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直接连接符​​ 5"/>
          <p:cNvSpPr/>
          <p:nvPr/>
        </p:nvSpPr>
        <p:spPr>
          <a:xfrm>
            <a:off x="3848040" y="2944800"/>
            <a:ext cx="519912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矩形​​ 2"/>
          <p:cNvSpPr/>
          <p:nvPr/>
        </p:nvSpPr>
        <p:spPr>
          <a:xfrm>
            <a:off x="3703680" y="3429000"/>
            <a:ext cx="457200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一位普通的美国邮政雇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一位友善的邻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一位忠实的朋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微软雅黑"/>
              </a:rPr>
              <a:t>一位平凡岗位上的专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​​ 10"/>
          <p:cNvSpPr/>
          <p:nvPr/>
        </p:nvSpPr>
        <p:spPr>
          <a:xfrm>
            <a:off x="0" y="5084640"/>
            <a:ext cx="9144000" cy="10810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图片 2" descr="http://img3.douban.com/lpic/s1666540.jpg"/>
          <p:cNvPicPr/>
          <p:nvPr/>
        </p:nvPicPr>
        <p:blipFill>
          <a:blip r:embed="rId1"/>
          <a:stretch/>
        </p:blipFill>
        <p:spPr>
          <a:xfrm>
            <a:off x="407880" y="2712960"/>
            <a:ext cx="1901880" cy="6089760"/>
          </a:xfrm>
          <a:prstGeom prst="rect">
            <a:avLst/>
          </a:prstGeom>
          <a:ln w="0">
            <a:noFill/>
          </a:ln>
        </p:spPr>
      </p:pic>
      <p:sp>
        <p:nvSpPr>
          <p:cNvPr id="59" name="矩形​​ 2"/>
          <p:cNvSpPr/>
          <p:nvPr/>
        </p:nvSpPr>
        <p:spPr>
          <a:xfrm>
            <a:off x="2658960" y="1628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具备较强的专业知识和技能，以及较强的伦理观念，将顾客放在第一位，具有永不衰竭的好奇心和进取心，严格遵守纪律，以上条件全被具备的人才称为专家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矩形​​ 7"/>
          <p:cNvSpPr/>
          <p:nvPr/>
        </p:nvSpPr>
        <p:spPr>
          <a:xfrm>
            <a:off x="2097360" y="1413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矩形​​ 9"/>
          <p:cNvSpPr/>
          <p:nvPr/>
        </p:nvSpPr>
        <p:spPr>
          <a:xfrm>
            <a:off x="6880680" y="3357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黑体"/>
                <a:ea typeface="黑体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149440" y="414972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日本著名管理大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大前研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1520" y="253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什么弗雷德是专家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矩形​​ 4"/>
          <p:cNvSpPr/>
          <p:nvPr/>
        </p:nvSpPr>
        <p:spPr>
          <a:xfrm>
            <a:off x="2909880" y="2320920"/>
            <a:ext cx="7902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Verdana"/>
                <a:ea typeface="微软雅黑"/>
              </a:rPr>
              <a:t>为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直接连接符​​ 5"/>
          <p:cNvSpPr/>
          <p:nvPr/>
        </p:nvSpPr>
        <p:spPr>
          <a:xfrm>
            <a:off x="3995640" y="3633840"/>
            <a:ext cx="505152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​​ 3"/>
          <p:cNvSpPr/>
          <p:nvPr/>
        </p:nvSpPr>
        <p:spPr>
          <a:xfrm>
            <a:off x="611280" y="2187720"/>
            <a:ext cx="784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专家不应只聚焦于知识和技能，他的服务对象是顾客，企业通过服务顾客获得效益最大化，专家通过服务顾客实现自己的最大价值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矩形​​ 4"/>
          <p:cNvSpPr/>
          <p:nvPr/>
        </p:nvSpPr>
        <p:spPr>
          <a:xfrm>
            <a:off x="0" y="5084640"/>
            <a:ext cx="9144000" cy="10810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​​ 3"/>
          <p:cNvSpPr/>
          <p:nvPr/>
        </p:nvSpPr>
        <p:spPr>
          <a:xfrm>
            <a:off x="611280" y="2619360"/>
            <a:ext cx="813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专家的作用是为顾客提供独特的价值，特别是在出现意外发生时，可以做出果断处理和决策的人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矩形​​ 4"/>
          <p:cNvSpPr/>
          <p:nvPr/>
        </p:nvSpPr>
        <p:spPr>
          <a:xfrm>
            <a:off x="0" y="5084640"/>
            <a:ext cx="9144000" cy="10810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​​ 3"/>
          <p:cNvSpPr/>
          <p:nvPr/>
        </p:nvSpPr>
        <p:spPr>
          <a:xfrm>
            <a:off x="503280" y="1844640"/>
            <a:ext cx="813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专家要勤而好学，他们从基础知识开始进行系统地学习，亲身实践，对新事物反复消化并不断积累经验，经过持续的训练，他们能够把学到的知识提供给他人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矩形​​ 4"/>
          <p:cNvSpPr/>
          <p:nvPr/>
        </p:nvSpPr>
        <p:spPr>
          <a:xfrm>
            <a:off x="0" y="5084640"/>
            <a:ext cx="9144000" cy="10810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​​ 3"/>
          <p:cNvSpPr/>
          <p:nvPr/>
        </p:nvSpPr>
        <p:spPr>
          <a:xfrm>
            <a:off x="1184400" y="2649600"/>
            <a:ext cx="700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专家要具有强烈的好奇心，求真求变。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矩形​​ 4"/>
          <p:cNvSpPr/>
          <p:nvPr/>
        </p:nvSpPr>
        <p:spPr>
          <a:xfrm>
            <a:off x="0" y="5084640"/>
            <a:ext cx="9144000" cy="10810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22760" y="279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样成为弗雷德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矩形​​ 4"/>
          <p:cNvSpPr/>
          <p:nvPr/>
        </p:nvSpPr>
        <p:spPr>
          <a:xfrm>
            <a:off x="3622680" y="2681280"/>
            <a:ext cx="7902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Verdana"/>
                <a:ea typeface="微软雅黑"/>
              </a:rPr>
              <a:t>怎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直接连接符​​ 5"/>
          <p:cNvSpPr/>
          <p:nvPr/>
        </p:nvSpPr>
        <p:spPr>
          <a:xfrm flipV="1">
            <a:off x="4622760" y="4003560"/>
            <a:ext cx="4413240" cy="79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8:38:21Z</dcterms:created>
  <dc:creator>Bread</dc:creator>
  <dc:description/>
  <dc:language>en-US</dc:language>
  <cp:lastModifiedBy>Bread</cp:lastModifiedBy>
  <dcterms:modified xsi:type="dcterms:W3CDTF">2010-09-28T09:29:55Z</dcterms:modified>
  <cp:revision>14</cp:revision>
  <dc:subject/>
  <dc:title>在平凡的岗位上追求卓越</dc:title>
</cp:coreProperties>
</file>