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explode.wav" ContentType="audio/x-wav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44B-F9DD-45B5-B4B0-79AFEA45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6D4-EE83-4514-913D-F5727561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6F6-2727-4AB0-8164-56F26633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3C1-A2C6-4C14-BAC2-F4AB1AE1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44B-5C42-441D-881E-5A0FC82D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1A9-4BD2-4F0F-B468-E73B8CB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AE8-3883-4797-B85A-81CD127A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A81-7A13-4966-BDFF-A516CF46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C4C-0ED3-4D52-BFBB-22FBCD5C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9E3-F6E0-4BB8-A073-77676F23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A8F-D9A5-4610-86CF-3BB45F7A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EC6-3A0C-4B18-AA6A-3DBF0D57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5B87-F5A1-44DB-A4EA-A49A542067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4267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书终稿\宣传\PPT立体图1.png"/>
          <p:cNvPicPr/>
          <p:nvPr/>
        </p:nvPicPr>
        <p:blipFill>
          <a:blip r:embed="rId1"/>
          <a:stretch/>
        </p:blipFill>
        <p:spPr>
          <a:xfrm>
            <a:off x="3471840" y="2077920"/>
            <a:ext cx="2500200" cy="32403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new尘2.png"/>
          <p:cNvPicPr/>
          <p:nvPr/>
        </p:nvPicPr>
        <p:blipFill>
          <a:blip r:embed="rId2"/>
          <a:stretch/>
        </p:blipFill>
        <p:spPr>
          <a:xfrm>
            <a:off x="3255840" y="415296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尘1-1.png"/>
          <p:cNvPicPr/>
          <p:nvPr/>
        </p:nvPicPr>
        <p:blipFill>
          <a:blip r:embed="rId3"/>
          <a:stretch/>
        </p:blipFill>
        <p:spPr>
          <a:xfrm>
            <a:off x="3090960" y="4726080"/>
            <a:ext cx="3544920" cy="1182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2" descr="new尘3.png"/>
          <p:cNvPicPr/>
          <p:nvPr/>
        </p:nvPicPr>
        <p:blipFill>
          <a:blip r:embed="rId4"/>
          <a:stretch/>
        </p:blipFill>
        <p:spPr>
          <a:xfrm>
            <a:off x="2179800" y="3078000"/>
            <a:ext cx="4489200" cy="2475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3" descr="new尘4-1.png"/>
          <p:cNvPicPr/>
          <p:nvPr/>
        </p:nvPicPr>
        <p:blipFill>
          <a:blip r:embed="rId5"/>
          <a:stretch/>
        </p:blipFill>
        <p:spPr>
          <a:xfrm>
            <a:off x="1305000" y="299412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4" descr="new尘4.png"/>
          <p:cNvPicPr/>
          <p:nvPr/>
        </p:nvPicPr>
        <p:blipFill>
          <a:blip r:embed="rId6"/>
          <a:stretch/>
        </p:blipFill>
        <p:spPr>
          <a:xfrm>
            <a:off x="2933640" y="3630600"/>
            <a:ext cx="395460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7"/>
          <a:stretch/>
        </p:blipFill>
        <p:spPr>
          <a:xfrm>
            <a:off x="324000" y="347760"/>
            <a:ext cx="9810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69435 L 4.72222E-006 7.22445E-007 E">
                                      <p:cBhvr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 presetSubtype="16" repeatCount="100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 repeatCount="1000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5" dur="1500" fill="hold"/>
                                        <p:tgtEl>
                                          <p:spTgt spid="44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1000">
                                  <p:stCondLst>
                                    <p:cond delay="17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7" dur="1500" fill="hold"/>
                                        <p:tgtEl>
                                          <p:spTgt spid="43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 repeatCount="1000">
                                  <p:stCondLst>
                                    <p:cond delay="170"/>
                                  </p:stCondLst>
                                  <p:childTnLst>
                                    <p:animScale>
                                      <p:cBhvr>
                                        <p:cTn id="39" dur="1500" fill="hold"/>
                                        <p:tgtEl>
                                          <p:spTgt spid="45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1000">
                                  <p:stCondLst>
                                    <p:cond delay="170"/>
                                  </p:stCondLst>
                                  <p:childTnLst>
                                    <p:animScale>
                                      <p:cBhvr>
                                        <p:cTn id="41" dur="1500" fill="hold"/>
                                        <p:tgtEl>
                                          <p:spTgt spid="47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 repeatCount="1000">
                                  <p:stCondLst>
                                    <p:cond delay="170"/>
                                  </p:stCondLst>
                                  <p:childTnLst>
                                    <p:animScale>
                                      <p:cBhvr>
                                        <p:cTn id="43" dur="1500" fill="hold"/>
                                        <p:tgtEl>
                                          <p:spTgt spid="46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 repeatCount="100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 repeatCount="1000">
                                  <p:stCondLst>
                                    <p:cond delay="12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 repeatCount="1000">
                                  <p:stCondLst>
                                    <p:cond delay="12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 repeatCount="1000">
                                  <p:stCondLst>
                                    <p:cond delay="12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 repeatCount="1000">
                                  <p:stCondLst>
                                    <p:cond delay="16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 repeatCount="1000">
                                  <p:stCondLst>
                                    <p:cond delay="117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11280" y="2830680"/>
            <a:ext cx="7988040" cy="13903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new尘2.png"/>
          <p:cNvPicPr/>
          <p:nvPr/>
        </p:nvPicPr>
        <p:blipFill>
          <a:blip r:embed="rId2"/>
          <a:stretch/>
        </p:blipFill>
        <p:spPr>
          <a:xfrm>
            <a:off x="3255840" y="336240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尘1-1.png"/>
          <p:cNvPicPr/>
          <p:nvPr/>
        </p:nvPicPr>
        <p:blipFill>
          <a:blip r:embed="rId3"/>
          <a:stretch/>
        </p:blipFill>
        <p:spPr>
          <a:xfrm>
            <a:off x="3090960" y="4726080"/>
            <a:ext cx="3544920" cy="11826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new尘3.png"/>
          <p:cNvPicPr/>
          <p:nvPr/>
        </p:nvPicPr>
        <p:blipFill>
          <a:blip r:embed="rId4"/>
          <a:stretch/>
        </p:blipFill>
        <p:spPr>
          <a:xfrm>
            <a:off x="2179800" y="2287440"/>
            <a:ext cx="4489200" cy="24768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new尘4-1.png"/>
          <p:cNvPicPr/>
          <p:nvPr/>
        </p:nvPicPr>
        <p:blipFill>
          <a:blip r:embed="rId5"/>
          <a:stretch/>
        </p:blipFill>
        <p:spPr>
          <a:xfrm>
            <a:off x="1305000" y="220356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new尘4.png"/>
          <p:cNvPicPr/>
          <p:nvPr/>
        </p:nvPicPr>
        <p:blipFill>
          <a:blip r:embed="rId6"/>
          <a:stretch/>
        </p:blipFill>
        <p:spPr>
          <a:xfrm>
            <a:off x="2933640" y="2841480"/>
            <a:ext cx="3954600" cy="220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7"/>
          <a:stretch/>
        </p:blipFill>
        <p:spPr>
          <a:xfrm>
            <a:off x="324000" y="333360"/>
            <a:ext cx="981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 presetSubtype="16" repeatCount="100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69435 L 4.72222E-006 7.22445E-007 E">
                                      <p:cBhvr>
                                        <p:cTn id="75" dur="3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 repeatCount="1000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7" dur="1500" fill="hold"/>
                                        <p:tgtEl>
                                          <p:spTgt spid="51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 repeatCount="1000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9" dur="1300" fill="hold"/>
                                        <p:tgtEl>
                                          <p:spTgt spid="50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 repeatCount="1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1" dur="1300" fill="hold"/>
                                        <p:tgtEl>
                                          <p:spTgt spid="52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 repeatCount="1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3" dur="1300" fill="hold"/>
                                        <p:tgtEl>
                                          <p:spTgt spid="54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 repeatCount="1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5" dur="1400" fill="hold"/>
                                        <p:tgtEl>
                                          <p:spTgt spid="53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 repeatCount="100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 repeatCount="1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9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 repeatCount="1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9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 repeatCount="1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9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56" repeatCount="1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122" dur="9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484360"/>
            <a:ext cx="6437160" cy="2584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new尘2.png"/>
          <p:cNvPicPr/>
          <p:nvPr/>
        </p:nvPicPr>
        <p:blipFill>
          <a:blip r:embed="rId2"/>
          <a:stretch/>
        </p:blipFill>
        <p:spPr>
          <a:xfrm>
            <a:off x="3255840" y="377676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尘1-1.png"/>
          <p:cNvPicPr/>
          <p:nvPr/>
        </p:nvPicPr>
        <p:blipFill>
          <a:blip r:embed="rId3"/>
          <a:stretch/>
        </p:blipFill>
        <p:spPr>
          <a:xfrm>
            <a:off x="3090960" y="4726080"/>
            <a:ext cx="3544920" cy="1182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2" descr="new尘3.png"/>
          <p:cNvPicPr/>
          <p:nvPr/>
        </p:nvPicPr>
        <p:blipFill>
          <a:blip r:embed="rId4"/>
          <a:stretch/>
        </p:blipFill>
        <p:spPr>
          <a:xfrm>
            <a:off x="2179800" y="2701800"/>
            <a:ext cx="4489200" cy="24768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" descr="new尘4-1.png"/>
          <p:cNvPicPr/>
          <p:nvPr/>
        </p:nvPicPr>
        <p:blipFill>
          <a:blip r:embed="rId5"/>
          <a:stretch/>
        </p:blipFill>
        <p:spPr>
          <a:xfrm>
            <a:off x="1305000" y="261792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4" descr="new尘4.png"/>
          <p:cNvPicPr/>
          <p:nvPr/>
        </p:nvPicPr>
        <p:blipFill>
          <a:blip r:embed="rId6"/>
          <a:stretch/>
        </p:blipFill>
        <p:spPr>
          <a:xfrm>
            <a:off x="2933640" y="3255840"/>
            <a:ext cx="3954600" cy="220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7"/>
          <a:stretch/>
        </p:blipFill>
        <p:spPr>
          <a:xfrm>
            <a:off x="3710160" y="5775480"/>
            <a:ext cx="19684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 presetSubtype="16" repeatCount="100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69435 L 4.72222E-006 7.22445E-007 E">
                                      <p:cBhvr>
                                        <p:cTn id="137" dur="3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 presetSubtype="16" repeatCount="1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 repeatCount="1000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59" dur="1500" fill="hold"/>
                                        <p:tgtEl>
                                          <p:spTgt spid="5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 repeatCount="1000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1" dur="1300" fill="hold"/>
                                        <p:tgtEl>
                                          <p:spTgt spid="57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6" repeatCount="1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3" dur="1300" fill="hold"/>
                                        <p:tgtEl>
                                          <p:spTgt spid="59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 repeatCount="1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5" dur="1300" fill="hold"/>
                                        <p:tgtEl>
                                          <p:spTgt spid="61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 repeatCount="1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400" fill="hold"/>
                                        <p:tgtEl>
                                          <p:spTgt spid="60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 repeatCount="100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 repeatCount="1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9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 repeatCount="1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9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 repeatCount="1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9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56" repeatCount="1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184" dur="9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03:48:32Z</dcterms:created>
  <dc:creator>Paralife</dc:creator>
  <dc:description/>
  <dc:language>en-US</dc:language>
  <cp:lastModifiedBy>Paralife</cp:lastModifiedBy>
  <dcterms:modified xsi:type="dcterms:W3CDTF">2012-01-06T04:32:19Z</dcterms:modified>
  <cp:revision>5</cp:revision>
  <dc:subject/>
  <dc:title>PowerPoint 演示文稿</dc:title>
</cp:coreProperties>
</file>