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43C-94EE-4FE3-9082-308F0C51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D02-9966-47CB-9D9D-6E6EA83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707-DCB8-4D5D-8F02-DB8A52EE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B39-EFF8-4874-A78C-1C8C663E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CBE6-7008-4B8F-BFEA-DDAFB4F09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81F39-D40C-4471-A4F0-F9F809D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D52C7-732A-4CE9-BF32-DCDA6D6B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940AC-2F42-4BBB-B9E0-7810CF0E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01BD-756F-429C-A4B4-15CAEF53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D61E8-8144-4025-8B6E-EE448230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F5C4-2DD2-4F81-B11A-2BEE758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CBB-1F5D-44CB-A55B-39D0914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503D-2863-48A4-9C98-744F66BC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44F04-9BC1-48B1-8E50-B0F4FF8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258E1-570A-4664-8B15-73A475E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B6890-FF40-4BAB-9007-8E91BB6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4BEF9-2625-4EFB-AB94-47C185A0B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E4-3ACA-4DC3-86A3-B432C721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78E-5B9C-4BC3-9653-3DE38575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74D-DC0D-46C4-9C66-72AD1C6F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D0E-DF23-4AA3-9519-22B4A0D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569-376B-4957-B3D8-61992A5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3D1-2FE5-4FC9-B500-7A42F5B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0B3-091B-4DCE-AA9A-50E9D6B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BED-6796-43A7-9E03-0279B958FB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676-1531-465D-B74B-D921160E5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803160"/>
            <a:ext cx="9144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  <a:ea typeface="Gulim"/>
              </a:rPr>
              <a:t>PowerPoint can tailor your presentation so that all slides will look a certain way or fit a specific temp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  <a:ea typeface="Gulim"/>
              </a:rPr>
              <a:t>If you need to create a presentation for a specific company or have a logo or design that you would like to include on every pag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  <a:ea typeface="Gulim"/>
              </a:rPr>
              <a:t>then you will need to custom tailor your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957b59"/>
                </a:solidFill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solidFill>
                <a:srgbClr val="957b59"/>
              </a:solidFill>
              <a:latin typeface="Times New Roman"/>
              <a:ea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51280" y="6129360"/>
            <a:ext cx="1441440" cy="360360"/>
            <a:chOff x="3851280" y="6129360"/>
            <a:chExt cx="1441440" cy="360360"/>
          </a:xfrm>
        </p:grpSpPr>
        <p:sp>
          <p:nvSpPr>
            <p:cNvPr id="84" name="WordArt 5"/>
            <p:cNvSpPr txBox="1"/>
            <p:nvPr/>
          </p:nvSpPr>
          <p:spPr>
            <a:xfrm>
              <a:off x="3851280" y="612936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957b59"/>
                  </a:solidFill>
                  <a:latin typeface="Impact"/>
                </a:rPr>
                <a:t>' LOGOTYPE '</a:t>
              </a:r>
              <a:endParaRPr b="0" lang="en-US" sz="1800" spc="-1" strike="noStrike">
                <a:ln w="0">
                  <a:noFill/>
                </a:ln>
                <a:solidFill>
                  <a:srgbClr val="957b59"/>
                </a:solidFill>
                <a:latin typeface="Impact"/>
                <a:ea typeface="Impact"/>
              </a:endParaRPr>
            </a:p>
          </p:txBody>
        </p:sp>
        <p:sp>
          <p:nvSpPr>
            <p:cNvPr id="85" name="WordArt 6"/>
            <p:cNvSpPr txBox="1"/>
            <p:nvPr/>
          </p:nvSpPr>
          <p:spPr>
            <a:xfrm>
              <a:off x="3962520" y="6416640"/>
              <a:ext cx="122220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969696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969696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368360" y="3500280"/>
            <a:ext cx="1222560" cy="1224000"/>
            <a:chOff x="1368360" y="3500280"/>
            <a:chExt cx="1222560" cy="1224000"/>
          </a:xfrm>
        </p:grpSpPr>
        <p:sp>
          <p:nvSpPr>
            <p:cNvPr id="87" name="Oval 8"/>
            <p:cNvSpPr/>
            <p:nvPr/>
          </p:nvSpPr>
          <p:spPr>
            <a:xfrm>
              <a:off x="1368360" y="3500280"/>
              <a:ext cx="1222560" cy="12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618560" y="3708720"/>
              <a:ext cx="232200" cy="234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Oval 10"/>
          <p:cNvSpPr/>
          <p:nvPr/>
        </p:nvSpPr>
        <p:spPr>
          <a:xfrm>
            <a:off x="2735280" y="4076640"/>
            <a:ext cx="1225440" cy="1225440"/>
          </a:xfrm>
          <a:prstGeom prst="ellipse">
            <a:avLst/>
          </a:prstGeom>
          <a:solidFill>
            <a:srgbClr val="ffffff">
              <a:alpha val="25000"/>
            </a:srgbClr>
          </a:solidFill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826920" y="2166840"/>
            <a:ext cx="1225800" cy="1225800"/>
          </a:xfrm>
          <a:prstGeom prst="ellipse">
            <a:avLst/>
          </a:prstGeom>
          <a:solidFill>
            <a:srgbClr val="ffffff">
              <a:alpha val="25000"/>
            </a:srgbClr>
          </a:solidFill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4643280" y="2168640"/>
            <a:ext cx="1225800" cy="1225440"/>
          </a:xfrm>
          <a:prstGeom prst="ellipse">
            <a:avLst/>
          </a:prstGeom>
          <a:solidFill>
            <a:srgbClr val="ffffff">
              <a:alpha val="25000"/>
            </a:srgbClr>
          </a:solidFill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4102200" y="3500280"/>
            <a:ext cx="1225440" cy="1225800"/>
          </a:xfrm>
          <a:prstGeom prst="ellipse">
            <a:avLst/>
          </a:prstGeom>
          <a:solidFill>
            <a:srgbClr val="ffffff">
              <a:alpha val="25000"/>
            </a:srgbClr>
          </a:solidFill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H="1">
            <a:off x="2052360" y="2779560"/>
            <a:ext cx="53964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103280" y="2779560"/>
            <a:ext cx="53964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348000" y="3535200"/>
            <a:ext cx="0" cy="54144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410920" y="3284640"/>
            <a:ext cx="397080" cy="39528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3887640" y="3284640"/>
            <a:ext cx="397080" cy="39528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92360" y="2023920"/>
            <a:ext cx="1511280" cy="1512720"/>
            <a:chOff x="2592360" y="2023920"/>
            <a:chExt cx="1511280" cy="1512720"/>
          </a:xfrm>
        </p:grpSpPr>
        <p:grpSp>
          <p:nvGrpSpPr>
            <p:cNvPr id="99" name=""/>
            <p:cNvGrpSpPr/>
            <p:nvPr/>
          </p:nvGrpSpPr>
          <p:grpSpPr>
            <a:xfrm>
              <a:off x="2592360" y="2023920"/>
              <a:ext cx="1511280" cy="1512720"/>
              <a:chOff x="2592360" y="2023920"/>
              <a:chExt cx="1511280" cy="1512720"/>
            </a:xfrm>
          </p:grpSpPr>
          <p:sp>
            <p:nvSpPr>
              <p:cNvPr id="100" name="Oval 21"/>
              <p:cNvSpPr/>
              <p:nvPr/>
            </p:nvSpPr>
            <p:spPr>
              <a:xfrm>
                <a:off x="2592360" y="2023920"/>
                <a:ext cx="1511280" cy="1512720"/>
              </a:xfrm>
              <a:prstGeom prst="ellipse">
                <a:avLst/>
              </a:prstGeom>
              <a:gradFill rotWithShape="0">
                <a:gsLst>
                  <a:gs pos="0">
                    <a:srgbClr val="0064ff"/>
                  </a:gs>
                  <a:gs pos="100000">
                    <a:srgbClr val="0033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2"/>
              <p:cNvSpPr/>
              <p:nvPr/>
            </p:nvSpPr>
            <p:spPr>
              <a:xfrm>
                <a:off x="2901600" y="228132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44720" y="2563560"/>
              <a:ext cx="1006560" cy="395280"/>
              <a:chOff x="2844720" y="2563560"/>
              <a:chExt cx="1006560" cy="395280"/>
            </a:xfrm>
          </p:grpSpPr>
          <p:sp>
            <p:nvSpPr>
              <p:cNvPr id="103" name="WordArt 24"/>
              <p:cNvSpPr txBox="1"/>
              <p:nvPr/>
            </p:nvSpPr>
            <p:spPr>
              <a:xfrm>
                <a:off x="2844720" y="2563560"/>
                <a:ext cx="1006560" cy="21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2600" dir="5400000" blurRad="0" rotWithShape="0">
                        <a:srgbClr val="000000"/>
                      </a:outerShdw>
                    </a:effectLst>
                    <a:latin typeface="Arial Black"/>
                  </a:rPr>
                  <a:t>DESIGN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04" name="WordArt 25"/>
              <p:cNvSpPr txBox="1"/>
              <p:nvPr/>
            </p:nvSpPr>
            <p:spPr>
              <a:xfrm>
                <a:off x="2844720" y="2850840"/>
                <a:ext cx="1006560" cy="1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2600" dir="5400000" blurRad="0" rotWithShape="0">
                        <a:srgbClr val="000000"/>
                      </a:outerShdw>
                    </a:effectLst>
                    <a:latin typeface="Arial Black"/>
                  </a:rPr>
                  <a:t>INSPIRATION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05" name="WordArt 26"/>
          <p:cNvSpPr txBox="1"/>
          <p:nvPr/>
        </p:nvSpPr>
        <p:spPr>
          <a:xfrm>
            <a:off x="2843280" y="4653000"/>
            <a:ext cx="10094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808080"/>
                </a:solidFill>
                <a:latin typeface="Arial Black"/>
              </a:rPr>
              <a:t>Manufacturing</a:t>
            </a:r>
            <a:endParaRPr b="0" lang="en-US" sz="1800" spc="-1" strike="noStrike">
              <a:ln w="0">
                <a:noFill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06" name="WordArt 27"/>
          <p:cNvSpPr txBox="1"/>
          <p:nvPr/>
        </p:nvSpPr>
        <p:spPr>
          <a:xfrm>
            <a:off x="4248000" y="4062240"/>
            <a:ext cx="93672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808080"/>
                </a:solidFill>
                <a:latin typeface="Arial Black"/>
              </a:rPr>
              <a:t>Construction</a:t>
            </a:r>
            <a:endParaRPr b="0" lang="en-US" sz="1800" spc="-1" strike="noStrike">
              <a:ln w="0">
                <a:noFill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07" name="WordArt 28"/>
          <p:cNvSpPr txBox="1"/>
          <p:nvPr/>
        </p:nvSpPr>
        <p:spPr>
          <a:xfrm>
            <a:off x="5006880" y="2708280"/>
            <a:ext cx="5018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808080"/>
                </a:solidFill>
                <a:latin typeface="Arial Black"/>
              </a:rPr>
              <a:t>Clarity</a:t>
            </a:r>
            <a:endParaRPr b="0" lang="en-US" sz="1800" spc="-1" strike="noStrike">
              <a:ln w="0">
                <a:noFill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08" name="WordArt 29"/>
          <p:cNvSpPr txBox="1"/>
          <p:nvPr/>
        </p:nvSpPr>
        <p:spPr>
          <a:xfrm>
            <a:off x="1187280" y="2708280"/>
            <a:ext cx="5018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808080"/>
                </a:solidFill>
                <a:latin typeface="Arial Black"/>
              </a:rPr>
              <a:t>Impact</a:t>
            </a:r>
            <a:endParaRPr b="0" lang="en-US" sz="1800" spc="-1" strike="noStrike">
              <a:ln w="0">
                <a:noFill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09" name="WordArt 30"/>
          <p:cNvSpPr txBox="1"/>
          <p:nvPr/>
        </p:nvSpPr>
        <p:spPr>
          <a:xfrm>
            <a:off x="1655640" y="4060800"/>
            <a:ext cx="64800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Premium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10" name="AutoShape 31"/>
          <p:cNvSpPr/>
          <p:nvPr/>
        </p:nvSpPr>
        <p:spPr>
          <a:xfrm>
            <a:off x="6337440" y="4040280"/>
            <a:ext cx="2087280" cy="1008000"/>
          </a:xfrm>
          <a:prstGeom prst="roundRect">
            <a:avLst>
              <a:gd name="adj" fmla="val 6616"/>
            </a:avLst>
          </a:prstGeom>
          <a:solidFill>
            <a:srgbClr val="000000">
              <a:alpha val="10000"/>
            </a:srgbClr>
          </a:soli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13440" y="422748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4ff"/>
                </a:solidFill>
                <a:latin typeface="Arial Black"/>
                <a:ea typeface="Gulim"/>
              </a:rPr>
              <a:t>Visual Appea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6913440" y="46245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9e9e"/>
                </a:solidFill>
                <a:latin typeface="Arial Black"/>
                <a:ea typeface="Gulim"/>
              </a:rPr>
              <a:t>Subtle 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516720" y="4184640"/>
            <a:ext cx="325440" cy="325440"/>
            <a:chOff x="6516720" y="4184640"/>
            <a:chExt cx="325440" cy="325440"/>
          </a:xfrm>
        </p:grpSpPr>
        <p:sp>
          <p:nvSpPr>
            <p:cNvPr id="114" name="Oval 35"/>
            <p:cNvSpPr/>
            <p:nvPr/>
          </p:nvSpPr>
          <p:spPr>
            <a:xfrm>
              <a:off x="6516720" y="4184640"/>
              <a:ext cx="325440" cy="325440"/>
            </a:xfrm>
            <a:prstGeom prst="ellipse">
              <a:avLst/>
            </a:prstGeom>
            <a:gradFill rotWithShape="0">
              <a:gsLst>
                <a:gs pos="0">
                  <a:srgbClr val="ff6400"/>
                </a:gs>
                <a:gs pos="100000">
                  <a:srgbClr val="60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6"/>
            <p:cNvSpPr/>
            <p:nvPr/>
          </p:nvSpPr>
          <p:spPr>
            <a:xfrm>
              <a:off x="6583320" y="4240080"/>
              <a:ext cx="61560" cy="6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16720" y="4579920"/>
            <a:ext cx="325440" cy="325440"/>
            <a:chOff x="6516720" y="4579920"/>
            <a:chExt cx="325440" cy="325440"/>
          </a:xfrm>
        </p:grpSpPr>
        <p:sp>
          <p:nvSpPr>
            <p:cNvPr id="117" name="Oval 38"/>
            <p:cNvSpPr/>
            <p:nvPr/>
          </p:nvSpPr>
          <p:spPr>
            <a:xfrm>
              <a:off x="6516720" y="4579920"/>
              <a:ext cx="325440" cy="3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9"/>
            <p:cNvSpPr/>
            <p:nvPr/>
          </p:nvSpPr>
          <p:spPr>
            <a:xfrm>
              <a:off x="6583320" y="4635360"/>
              <a:ext cx="61560" cy="6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0"/>
          <p:cNvSpPr/>
          <p:nvPr/>
        </p:nvSpPr>
        <p:spPr>
          <a:xfrm>
            <a:off x="6265800" y="2168640"/>
            <a:ext cx="21240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9e9e"/>
                </a:solidFill>
                <a:latin typeface="Arial Black"/>
                <a:ea typeface="Gulim"/>
              </a:rPr>
              <a:t>More choices and visual tr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9e9e"/>
                </a:solidFill>
                <a:latin typeface="Arial"/>
                <a:ea typeface="Gulim"/>
              </a:rPr>
              <a:t>It’s about giving you the variety you need to meet the design on your min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9e9e"/>
                </a:solidFill>
                <a:latin typeface="Arial"/>
                <a:ea typeface="Gulim"/>
              </a:rPr>
              <a:t>We create powerpoint templates based on new visual trends that’s fresh, relevant and always on the cutting ed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>
            <a:hlinkClick r:id="rId1"/>
          </p:cNvPr>
          <p:cNvSpPr/>
          <p:nvPr/>
        </p:nvSpPr>
        <p:spPr>
          <a:xfrm>
            <a:off x="2028960" y="659448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Gulim"/>
                <a:ea typeface="Gulim"/>
              </a:rPr>
              <a:t>锐普</a:t>
            </a:r>
            <a:r>
              <a:rPr b="1" lang="en-US" sz="1400" spc="-1" strike="noStrike">
                <a:solidFill>
                  <a:srgbClr val="808080"/>
                </a:solidFill>
                <a:latin typeface="Gulim"/>
                <a:ea typeface="Gulim"/>
              </a:rPr>
              <a:t>PPT</a:t>
            </a:r>
            <a:r>
              <a:rPr b="1" lang="zh-CN" sz="1400" spc="-1" strike="noStrike">
                <a:solidFill>
                  <a:srgbClr val="808080"/>
                </a:solidFill>
                <a:latin typeface="Gulim"/>
                <a:ea typeface="Gulim"/>
              </a:rPr>
              <a:t>论坛转发</a:t>
            </a:r>
            <a:r>
              <a:rPr b="1" lang="en-US" sz="1400" spc="-1" strike="noStrike">
                <a:solidFill>
                  <a:srgbClr val="808080"/>
                </a:solidFill>
                <a:latin typeface="Gulim"/>
                <a:ea typeface="Gulim"/>
              </a:rPr>
              <a:t>www.rapidbbs.cn</a:t>
            </a:r>
            <a:r>
              <a:rPr b="1" lang="zh-CN" sz="1400" spc="-1" strike="noStrike">
                <a:solidFill>
                  <a:srgbClr val="808080"/>
                </a:solidFill>
                <a:latin typeface="Gulim"/>
                <a:ea typeface="Gulim"/>
              </a:rPr>
              <a:t>学习参考，不得商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14600" y="354348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3a5e8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06680" y="403236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2b4666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884320" y="533412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0f1924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4441680"/>
            <a:ext cx="2527200" cy="2416320"/>
            <a:chOff x="0" y="4441680"/>
            <a:chExt cx="2527200" cy="2416320"/>
          </a:xfrm>
        </p:grpSpPr>
        <p:sp>
          <p:nvSpPr>
            <p:cNvPr id="133" name="Arc 14"/>
            <p:cNvSpPr/>
            <p:nvPr/>
          </p:nvSpPr>
          <p:spPr>
            <a:xfrm>
              <a:off x="0" y="4566960"/>
              <a:ext cx="2286000" cy="229104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rc 16"/>
            <p:cNvSpPr/>
            <p:nvPr/>
          </p:nvSpPr>
          <p:spPr>
            <a:xfrm>
              <a:off x="0" y="4667040"/>
              <a:ext cx="2193840" cy="2190960"/>
            </a:xfrm>
            <a:prstGeom prst="pie">
              <a:avLst/>
            </a:prstGeom>
            <a:gradFill rotWithShape="0">
              <a:gsLst>
                <a:gs pos="0">
                  <a:srgbClr val="cbbc63"/>
                </a:gs>
                <a:gs pos="100000">
                  <a:srgbClr val="948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17"/>
            <p:cNvSpPr/>
            <p:nvPr/>
          </p:nvSpPr>
          <p:spPr>
            <a:xfrm>
              <a:off x="22320" y="4700520"/>
              <a:ext cx="2138400" cy="2135160"/>
            </a:xfrm>
            <a:prstGeom prst="pie">
              <a:avLst/>
            </a:prstGeom>
            <a:gradFill rotWithShape="0">
              <a:gsLst>
                <a:gs pos="0">
                  <a:srgbClr val="ded49c"/>
                </a:gs>
                <a:gs pos="100000">
                  <a:srgbClr val="cbbc6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"/>
          <p:cNvSpPr/>
          <p:nvPr/>
        </p:nvSpPr>
        <p:spPr>
          <a:xfrm>
            <a:off x="2496960" y="17193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800440" y="289548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3397320" y="41767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952800" y="51735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534960" y="373212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3a5e8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2819520" y="630252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0f1924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20226600">
            <a:off x="3521160" y="5387760"/>
            <a:ext cx="514440" cy="514080"/>
          </a:xfrm>
          <a:prstGeom prst="pie">
            <a:avLst/>
          </a:prstGeom>
          <a:gradFill rotWithShape="0">
            <a:gsLst>
              <a:gs pos="0">
                <a:srgbClr val="c0504d"/>
              </a:gs>
              <a:gs pos="100000">
                <a:srgbClr val="622927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1555920" y="1587600"/>
            <a:ext cx="657000" cy="65700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 rot="801600">
            <a:off x="2041560" y="2952720"/>
            <a:ext cx="657360" cy="657360"/>
          </a:xfrm>
          <a:prstGeom prst="pie">
            <a:avLst/>
          </a:prstGeom>
          <a:gradFill rotWithShape="0">
            <a:gsLst>
              <a:gs pos="0">
                <a:srgbClr val="bfcbda"/>
              </a:gs>
              <a:gs pos="100000">
                <a:srgbClr val="1f497d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 rot="1833000">
            <a:off x="2705040" y="4292640"/>
            <a:ext cx="604800" cy="604800"/>
          </a:xfrm>
          <a:prstGeom prst="pie">
            <a:avLst/>
          </a:prstGeom>
          <a:gradFill rotWithShape="0">
            <a:gsLst>
              <a:gs pos="0">
                <a:srgbClr val="800080"/>
              </a:gs>
              <a:gs pos="100000">
                <a:srgbClr val="650065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2695680" y="2556000"/>
            <a:ext cx="45417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294000" y="3825720"/>
            <a:ext cx="43196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3894120" y="4859280"/>
            <a:ext cx="386064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页脚占位符 4"/>
          <p:cNvSpPr/>
          <p:nvPr/>
        </p:nvSpPr>
        <p:spPr>
          <a:xfrm>
            <a:off x="83059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614600" y="354348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3a5e8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438280" y="426708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2b4666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908440" y="533088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0f1924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360" y="4495680"/>
            <a:ext cx="2514600" cy="2362320"/>
            <a:chOff x="-360" y="4495680"/>
            <a:chExt cx="2514600" cy="2362320"/>
          </a:xfrm>
        </p:grpSpPr>
        <p:sp>
          <p:nvSpPr>
            <p:cNvPr id="167" name="Arc 15"/>
            <p:cNvSpPr/>
            <p:nvPr/>
          </p:nvSpPr>
          <p:spPr>
            <a:xfrm>
              <a:off x="0" y="4618080"/>
              <a:ext cx="2274480" cy="2239560"/>
            </a:xfrm>
            <a:prstGeom prst="pie">
              <a:avLst/>
            </a:pr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 flipH="1">
              <a:off x="-360" y="4495680"/>
              <a:ext cx="2514600" cy="2362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17"/>
            <p:cNvSpPr/>
            <p:nvPr/>
          </p:nvSpPr>
          <p:spPr>
            <a:xfrm>
              <a:off x="0" y="4716000"/>
              <a:ext cx="2182680" cy="2142000"/>
            </a:xfrm>
            <a:prstGeom prst="pie">
              <a:avLst/>
            </a:prstGeom>
            <a:gradFill rotWithShape="0">
              <a:gsLst>
                <a:gs pos="0">
                  <a:srgbClr val="cbbc63"/>
                </a:gs>
                <a:gs pos="100000">
                  <a:srgbClr val="948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rc 18"/>
            <p:cNvSpPr/>
            <p:nvPr/>
          </p:nvSpPr>
          <p:spPr>
            <a:xfrm>
              <a:off x="21960" y="4748400"/>
              <a:ext cx="2127600" cy="2087280"/>
            </a:xfrm>
            <a:prstGeom prst="pie">
              <a:avLst/>
            </a:prstGeom>
            <a:gradFill rotWithShape="0">
              <a:gsLst>
                <a:gs pos="0">
                  <a:srgbClr val="ded49c"/>
                </a:gs>
                <a:gs pos="100000">
                  <a:srgbClr val="cbbc6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72360" y="5611680"/>
              <a:ext cx="163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Verdana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20"/>
          <p:cNvSpPr/>
          <p:nvPr/>
        </p:nvSpPr>
        <p:spPr>
          <a:xfrm>
            <a:off x="2368440" y="137160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Verdana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908440" y="27432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3424320" y="396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Verdana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4479840" y="51055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4"/>
          <p:cNvSpPr/>
          <p:nvPr/>
        </p:nvSpPr>
        <p:spPr>
          <a:xfrm>
            <a:off x="3825720" y="5492880"/>
            <a:ext cx="657360" cy="657000"/>
          </a:xfrm>
          <a:prstGeom prst="pie">
            <a:avLst/>
          </a:prstGeom>
          <a:gradFill rotWithShape="0">
            <a:gsLst>
              <a:gs pos="0">
                <a:srgbClr val="c0504d"/>
              </a:gs>
              <a:gs pos="100000">
                <a:srgbClr val="622927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2774880" y="1685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3411360" y="304632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3995640" y="4268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4648320" y="54133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1"/>
          <p:cNvSpPr/>
          <p:nvPr/>
        </p:nvSpPr>
        <p:spPr>
          <a:xfrm>
            <a:off x="1695600" y="1706400"/>
            <a:ext cx="657000" cy="65736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2"/>
          <p:cNvSpPr/>
          <p:nvPr/>
        </p:nvSpPr>
        <p:spPr>
          <a:xfrm>
            <a:off x="2181240" y="3071880"/>
            <a:ext cx="657360" cy="657000"/>
          </a:xfrm>
          <a:prstGeom prst="pie">
            <a:avLst/>
          </a:prstGeom>
          <a:gradFill rotWithShape="0">
            <a:gsLst>
              <a:gs pos="0">
                <a:srgbClr val="cddbec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3"/>
          <p:cNvSpPr/>
          <p:nvPr/>
        </p:nvSpPr>
        <p:spPr>
          <a:xfrm>
            <a:off x="2776680" y="4383000"/>
            <a:ext cx="657000" cy="657360"/>
          </a:xfrm>
          <a:prstGeom prst="pie">
            <a:avLst/>
          </a:prstGeom>
          <a:gradFill rotWithShape="0">
            <a:gsLst>
              <a:gs pos="0">
                <a:srgbClr val="800080"/>
              </a:gs>
              <a:gs pos="100000">
                <a:srgbClr val="650065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4"/>
          <p:cNvSpPr/>
          <p:nvPr/>
        </p:nvSpPr>
        <p:spPr>
          <a:xfrm>
            <a:off x="534960" y="373212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3a5e8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5"/>
          <p:cNvSpPr/>
          <p:nvPr/>
        </p:nvSpPr>
        <p:spPr>
          <a:xfrm>
            <a:off x="2843280" y="6299280"/>
            <a:ext cx="228600" cy="228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0f1924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1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" y="2521080"/>
            <a:ext cx="9140760" cy="433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90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rot="10800000">
            <a:off x="247680" y="2611080"/>
            <a:ext cx="8516880" cy="851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5"/>
          <p:cNvSpPr/>
          <p:nvPr/>
        </p:nvSpPr>
        <p:spPr>
          <a:xfrm>
            <a:off x="1276200" y="3616200"/>
            <a:ext cx="6486840" cy="32623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486320" y="3024360"/>
            <a:ext cx="0" cy="38289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4491720" y="3264480"/>
            <a:ext cx="1123560" cy="36612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H="1">
            <a:off x="4492440" y="3795480"/>
            <a:ext cx="2152800" cy="31276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H="1">
            <a:off x="4525920" y="3459240"/>
            <a:ext cx="4274280" cy="3412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7277040" y="3828960"/>
            <a:ext cx="1008000" cy="100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6372360" y="2897280"/>
            <a:ext cx="1011240" cy="101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5157720" y="2371680"/>
            <a:ext cx="1008000" cy="1008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ED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481640" y="1441440"/>
            <a:ext cx="0" cy="535932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>
            <a:off x="3292920" y="3211560"/>
            <a:ext cx="1134000" cy="36622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164320" y="3756960"/>
            <a:ext cx="2266200" cy="30970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1282320" y="4591800"/>
            <a:ext cx="3172320" cy="23004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7"/>
          <p:cNvSpPr/>
          <p:nvPr/>
        </p:nvSpPr>
        <p:spPr>
          <a:xfrm>
            <a:off x="477720" y="3981600"/>
            <a:ext cx="1008360" cy="1008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1457280" y="2970360"/>
            <a:ext cx="1008000" cy="101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 rot="10800000">
            <a:off x="1620720" y="3991680"/>
            <a:ext cx="5762880" cy="576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 rot="10800000">
            <a:off x="2465280" y="4860720"/>
            <a:ext cx="4003920" cy="400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 rot="10800000">
            <a:off x="2795400" y="5186520"/>
            <a:ext cx="3369960" cy="3371760"/>
          </a:xfrm>
          <a:prstGeom prst="pie">
            <a:avLst/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2"/>
          <p:cNvSpPr/>
          <p:nvPr/>
        </p:nvSpPr>
        <p:spPr>
          <a:xfrm>
            <a:off x="4414680" y="1654200"/>
            <a:ext cx="3903840" cy="4632480"/>
          </a:xfrm>
          <a:prstGeom prst="pie">
            <a:avLst/>
          </a:prstGeom>
          <a:noFill/>
          <a:ln w="2844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23"/>
          <p:cNvSpPr txBox="1"/>
          <p:nvPr/>
        </p:nvSpPr>
        <p:spPr>
          <a:xfrm rot="1800000">
            <a:off x="3431880" y="1851120"/>
            <a:ext cx="5257800" cy="338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1814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ca0026"/>
                </a:solidFill>
                <a:latin typeface="돋움"/>
              </a:rPr>
              <a:t>Non-formal Information</a:t>
            </a:r>
            <a:endParaRPr b="0" lang="en-US" sz="1000" spc="-1" strike="noStrike">
              <a:ln w="0">
                <a:noFill/>
              </a:ln>
              <a:solidFill>
                <a:srgbClr val="ca0026"/>
              </a:solidFill>
              <a:latin typeface="돋움"/>
              <a:ea typeface="돋움"/>
            </a:endParaRPr>
          </a:p>
        </p:txBody>
      </p:sp>
      <p:sp>
        <p:nvSpPr>
          <p:cNvPr id="209" name="WordArt 24"/>
          <p:cNvSpPr txBox="1"/>
          <p:nvPr/>
        </p:nvSpPr>
        <p:spPr>
          <a:xfrm>
            <a:off x="2081160" y="4429080"/>
            <a:ext cx="4807080" cy="510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704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Enterprise Knowledge/Information Portal</a:t>
            </a:r>
            <a:endParaRPr b="0" lang="en-US" sz="1800" spc="-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10" name="WordArt 25"/>
          <p:cNvSpPr txBox="1"/>
          <p:nvPr/>
        </p:nvSpPr>
        <p:spPr>
          <a:xfrm>
            <a:off x="3121200" y="5973840"/>
            <a:ext cx="2786040" cy="311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41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5d0011"/>
                    </a:gs>
                    <a:gs pos="100000">
                      <a:srgbClr val="ff9933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KP-EIP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5d0011"/>
                  </a:gs>
                  <a:gs pos="100000">
                    <a:srgbClr val="ff9933"/>
                  </a:gs>
                </a:gsLst>
                <a:lin ang="81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325440" y="241200"/>
            <a:ext cx="72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  <a:ea typeface="GulimChe"/>
              </a:rPr>
              <a:t>Solution &amp; Service -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GulimChe"/>
              </a:rPr>
              <a:t> 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  <a:ea typeface="Gulim"/>
              </a:rPr>
              <a:t>SI Development &amp;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7"/>
          <p:cNvSpPr/>
          <p:nvPr/>
        </p:nvSpPr>
        <p:spPr>
          <a:xfrm>
            <a:off x="3971880" y="2016000"/>
            <a:ext cx="1008000" cy="1008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G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8"/>
          <p:cNvSpPr/>
          <p:nvPr/>
        </p:nvSpPr>
        <p:spPr>
          <a:xfrm>
            <a:off x="2625840" y="2319480"/>
            <a:ext cx="1008000" cy="101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Gulim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298440" y="730080"/>
            <a:ext cx="76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Gulim"/>
              </a:rPr>
              <a:t>How convenient would it be, if we can view all the numerous information scattered on the intern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Gulim"/>
              </a:rPr>
              <a:t>such as Intranet, GroupWare,(ERP),(CRM),(SCM) gathered in single scre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1:38:23Z</dcterms:created>
  <dc:creator>Administrator</dc:creator>
  <dc:description/>
  <dc:language>en-US</dc:language>
  <cp:lastModifiedBy>微软用户</cp:lastModifiedBy>
  <cp:lastPrinted>1899-12-30T00:00:00Z</cp:lastPrinted>
  <dcterms:modified xsi:type="dcterms:W3CDTF">2011-11-15T15:57:0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