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B0B-DE45-4719-976A-C765920B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AEE-7A0C-4C42-8DD8-B5923226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0AC-C84C-4EE7-AE46-C6DB3F7D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F61-DCE3-455E-8405-AF8A3263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842F-66CA-4BC0-9855-301782F5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82F9-98A4-4ADA-97E5-64111E3A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E8FD-CC85-429A-9303-2B869F4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9F07-5CF6-4AC3-ABAB-0F9D437D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5E0A-E9BA-4B1D-ABA8-65BE8AD9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F823-6621-4819-9A97-C6C4F64E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87AC-4E81-4A03-A561-DD9572C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7F2-4574-49D8-B624-188DFCA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1657-4045-4755-A393-84485B3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5B39-F5B6-40E1-8A45-492A551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DF3-01D4-4FBA-8D3D-E59DBED4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FCF9-F069-4A5A-8949-C895B872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CA2D-3562-43FF-8138-4074525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7A6-B380-4C32-B256-D6AEE9F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1E0-9A24-4434-8BB6-1AA4D242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1BD-E4D8-49F1-87F2-539C2AD9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13C-0F6C-4F45-8C5C-7ADA4FF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B1A-993A-433A-9AA9-B074783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115-88FA-4536-BA23-918C041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DDC-E44C-4EB4-9177-17A58CD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7019-F0F3-4015-BD46-7F797F403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fe0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fe0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D65C-7B4A-4926-8A66-EB5091FD5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444444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5"/>
          <p:cNvSpPr/>
          <p:nvPr/>
        </p:nvSpPr>
        <p:spPr>
          <a:xfrm>
            <a:off x="0" y="401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3320" y="2492280"/>
            <a:ext cx="3838680" cy="497160"/>
          </a:xfrm>
          <a:prstGeom prst="rect">
            <a:avLst/>
          </a:prstGeom>
          <a:gradFill rotWithShape="0">
            <a:gsLst>
              <a:gs pos="0">
                <a:srgbClr val="326a75">
                  <a:alpha val="0"/>
                </a:srgbClr>
              </a:gs>
              <a:gs pos="50000">
                <a:srgbClr val="6de7ff"/>
              </a:gs>
              <a:gs pos="100000">
                <a:srgbClr val="326a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492280"/>
            <a:ext cx="3825720" cy="497160"/>
          </a:xfrm>
          <a:prstGeom prst="rect">
            <a:avLst/>
          </a:prstGeom>
          <a:gradFill rotWithShape="0">
            <a:gsLst>
              <a:gs pos="0">
                <a:srgbClr val="326a75">
                  <a:alpha val="0"/>
                </a:srgbClr>
              </a:gs>
              <a:gs pos="50000">
                <a:srgbClr val="6de7ff"/>
              </a:gs>
              <a:gs pos="100000">
                <a:srgbClr val="326a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320" y="3157560"/>
            <a:ext cx="3838680" cy="528480"/>
          </a:xfrm>
          <a:prstGeom prst="rect">
            <a:avLst/>
          </a:prstGeom>
          <a:gradFill rotWithShape="0">
            <a:gsLst>
              <a:gs pos="0">
                <a:srgbClr val="2a3c75">
                  <a:alpha val="0"/>
                </a:srgbClr>
              </a:gs>
              <a:gs pos="50000">
                <a:srgbClr val="5d84ff"/>
              </a:gs>
              <a:gs pos="100000">
                <a:srgbClr val="2a3c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157560"/>
            <a:ext cx="3825720" cy="528480"/>
          </a:xfrm>
          <a:prstGeom prst="rect">
            <a:avLst/>
          </a:prstGeom>
          <a:gradFill rotWithShape="0">
            <a:gsLst>
              <a:gs pos="0">
                <a:srgbClr val="2a3c75">
                  <a:alpha val="0"/>
                </a:srgbClr>
              </a:gs>
              <a:gs pos="50000">
                <a:srgbClr val="5d84ff"/>
              </a:gs>
              <a:gs pos="100000">
                <a:srgbClr val="2a3c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7200" y="3992400"/>
            <a:ext cx="3838320" cy="576360"/>
          </a:xfrm>
          <a:prstGeom prst="rect">
            <a:avLst/>
          </a:prstGeom>
          <a:gradFill rotWithShape="0">
            <a:gsLst>
              <a:gs pos="0">
                <a:srgbClr val="583275">
                  <a:alpha val="0"/>
                </a:srgbClr>
              </a:gs>
              <a:gs pos="50000">
                <a:srgbClr val="c06efe"/>
              </a:gs>
              <a:gs pos="100000">
                <a:srgbClr val="5832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5520" y="3992400"/>
            <a:ext cx="3826080" cy="576360"/>
          </a:xfrm>
          <a:prstGeom prst="rect">
            <a:avLst/>
          </a:prstGeom>
          <a:gradFill rotWithShape="0">
            <a:gsLst>
              <a:gs pos="0">
                <a:srgbClr val="583275">
                  <a:alpha val="0"/>
                </a:srgbClr>
              </a:gs>
              <a:gs pos="50000">
                <a:srgbClr val="c06efe"/>
              </a:gs>
              <a:gs pos="100000">
                <a:srgbClr val="5832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3320" y="4967280"/>
            <a:ext cx="3838680" cy="579600"/>
          </a:xfrm>
          <a:prstGeom prst="rect">
            <a:avLst/>
          </a:prstGeom>
          <a:gradFill rotWithShape="0">
            <a:gsLst>
              <a:gs pos="0">
                <a:srgbClr val="752843">
                  <a:alpha val="0"/>
                </a:srgbClr>
              </a:gs>
              <a:gs pos="50000">
                <a:srgbClr val="fe5893"/>
              </a:gs>
              <a:gs pos="100000">
                <a:srgbClr val="75284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67280"/>
            <a:ext cx="3825720" cy="579600"/>
          </a:xfrm>
          <a:prstGeom prst="rect">
            <a:avLst/>
          </a:prstGeom>
          <a:gradFill rotWithShape="0">
            <a:gsLst>
              <a:gs pos="0">
                <a:srgbClr val="752843">
                  <a:alpha val="0"/>
                </a:srgbClr>
              </a:gs>
              <a:gs pos="50000">
                <a:srgbClr val="fe5893"/>
              </a:gs>
              <a:gs pos="100000">
                <a:srgbClr val="75284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"/>
          <p:cNvSpPr/>
          <p:nvPr/>
        </p:nvSpPr>
        <p:spPr>
          <a:xfrm>
            <a:off x="533520" y="5410080"/>
            <a:ext cx="4348080" cy="911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"/>
          <p:cNvSpPr/>
          <p:nvPr/>
        </p:nvSpPr>
        <p:spPr>
          <a:xfrm>
            <a:off x="4567320" y="5410080"/>
            <a:ext cx="4348080" cy="911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1122480" y="4729320"/>
            <a:ext cx="2860560" cy="1062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2843"/>
              </a:gs>
              <a:gs pos="50000">
                <a:srgbClr val="fe5893"/>
              </a:gs>
              <a:gs pos="100000">
                <a:srgbClr val="752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1122480" y="4735440"/>
            <a:ext cx="2860560" cy="525600"/>
          </a:xfrm>
          <a:prstGeom prst="ellipse">
            <a:avLst/>
          </a:prstGeom>
          <a:gradFill rotWithShape="0">
            <a:gsLst>
              <a:gs pos="0">
                <a:srgbClr val="752843"/>
              </a:gs>
              <a:gs pos="100000">
                <a:srgbClr val="fe58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8"/>
          <p:cNvSpPr/>
          <p:nvPr/>
        </p:nvSpPr>
        <p:spPr>
          <a:xfrm rot="21569400">
            <a:off x="2461680" y="453060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1365120" y="3763800"/>
            <a:ext cx="2359080" cy="1003320"/>
          </a:xfrm>
          <a:prstGeom prst="can">
            <a:avLst>
              <a:gd name="adj" fmla="val 47143"/>
            </a:avLst>
          </a:prstGeom>
          <a:gradFill rotWithShape="0">
            <a:gsLst>
              <a:gs pos="0">
                <a:srgbClr val="583275"/>
              </a:gs>
              <a:gs pos="50000">
                <a:srgbClr val="c06efe"/>
              </a:gs>
              <a:gs pos="100000">
                <a:srgbClr val="5832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1360440" y="3768840"/>
            <a:ext cx="2363760" cy="466560"/>
          </a:xfrm>
          <a:prstGeom prst="ellipse">
            <a:avLst/>
          </a:prstGeom>
          <a:gradFill rotWithShape="0">
            <a:gsLst>
              <a:gs pos="0">
                <a:srgbClr val="583275"/>
              </a:gs>
              <a:gs pos="100000">
                <a:srgbClr val="c06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8"/>
          <p:cNvSpPr/>
          <p:nvPr/>
        </p:nvSpPr>
        <p:spPr>
          <a:xfrm rot="21569400">
            <a:off x="2460240" y="355752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1606680" y="2995560"/>
            <a:ext cx="1885680" cy="822240"/>
          </a:xfrm>
          <a:prstGeom prst="can">
            <a:avLst>
              <a:gd name="adj" fmla="val 40000"/>
            </a:avLst>
          </a:prstGeom>
          <a:gradFill rotWithShape="0">
            <a:gsLst>
              <a:gs pos="0">
                <a:srgbClr val="2a3c75"/>
              </a:gs>
              <a:gs pos="50000">
                <a:srgbClr val="5d84ff"/>
              </a:gs>
              <a:gs pos="100000">
                <a:srgbClr val="2a3c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1614600" y="2995560"/>
            <a:ext cx="1877760" cy="328680"/>
          </a:xfrm>
          <a:prstGeom prst="ellipse">
            <a:avLst/>
          </a:prstGeom>
          <a:gradFill rotWithShape="0">
            <a:gsLst>
              <a:gs pos="0">
                <a:srgbClr val="2a3c75"/>
              </a:gs>
              <a:gs pos="100000">
                <a:srgbClr val="5d8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 rot="21569400">
            <a:off x="2458800" y="2760840"/>
            <a:ext cx="158760" cy="44892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812960" y="2487600"/>
            <a:ext cx="1473120" cy="560520"/>
          </a:xfrm>
          <a:prstGeom prst="can">
            <a:avLst>
              <a:gd name="adj" fmla="val 36643"/>
            </a:avLst>
          </a:prstGeom>
          <a:gradFill rotWithShape="0">
            <a:gsLst>
              <a:gs pos="0">
                <a:srgbClr val="326a75"/>
              </a:gs>
              <a:gs pos="50000">
                <a:srgbClr val="6de7ff"/>
              </a:gs>
              <a:gs pos="100000">
                <a:srgbClr val="326a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3"/>
          <p:cNvGrpSpPr/>
          <p:nvPr/>
        </p:nvGrpSpPr>
        <p:grpSpPr>
          <a:xfrm>
            <a:off x="2436840" y="2133000"/>
            <a:ext cx="236160" cy="476640"/>
            <a:chOff x="2436840" y="2133000"/>
            <a:chExt cx="236160" cy="476640"/>
          </a:xfrm>
        </p:grpSpPr>
        <p:sp>
          <p:nvSpPr>
            <p:cNvPr id="106" name="AutoShape 28"/>
            <p:cNvSpPr/>
            <p:nvPr/>
          </p:nvSpPr>
          <p:spPr>
            <a:xfrm rot="21569400">
              <a:off x="2467080" y="2133720"/>
              <a:ext cx="158040" cy="450000"/>
            </a:xfrm>
            <a:prstGeom prst="can">
              <a:avLst>
                <a:gd name="adj" fmla="val 145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 rot="10938000">
              <a:off x="2437920" y="2532960"/>
              <a:ext cx="233640" cy="72000"/>
            </a:xfrm>
            <a:prstGeom prst="ellipse">
              <a:avLst/>
            </a:prstGeom>
            <a:gradFill rotWithShape="0">
              <a:gsLst>
                <a:gs pos="0">
                  <a:srgbClr val="4f5e3c"/>
                </a:gs>
                <a:gs pos="100000">
                  <a:srgbClr val="768d5a"/>
                </a:gs>
              </a:gsLst>
              <a:lin ang="106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2" descr="G:\animation\business\buildings\windmills\windmill_spinning_slow_hc.gif"/>
          <p:cNvPicPr/>
          <p:nvPr/>
        </p:nvPicPr>
        <p:blipFill>
          <a:blip r:embed="rId1"/>
          <a:stretch/>
        </p:blipFill>
        <p:spPr>
          <a:xfrm>
            <a:off x="1973160" y="1225440"/>
            <a:ext cx="115272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5"/>
          <p:cNvSpPr/>
          <p:nvPr/>
        </p:nvSpPr>
        <p:spPr>
          <a:xfrm>
            <a:off x="5216400" y="4729320"/>
            <a:ext cx="2860920" cy="1062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2843"/>
              </a:gs>
              <a:gs pos="50000">
                <a:srgbClr val="fe5893"/>
              </a:gs>
              <a:gs pos="100000">
                <a:srgbClr val="7528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5216400" y="4735440"/>
            <a:ext cx="2860920" cy="525600"/>
          </a:xfrm>
          <a:prstGeom prst="ellipse">
            <a:avLst/>
          </a:prstGeom>
          <a:gradFill rotWithShape="0">
            <a:gsLst>
              <a:gs pos="0">
                <a:srgbClr val="752843"/>
              </a:gs>
              <a:gs pos="100000">
                <a:srgbClr val="fe58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 rot="21569400">
            <a:off x="6554520" y="453060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5459400" y="3763800"/>
            <a:ext cx="2359080" cy="1003320"/>
          </a:xfrm>
          <a:prstGeom prst="can">
            <a:avLst>
              <a:gd name="adj" fmla="val 47143"/>
            </a:avLst>
          </a:prstGeom>
          <a:gradFill rotWithShape="0">
            <a:gsLst>
              <a:gs pos="0">
                <a:srgbClr val="583275"/>
              </a:gs>
              <a:gs pos="50000">
                <a:srgbClr val="c06efe"/>
              </a:gs>
              <a:gs pos="100000">
                <a:srgbClr val="5832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5454720" y="3768840"/>
            <a:ext cx="2363760" cy="466560"/>
          </a:xfrm>
          <a:prstGeom prst="ellipse">
            <a:avLst/>
          </a:prstGeom>
          <a:gradFill rotWithShape="0">
            <a:gsLst>
              <a:gs pos="0">
                <a:srgbClr val="583275"/>
              </a:gs>
              <a:gs pos="100000">
                <a:srgbClr val="c06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8"/>
          <p:cNvSpPr/>
          <p:nvPr/>
        </p:nvSpPr>
        <p:spPr>
          <a:xfrm rot="21569400">
            <a:off x="6554520" y="355752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5700600" y="2995560"/>
            <a:ext cx="1886040" cy="822240"/>
          </a:xfrm>
          <a:prstGeom prst="can">
            <a:avLst>
              <a:gd name="adj" fmla="val 40000"/>
            </a:avLst>
          </a:prstGeom>
          <a:gradFill rotWithShape="0">
            <a:gsLst>
              <a:gs pos="0">
                <a:srgbClr val="2a3c75"/>
              </a:gs>
              <a:gs pos="50000">
                <a:srgbClr val="5d84ff"/>
              </a:gs>
              <a:gs pos="100000">
                <a:srgbClr val="2a3c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5708520" y="2995560"/>
            <a:ext cx="1878120" cy="328680"/>
          </a:xfrm>
          <a:prstGeom prst="ellipse">
            <a:avLst/>
          </a:prstGeom>
          <a:gradFill rotWithShape="0">
            <a:gsLst>
              <a:gs pos="0">
                <a:srgbClr val="2a3c75"/>
              </a:gs>
              <a:gs pos="100000">
                <a:srgbClr val="5d8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 rot="21569400">
            <a:off x="6554520" y="2760840"/>
            <a:ext cx="158760" cy="44892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5907240" y="2487600"/>
            <a:ext cx="1473120" cy="560520"/>
          </a:xfrm>
          <a:prstGeom prst="can">
            <a:avLst>
              <a:gd name="adj" fmla="val 36643"/>
            </a:avLst>
          </a:prstGeom>
          <a:gradFill rotWithShape="0">
            <a:gsLst>
              <a:gs pos="0">
                <a:srgbClr val="326a75"/>
              </a:gs>
              <a:gs pos="50000">
                <a:srgbClr val="6de7ff"/>
              </a:gs>
              <a:gs pos="100000">
                <a:srgbClr val="326a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G:\animation\business\buildings\windmills\dutch_windmill_turning_hc.gif"/>
          <p:cNvPicPr/>
          <p:nvPr/>
        </p:nvPicPr>
        <p:blipFill>
          <a:blip r:embed="rId2"/>
          <a:stretch/>
        </p:blipFill>
        <p:spPr>
          <a:xfrm>
            <a:off x="5902200" y="1133640"/>
            <a:ext cx="1533600" cy="1533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6112440" y="5300640"/>
            <a:ext cx="104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6144840" y="4281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148800" y="3405240"/>
            <a:ext cx="95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6171480" y="2671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021760" y="5300640"/>
            <a:ext cx="104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053800" y="4281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2057760" y="3405240"/>
            <a:ext cx="95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080800" y="2671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209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锐普</dc:creator>
  <dc:description/>
  <dc:language>en-US</dc:language>
  <cp:lastModifiedBy>applena</cp:lastModifiedBy>
  <dcterms:modified xsi:type="dcterms:W3CDTF">2010-01-26T21:48:25Z</dcterms:modified>
  <cp:revision>5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对比型</vt:lpwstr>
  </property>
  <property fmtid="{D5CDD505-2E9C-101B-9397-08002B2CF9AE}" pid="3" name="SlideDescription">
    <vt:lpwstr/>
  </property>
  <property fmtid="{D5CDD505-2E9C-101B-9397-08002B2CF9AE}" pid="4" name="Version">
    <vt:r8>1</vt:r8>
  </property>
</Properties>
</file>