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1F2-9703-4331-9889-D9F1B644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BD1-60D0-4B1A-A36A-5DBC805B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530-127B-4C9B-870E-BEE737FC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CD4-25B9-4443-931E-A624E60B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737-E075-4BFD-8725-8DA31A63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06A-DF35-4332-A26A-1EF293A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DD3-DECB-4013-8037-5AA60401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8C0-35AC-4AB5-A279-B6B45008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238-294C-4FAE-83CC-8E1A29A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95C-DF60-41B7-90C4-76743C7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DCD-2EF4-431E-9262-A0BE2FBE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A4F-234F-48FB-BA41-3750EA5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B0E8-2A3F-4423-937F-F30EDE116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2920" y="2492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3bf"/>
                </a:solidFill>
                <a:latin typeface="Constantia"/>
              </a:rPr>
              <a:t>i came from the london under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40400" y="1125360"/>
            <a:ext cx="94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3bf"/>
                </a:solidFill>
                <a:latin typeface="Constantia"/>
              </a:rPr>
              <a:t>then i took my sound and spread it over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0" y="407664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f3bf"/>
                </a:solidFill>
                <a:latin typeface="Constantia"/>
              </a:rPr>
              <a:t>yes im leveling over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549360"/>
            <a:ext cx="482436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1d6b8"/>
                </a:solidFill>
                <a:latin typeface="Arial"/>
                <a:ea typeface="微软雅黑"/>
              </a:rPr>
              <a:t>文字飞舞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1d6b8"/>
                </a:solidFill>
                <a:latin typeface="Arial"/>
                <a:ea typeface="华文中宋"/>
              </a:rPr>
              <a:t>路径</a:t>
            </a:r>
            <a:r>
              <a:rPr b="0" lang="zh-CN" sz="2000" spc="-1" strike="noStrike">
                <a:solidFill>
                  <a:srgbClr val="c1d6b8"/>
                </a:solidFill>
                <a:latin typeface="Wingdings"/>
                <a:ea typeface="Wingdings"/>
              </a:rPr>
              <a:t></a:t>
            </a:r>
            <a:r>
              <a:rPr b="0" lang="zh-CN" sz="2000" spc="-1" strike="noStrike">
                <a:solidFill>
                  <a:srgbClr val="c1d6b8"/>
                </a:solidFill>
                <a:latin typeface="Arial"/>
                <a:ea typeface="华文中宋"/>
              </a:rPr>
              <a:t>按字母（记得设置字母间延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47628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Reference Sans Serif"/>
              </a:rPr>
              <a:t>Chejia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Reference Sans Serif"/>
              </a:rPr>
              <a:t>2012-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animMotion origin="layout" path="M 3.61111E-006 4.44444E-006 L 0.02378 0.43055 E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38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380"/>
                            </p:stCondLst>
                            <p:childTnLst>
                              <p:par>
                                <p:cTn id="20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Motion origin="layout" path="M 0 0 C 0.06892 0 0.125 0.01389 0.125 0.03125 C 0.125 0.04861 0.06892 0.06273 0 0.06273 C -0.06892 0.06273 -0.125 0.04861 -0.125 0.03125 C -0.125 0.01389 -0.06892 0 0 0 Z">
                                      <p:cBhvr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32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Motion origin="layout" path="M -4.16667E-006 -1.48148E-006 C 0.03108 0.0081 0.07379 0.04306 0.08716 0.04884 C 0.09931 0.05463 0.06754 0.02107 0.07674 0.03449 C 0.08542 0.04792 0.12466 0.08796 0.1415 0.12894 C 0.15868 0.16991 0.18021 0.22963 0.179 0.28079 C 0.17778 0.33195 0.15191 0.39954 0.13455 0.43634 C 0.11719 0.47315 0.09289 0.48634 0.07379 0.50116 C 0.05539 0.51597 0.03629 0.51968 0.02188 0.52523 C 0.00747 0.53079 -0.0052 0.5331 -0.01267 0.53519 E">
                                      <p:cBhvr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4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140"/>
                            </p:stCondLst>
                            <p:childTnLst>
                              <p:par>
                                <p:cTn id="32" nodeType="afterEffect" fill="hold" presetClass="path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2.77778E-007 -4.07407E-006 C 0.00295 -0.06064 0.00694 -0.11782 0.01493 -0.11782 C 0.02396 -0.11782 0.02708 -0.06064 0.03003 -4.07407E-006 C 0.03403 0.0669 0.03698 0.13426 0.04705 0.13426 C 0.05608 0.13426 0.05903 0.0669 0.06302 -4.07407E-006 C 0.06493 -0.06064 0.06892 -0.11782 0.07795 -0.11782 C 0.08594 -0.11782 0.08993 -0.06064 0.09306 -4.07407E-006 C 0.09601 0.0669 0.1 0.13426 0.10903 0.13426 C 0.11806 0.13426 0.125 -4.07407000000001E-006 0.125 0.00047 C 0.12795 -0.06064 0.13108 -0.11782 0.13993 -0.11782 C 0.14896 -0.11782 0.15208 -0.06064 0.15503 -4.07407E-006 C 0.15903 0.0669 0.16198 0.13426 0.17205 0.13426 C 0.18108 0.13426 0.18403 0.0669 0.18698 -4.07407E-006 C 0.19097 -0.06064 0.19392 -0.11782 0.20295 -0.11782 C 0.21094 -0.11782 0.21493 -0.06064 0.21806 -4.07407E-006 C 0.22101 0.0669 0.225 0.13426 0.23403 0.13426 C 0.24306 0.13426 0.24601 0.0669 0.25 -4.07407E-006 E">
                                      <p:cBhvr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240"/>
                            </p:stCondLst>
                            <p:childTnLst>
                              <p:par>
                                <p:cTn id="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84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-4.16667E-006 4.81481E-006 L 0.38993 -0.00672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4990"/>
                            </p:stCondLst>
                            <p:childTnLst>
                              <p:par>
                                <p:cTn id="45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38993 -0.00672 L 0.15365 -0.00672 E">
                                      <p:cBhvr>
                                        <p:cTn id="4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19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190"/>
                            </p:stCondLst>
                            <p:childTnLst>
                              <p:par>
                                <p:cTn id="51" nodeType="after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260"/>
                                  </p:iterate>
                                  <p:childTnLst>
                                    <p:animMotion origin="layout" path="M -3.88889E-006 2.59259E-006 C -0.00902 -0.00903 -0.03993 -0.01783 -0.05052 -0.01783 C -0.11875 -0.01783 -0.18888 0.12199 -0.18888 0.2618 C -0.18888 0.1912 -0.22395 0.12199 -0.25711 0.12199 C -0.29218 0.12199 -0.32534 0.19236 -0.32534 0.2618 C -0.32534 0.22685 -0.34305 0.1912 -0.36041 0.1912 C -0.37812 0.1912 -0.39548 0.22592 -0.39548 0.2618 C -0.39548 0.24375 -0.40434 0.22685 -0.41302 0.22685 C -0.42187 0.22685 -0.43055 0.2449 -0.43055 0.2618 C -0.43055 0.25278 -0.43507 0.24375 -0.43941 0.24375 C -0.44166 0.24375 -0.44809 0.25278 -0.44809 0.2618 C -0.44809 0.25717 -0.45052 0.25278 -0.45277 0.25278 C -0.45277 0.25162 -0.45729 0.25717 -0.45729 0.2618 C -0.45729 0.25926 -0.45729 0.25717 -0.45954 0.25717 C -0.45954 0.25833 -0.46198 0.25949 -0.46198 0.2618 C -0.46198 0.26041 -0.46198 0.25926 -0.46198 0.25833 C -0.46423 0.25833 -0.46423 0.25949 -0.46423 0.26065 C -0.46649 0.26065 -0.46649 0.25949 -0.46649 0.25833 C -0.46857 0.25833 -0.46857 0.25949 -0.46857 0.26065 E">
                                      <p:cBhvr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7:58:50Z</dcterms:created>
  <dc:creator>微软用户</dc:creator>
  <dc:description/>
  <dc:language>en-US</dc:language>
  <cp:lastModifiedBy>微软用户</cp:lastModifiedBy>
  <dcterms:modified xsi:type="dcterms:W3CDTF">2012-01-24T09:13:46Z</dcterms:modified>
  <cp:revision>2</cp:revision>
  <dc:subject/>
  <dc:title>幻灯片 1</dc:title>
</cp:coreProperties>
</file>