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1F85-F5C1-4EFD-B3A6-651A59D3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6BFD-A790-4BD1-8AFB-9D517392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2F15-6B13-481E-AF8E-9B8CF3EF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D79B-805C-4208-A5B1-7E18293C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DDC8-8B4D-46F6-BC6F-EEC1D54F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2872-CE9E-43D6-BDD5-66831BE8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4DB6-392A-4E01-BD07-36481981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B54F-4854-4986-A4E4-195F4DCB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AF5C-9B02-4E8F-A030-833696B1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3701-45A6-4306-9036-B2BE3CD0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922B-BB00-43C9-8C6E-DA3B5AF6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37A5-7347-46A2-9086-586D66C5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E89B-3F03-4026-A619-F70F9BEC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0F4D-0251-4643-ACA2-8AAA6A14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44C4-B2A1-4081-9981-4824B156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300D-B7DB-4825-B5AF-861297EA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5EF2-7C98-4BC9-BDA7-1B41B48F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C097-24E1-41A6-8BB9-E769F93F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7CD6-AD1A-4854-AD3C-2371715C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331C-1FB4-49BA-9B48-9EA2920F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01ED-9449-4BF9-8042-A1F29703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8222-5E22-4E3D-A6C4-28F6DC9F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1012-85D2-4D23-9D71-A5F024A9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2025-437A-4512-88B8-C5B12D3A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E04F-AABE-4A5E-A4E2-0B86488BEB08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08000" y="6308640"/>
            <a:ext cx="8928000" cy="433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216000" y="6415200"/>
            <a:ext cx="86508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Impact"/>
              </a:rPr>
              <a:t>' LOGO '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1224000" y="6416640"/>
            <a:ext cx="0" cy="2160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6516720" y="6488280"/>
            <a:ext cx="2376360" cy="71280"/>
          </a:xfrm>
          <a:prstGeom prst="rect">
            <a:avLst/>
          </a:prstGeom>
        </p:spPr>
        <p:txBody>
          <a:bodyPr wrap="none" lIns="90000" rIns="90000" tIns="24840" bIns="2484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PRESENTATION TITLE / PAGE TITLE / CONTENTS</a:t>
            </a:r>
            <a:endParaRPr b="1" lang="en-US" sz="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1366920" y="6488280"/>
            <a:ext cx="1441440" cy="72720"/>
          </a:xfrm>
          <a:prstGeom prst="rect">
            <a:avLst/>
          </a:prstGeom>
        </p:spPr>
        <p:txBody>
          <a:bodyPr wrap="none" lIns="90000" rIns="90000" tIns="26280" bIns="2628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COMPANY LOGOTYPE INSERT</a:t>
            </a:r>
            <a:endParaRPr b="1" lang="en-US" sz="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16c51"/>
              </a:gs>
              <a:gs pos="100000">
                <a:srgbClr val="d7cd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0380-400F-448E-94F1-AA4870BE0197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6308640"/>
            <a:ext cx="8928000" cy="43344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6000" y="6415200"/>
            <a:ext cx="86508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Impact"/>
              </a:rPr>
              <a:t>' LOGO '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224000" y="6416640"/>
            <a:ext cx="0" cy="2160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516720" y="6488280"/>
            <a:ext cx="2376360" cy="71280"/>
          </a:xfrm>
          <a:prstGeom prst="rect">
            <a:avLst/>
          </a:prstGeom>
        </p:spPr>
        <p:txBody>
          <a:bodyPr wrap="none" lIns="90000" rIns="90000" tIns="24840" bIns="2484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PRESENTATION TITLE / PAGE TITLE / CONTENTS</a:t>
            </a:r>
            <a:endParaRPr b="1" lang="en-US" sz="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366920" y="6488280"/>
            <a:ext cx="1441440" cy="72720"/>
          </a:xfrm>
          <a:prstGeom prst="rect">
            <a:avLst/>
          </a:prstGeom>
        </p:spPr>
        <p:txBody>
          <a:bodyPr wrap="none" lIns="90000" rIns="90000" tIns="26280" bIns="2628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COMPANY LOGOTYPE INSERT</a:t>
            </a:r>
            <a:endParaRPr b="1" lang="en-US" sz="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836720" y="115920"/>
            <a:ext cx="5472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ceb99a"/>
                    </a:gs>
                    <a:gs pos="100000">
                      <a:srgbClr val="fefef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CLICK TO EDIT TITLE STYLE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ceb99a"/>
                  </a:gs>
                  <a:gs pos="100000">
                    <a:srgbClr val="fefefe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未知"/>
          <p:cNvSpPr/>
          <p:nvPr/>
        </p:nvSpPr>
        <p:spPr>
          <a:xfrm flipH="1">
            <a:off x="862920" y="115920"/>
            <a:ext cx="863640" cy="287280"/>
          </a:xfrm>
          <a:custGeom>
            <a:avLst/>
            <a:gdLst/>
            <a:ahLst/>
            <a:rect l="l" t="t" r="r" b="b"/>
            <a:pathLst>
              <a:path w="2754" h="964">
                <a:moveTo>
                  <a:pt x="0" y="842"/>
                </a:moveTo>
                <a:lnTo>
                  <a:pt x="0" y="842"/>
                </a:lnTo>
                <a:lnTo>
                  <a:pt x="36" y="854"/>
                </a:lnTo>
                <a:lnTo>
                  <a:pt x="76" y="866"/>
                </a:lnTo>
                <a:lnTo>
                  <a:pt x="132" y="880"/>
                </a:lnTo>
                <a:lnTo>
                  <a:pt x="198" y="890"/>
                </a:lnTo>
                <a:lnTo>
                  <a:pt x="234" y="896"/>
                </a:lnTo>
                <a:lnTo>
                  <a:pt x="274" y="898"/>
                </a:lnTo>
                <a:lnTo>
                  <a:pt x="314" y="900"/>
                </a:lnTo>
                <a:lnTo>
                  <a:pt x="356" y="900"/>
                </a:lnTo>
                <a:lnTo>
                  <a:pt x="400" y="898"/>
                </a:lnTo>
                <a:lnTo>
                  <a:pt x="446" y="894"/>
                </a:lnTo>
                <a:lnTo>
                  <a:pt x="446" y="894"/>
                </a:lnTo>
                <a:lnTo>
                  <a:pt x="490" y="888"/>
                </a:lnTo>
                <a:lnTo>
                  <a:pt x="534" y="880"/>
                </a:lnTo>
                <a:lnTo>
                  <a:pt x="574" y="870"/>
                </a:lnTo>
                <a:lnTo>
                  <a:pt x="612" y="860"/>
                </a:lnTo>
                <a:lnTo>
                  <a:pt x="646" y="848"/>
                </a:lnTo>
                <a:lnTo>
                  <a:pt x="680" y="834"/>
                </a:lnTo>
                <a:lnTo>
                  <a:pt x="710" y="820"/>
                </a:lnTo>
                <a:lnTo>
                  <a:pt x="738" y="806"/>
                </a:lnTo>
                <a:lnTo>
                  <a:pt x="764" y="790"/>
                </a:lnTo>
                <a:lnTo>
                  <a:pt x="788" y="774"/>
                </a:lnTo>
                <a:lnTo>
                  <a:pt x="808" y="756"/>
                </a:lnTo>
                <a:lnTo>
                  <a:pt x="826" y="738"/>
                </a:lnTo>
                <a:lnTo>
                  <a:pt x="840" y="720"/>
                </a:lnTo>
                <a:lnTo>
                  <a:pt x="852" y="702"/>
                </a:lnTo>
                <a:lnTo>
                  <a:pt x="862" y="682"/>
                </a:lnTo>
                <a:lnTo>
                  <a:pt x="868" y="664"/>
                </a:lnTo>
                <a:lnTo>
                  <a:pt x="868" y="664"/>
                </a:lnTo>
                <a:lnTo>
                  <a:pt x="874" y="636"/>
                </a:lnTo>
                <a:lnTo>
                  <a:pt x="874" y="610"/>
                </a:lnTo>
                <a:lnTo>
                  <a:pt x="870" y="590"/>
                </a:lnTo>
                <a:lnTo>
                  <a:pt x="862" y="572"/>
                </a:lnTo>
                <a:lnTo>
                  <a:pt x="852" y="558"/>
                </a:lnTo>
                <a:lnTo>
                  <a:pt x="840" y="546"/>
                </a:lnTo>
                <a:lnTo>
                  <a:pt x="826" y="538"/>
                </a:lnTo>
                <a:lnTo>
                  <a:pt x="812" y="534"/>
                </a:lnTo>
                <a:lnTo>
                  <a:pt x="812" y="534"/>
                </a:lnTo>
                <a:lnTo>
                  <a:pt x="796" y="532"/>
                </a:lnTo>
                <a:lnTo>
                  <a:pt x="778" y="534"/>
                </a:lnTo>
                <a:lnTo>
                  <a:pt x="762" y="538"/>
                </a:lnTo>
                <a:lnTo>
                  <a:pt x="748" y="542"/>
                </a:lnTo>
                <a:lnTo>
                  <a:pt x="726" y="552"/>
                </a:lnTo>
                <a:lnTo>
                  <a:pt x="718" y="558"/>
                </a:lnTo>
                <a:lnTo>
                  <a:pt x="718" y="558"/>
                </a:lnTo>
                <a:lnTo>
                  <a:pt x="722" y="546"/>
                </a:lnTo>
                <a:lnTo>
                  <a:pt x="728" y="532"/>
                </a:lnTo>
                <a:lnTo>
                  <a:pt x="736" y="518"/>
                </a:lnTo>
                <a:lnTo>
                  <a:pt x="748" y="502"/>
                </a:lnTo>
                <a:lnTo>
                  <a:pt x="764" y="488"/>
                </a:lnTo>
                <a:lnTo>
                  <a:pt x="774" y="484"/>
                </a:lnTo>
                <a:lnTo>
                  <a:pt x="784" y="478"/>
                </a:lnTo>
                <a:lnTo>
                  <a:pt x="796" y="476"/>
                </a:lnTo>
                <a:lnTo>
                  <a:pt x="808" y="474"/>
                </a:lnTo>
                <a:lnTo>
                  <a:pt x="808" y="474"/>
                </a:lnTo>
                <a:lnTo>
                  <a:pt x="824" y="474"/>
                </a:lnTo>
                <a:lnTo>
                  <a:pt x="838" y="476"/>
                </a:lnTo>
                <a:lnTo>
                  <a:pt x="848" y="480"/>
                </a:lnTo>
                <a:lnTo>
                  <a:pt x="858" y="482"/>
                </a:lnTo>
                <a:lnTo>
                  <a:pt x="870" y="490"/>
                </a:lnTo>
                <a:lnTo>
                  <a:pt x="874" y="494"/>
                </a:lnTo>
                <a:lnTo>
                  <a:pt x="874" y="494"/>
                </a:lnTo>
                <a:lnTo>
                  <a:pt x="872" y="484"/>
                </a:lnTo>
                <a:lnTo>
                  <a:pt x="870" y="474"/>
                </a:lnTo>
                <a:lnTo>
                  <a:pt x="866" y="462"/>
                </a:lnTo>
                <a:lnTo>
                  <a:pt x="858" y="450"/>
                </a:lnTo>
                <a:lnTo>
                  <a:pt x="848" y="438"/>
                </a:lnTo>
                <a:lnTo>
                  <a:pt x="834" y="426"/>
                </a:lnTo>
                <a:lnTo>
                  <a:pt x="826" y="422"/>
                </a:lnTo>
                <a:lnTo>
                  <a:pt x="816" y="420"/>
                </a:lnTo>
                <a:lnTo>
                  <a:pt x="816" y="420"/>
                </a:lnTo>
                <a:lnTo>
                  <a:pt x="796" y="416"/>
                </a:lnTo>
                <a:lnTo>
                  <a:pt x="774" y="416"/>
                </a:lnTo>
                <a:lnTo>
                  <a:pt x="756" y="418"/>
                </a:lnTo>
                <a:lnTo>
                  <a:pt x="738" y="420"/>
                </a:lnTo>
                <a:lnTo>
                  <a:pt x="712" y="428"/>
                </a:lnTo>
                <a:lnTo>
                  <a:pt x="702" y="432"/>
                </a:lnTo>
                <a:lnTo>
                  <a:pt x="702" y="432"/>
                </a:lnTo>
                <a:lnTo>
                  <a:pt x="710" y="420"/>
                </a:lnTo>
                <a:lnTo>
                  <a:pt x="720" y="408"/>
                </a:lnTo>
                <a:lnTo>
                  <a:pt x="734" y="394"/>
                </a:lnTo>
                <a:lnTo>
                  <a:pt x="752" y="380"/>
                </a:lnTo>
                <a:lnTo>
                  <a:pt x="764" y="374"/>
                </a:lnTo>
                <a:lnTo>
                  <a:pt x="776" y="368"/>
                </a:lnTo>
                <a:lnTo>
                  <a:pt x="788" y="364"/>
                </a:lnTo>
                <a:lnTo>
                  <a:pt x="804" y="362"/>
                </a:lnTo>
                <a:lnTo>
                  <a:pt x="820" y="360"/>
                </a:lnTo>
                <a:lnTo>
                  <a:pt x="836" y="362"/>
                </a:lnTo>
                <a:lnTo>
                  <a:pt x="836" y="362"/>
                </a:lnTo>
                <a:lnTo>
                  <a:pt x="852" y="364"/>
                </a:lnTo>
                <a:lnTo>
                  <a:pt x="868" y="368"/>
                </a:lnTo>
                <a:lnTo>
                  <a:pt x="882" y="374"/>
                </a:lnTo>
                <a:lnTo>
                  <a:pt x="894" y="378"/>
                </a:lnTo>
                <a:lnTo>
                  <a:pt x="916" y="392"/>
                </a:lnTo>
                <a:lnTo>
                  <a:pt x="932" y="406"/>
                </a:lnTo>
                <a:lnTo>
                  <a:pt x="944" y="420"/>
                </a:lnTo>
                <a:lnTo>
                  <a:pt x="952" y="432"/>
                </a:lnTo>
                <a:lnTo>
                  <a:pt x="958" y="444"/>
                </a:lnTo>
                <a:lnTo>
                  <a:pt x="958" y="444"/>
                </a:lnTo>
                <a:lnTo>
                  <a:pt x="962" y="434"/>
                </a:lnTo>
                <a:lnTo>
                  <a:pt x="964" y="422"/>
                </a:lnTo>
                <a:lnTo>
                  <a:pt x="966" y="406"/>
                </a:lnTo>
                <a:lnTo>
                  <a:pt x="966" y="406"/>
                </a:lnTo>
                <a:lnTo>
                  <a:pt x="964" y="388"/>
                </a:lnTo>
                <a:lnTo>
                  <a:pt x="960" y="374"/>
                </a:lnTo>
                <a:lnTo>
                  <a:pt x="954" y="360"/>
                </a:lnTo>
                <a:lnTo>
                  <a:pt x="954" y="360"/>
                </a:lnTo>
                <a:lnTo>
                  <a:pt x="964" y="372"/>
                </a:lnTo>
                <a:lnTo>
                  <a:pt x="974" y="388"/>
                </a:lnTo>
                <a:lnTo>
                  <a:pt x="984" y="410"/>
                </a:lnTo>
                <a:lnTo>
                  <a:pt x="988" y="422"/>
                </a:lnTo>
                <a:lnTo>
                  <a:pt x="990" y="438"/>
                </a:lnTo>
                <a:lnTo>
                  <a:pt x="994" y="454"/>
                </a:lnTo>
                <a:lnTo>
                  <a:pt x="994" y="472"/>
                </a:lnTo>
                <a:lnTo>
                  <a:pt x="994" y="490"/>
                </a:lnTo>
                <a:lnTo>
                  <a:pt x="992" y="512"/>
                </a:lnTo>
                <a:lnTo>
                  <a:pt x="988" y="534"/>
                </a:lnTo>
                <a:lnTo>
                  <a:pt x="982" y="558"/>
                </a:lnTo>
                <a:lnTo>
                  <a:pt x="982" y="558"/>
                </a:lnTo>
                <a:lnTo>
                  <a:pt x="968" y="596"/>
                </a:lnTo>
                <a:lnTo>
                  <a:pt x="954" y="632"/>
                </a:lnTo>
                <a:lnTo>
                  <a:pt x="938" y="662"/>
                </a:lnTo>
                <a:lnTo>
                  <a:pt x="924" y="690"/>
                </a:lnTo>
                <a:lnTo>
                  <a:pt x="898" y="732"/>
                </a:lnTo>
                <a:lnTo>
                  <a:pt x="888" y="746"/>
                </a:lnTo>
                <a:lnTo>
                  <a:pt x="888" y="746"/>
                </a:lnTo>
                <a:lnTo>
                  <a:pt x="906" y="740"/>
                </a:lnTo>
                <a:lnTo>
                  <a:pt x="924" y="730"/>
                </a:lnTo>
                <a:lnTo>
                  <a:pt x="948" y="718"/>
                </a:lnTo>
                <a:lnTo>
                  <a:pt x="960" y="708"/>
                </a:lnTo>
                <a:lnTo>
                  <a:pt x="972" y="698"/>
                </a:lnTo>
                <a:lnTo>
                  <a:pt x="984" y="684"/>
                </a:lnTo>
                <a:lnTo>
                  <a:pt x="996" y="670"/>
                </a:lnTo>
                <a:lnTo>
                  <a:pt x="1006" y="654"/>
                </a:lnTo>
                <a:lnTo>
                  <a:pt x="1018" y="636"/>
                </a:lnTo>
                <a:lnTo>
                  <a:pt x="1026" y="614"/>
                </a:lnTo>
                <a:lnTo>
                  <a:pt x="1034" y="592"/>
                </a:lnTo>
                <a:lnTo>
                  <a:pt x="1034" y="592"/>
                </a:lnTo>
                <a:lnTo>
                  <a:pt x="1042" y="564"/>
                </a:lnTo>
                <a:lnTo>
                  <a:pt x="1046" y="538"/>
                </a:lnTo>
                <a:lnTo>
                  <a:pt x="1048" y="514"/>
                </a:lnTo>
                <a:lnTo>
                  <a:pt x="1050" y="492"/>
                </a:lnTo>
                <a:lnTo>
                  <a:pt x="1050" y="470"/>
                </a:lnTo>
                <a:lnTo>
                  <a:pt x="1048" y="452"/>
                </a:lnTo>
                <a:lnTo>
                  <a:pt x="1042" y="418"/>
                </a:lnTo>
                <a:lnTo>
                  <a:pt x="1034" y="394"/>
                </a:lnTo>
                <a:lnTo>
                  <a:pt x="1026" y="374"/>
                </a:lnTo>
                <a:lnTo>
                  <a:pt x="1016" y="360"/>
                </a:lnTo>
                <a:lnTo>
                  <a:pt x="1016" y="360"/>
                </a:lnTo>
                <a:lnTo>
                  <a:pt x="1028" y="368"/>
                </a:lnTo>
                <a:lnTo>
                  <a:pt x="1040" y="378"/>
                </a:lnTo>
                <a:lnTo>
                  <a:pt x="1052" y="392"/>
                </a:lnTo>
                <a:lnTo>
                  <a:pt x="1066" y="410"/>
                </a:lnTo>
                <a:lnTo>
                  <a:pt x="1080" y="432"/>
                </a:lnTo>
                <a:lnTo>
                  <a:pt x="1084" y="444"/>
                </a:lnTo>
                <a:lnTo>
                  <a:pt x="1088" y="458"/>
                </a:lnTo>
                <a:lnTo>
                  <a:pt x="1092" y="472"/>
                </a:lnTo>
                <a:lnTo>
                  <a:pt x="1094" y="488"/>
                </a:lnTo>
                <a:lnTo>
                  <a:pt x="1094" y="488"/>
                </a:lnTo>
                <a:lnTo>
                  <a:pt x="1096" y="518"/>
                </a:lnTo>
                <a:lnTo>
                  <a:pt x="1094" y="546"/>
                </a:lnTo>
                <a:lnTo>
                  <a:pt x="1092" y="570"/>
                </a:lnTo>
                <a:lnTo>
                  <a:pt x="1090" y="590"/>
                </a:lnTo>
                <a:lnTo>
                  <a:pt x="1084" y="618"/>
                </a:lnTo>
                <a:lnTo>
                  <a:pt x="1080" y="628"/>
                </a:lnTo>
                <a:lnTo>
                  <a:pt x="1080" y="628"/>
                </a:lnTo>
                <a:lnTo>
                  <a:pt x="1090" y="618"/>
                </a:lnTo>
                <a:lnTo>
                  <a:pt x="1100" y="602"/>
                </a:lnTo>
                <a:lnTo>
                  <a:pt x="1112" y="582"/>
                </a:lnTo>
                <a:lnTo>
                  <a:pt x="1126" y="552"/>
                </a:lnTo>
                <a:lnTo>
                  <a:pt x="1138" y="514"/>
                </a:lnTo>
                <a:lnTo>
                  <a:pt x="1150" y="468"/>
                </a:lnTo>
                <a:lnTo>
                  <a:pt x="1154" y="442"/>
                </a:lnTo>
                <a:lnTo>
                  <a:pt x="1158" y="412"/>
                </a:lnTo>
                <a:lnTo>
                  <a:pt x="1158" y="412"/>
                </a:lnTo>
                <a:lnTo>
                  <a:pt x="1160" y="382"/>
                </a:lnTo>
                <a:lnTo>
                  <a:pt x="1158" y="352"/>
                </a:lnTo>
                <a:lnTo>
                  <a:pt x="1154" y="324"/>
                </a:lnTo>
                <a:lnTo>
                  <a:pt x="1146" y="298"/>
                </a:lnTo>
                <a:lnTo>
                  <a:pt x="1136" y="272"/>
                </a:lnTo>
                <a:lnTo>
                  <a:pt x="1122" y="248"/>
                </a:lnTo>
                <a:lnTo>
                  <a:pt x="1108" y="226"/>
                </a:lnTo>
                <a:lnTo>
                  <a:pt x="1092" y="204"/>
                </a:lnTo>
                <a:lnTo>
                  <a:pt x="1072" y="186"/>
                </a:lnTo>
                <a:lnTo>
                  <a:pt x="1052" y="168"/>
                </a:lnTo>
                <a:lnTo>
                  <a:pt x="1032" y="152"/>
                </a:lnTo>
                <a:lnTo>
                  <a:pt x="1010" y="138"/>
                </a:lnTo>
                <a:lnTo>
                  <a:pt x="986" y="124"/>
                </a:lnTo>
                <a:lnTo>
                  <a:pt x="964" y="114"/>
                </a:lnTo>
                <a:lnTo>
                  <a:pt x="940" y="106"/>
                </a:lnTo>
                <a:lnTo>
                  <a:pt x="916" y="100"/>
                </a:lnTo>
                <a:lnTo>
                  <a:pt x="916" y="100"/>
                </a:lnTo>
                <a:lnTo>
                  <a:pt x="892" y="96"/>
                </a:lnTo>
                <a:lnTo>
                  <a:pt x="868" y="94"/>
                </a:lnTo>
                <a:lnTo>
                  <a:pt x="844" y="92"/>
                </a:lnTo>
                <a:lnTo>
                  <a:pt x="820" y="94"/>
                </a:lnTo>
                <a:lnTo>
                  <a:pt x="798" y="98"/>
                </a:lnTo>
                <a:lnTo>
                  <a:pt x="774" y="102"/>
                </a:lnTo>
                <a:lnTo>
                  <a:pt x="754" y="108"/>
                </a:lnTo>
                <a:lnTo>
                  <a:pt x="734" y="116"/>
                </a:lnTo>
                <a:lnTo>
                  <a:pt x="716" y="126"/>
                </a:lnTo>
                <a:lnTo>
                  <a:pt x="698" y="136"/>
                </a:lnTo>
                <a:lnTo>
                  <a:pt x="684" y="148"/>
                </a:lnTo>
                <a:lnTo>
                  <a:pt x="674" y="160"/>
                </a:lnTo>
                <a:lnTo>
                  <a:pt x="664" y="176"/>
                </a:lnTo>
                <a:lnTo>
                  <a:pt x="658" y="190"/>
                </a:lnTo>
                <a:lnTo>
                  <a:pt x="656" y="206"/>
                </a:lnTo>
                <a:lnTo>
                  <a:pt x="656" y="224"/>
                </a:lnTo>
                <a:lnTo>
                  <a:pt x="656" y="224"/>
                </a:lnTo>
                <a:lnTo>
                  <a:pt x="662" y="254"/>
                </a:lnTo>
                <a:lnTo>
                  <a:pt x="668" y="278"/>
                </a:lnTo>
                <a:lnTo>
                  <a:pt x="674" y="294"/>
                </a:lnTo>
                <a:lnTo>
                  <a:pt x="680" y="306"/>
                </a:lnTo>
                <a:lnTo>
                  <a:pt x="686" y="312"/>
                </a:lnTo>
                <a:lnTo>
                  <a:pt x="690" y="316"/>
                </a:lnTo>
                <a:lnTo>
                  <a:pt x="694" y="318"/>
                </a:lnTo>
                <a:lnTo>
                  <a:pt x="694" y="318"/>
                </a:lnTo>
                <a:lnTo>
                  <a:pt x="686" y="318"/>
                </a:lnTo>
                <a:lnTo>
                  <a:pt x="666" y="314"/>
                </a:lnTo>
                <a:lnTo>
                  <a:pt x="652" y="310"/>
                </a:lnTo>
                <a:lnTo>
                  <a:pt x="638" y="304"/>
                </a:lnTo>
                <a:lnTo>
                  <a:pt x="622" y="296"/>
                </a:lnTo>
                <a:lnTo>
                  <a:pt x="608" y="286"/>
                </a:lnTo>
                <a:lnTo>
                  <a:pt x="608" y="286"/>
                </a:lnTo>
                <a:lnTo>
                  <a:pt x="596" y="274"/>
                </a:lnTo>
                <a:lnTo>
                  <a:pt x="586" y="262"/>
                </a:lnTo>
                <a:lnTo>
                  <a:pt x="580" y="252"/>
                </a:lnTo>
                <a:lnTo>
                  <a:pt x="574" y="244"/>
                </a:lnTo>
                <a:lnTo>
                  <a:pt x="570" y="230"/>
                </a:lnTo>
                <a:lnTo>
                  <a:pt x="570" y="226"/>
                </a:lnTo>
                <a:lnTo>
                  <a:pt x="570" y="226"/>
                </a:lnTo>
                <a:lnTo>
                  <a:pt x="562" y="242"/>
                </a:lnTo>
                <a:lnTo>
                  <a:pt x="554" y="258"/>
                </a:lnTo>
                <a:lnTo>
                  <a:pt x="546" y="282"/>
                </a:lnTo>
                <a:lnTo>
                  <a:pt x="540" y="308"/>
                </a:lnTo>
                <a:lnTo>
                  <a:pt x="538" y="338"/>
                </a:lnTo>
                <a:lnTo>
                  <a:pt x="538" y="352"/>
                </a:lnTo>
                <a:lnTo>
                  <a:pt x="538" y="368"/>
                </a:lnTo>
                <a:lnTo>
                  <a:pt x="542" y="384"/>
                </a:lnTo>
                <a:lnTo>
                  <a:pt x="546" y="400"/>
                </a:lnTo>
                <a:lnTo>
                  <a:pt x="546" y="400"/>
                </a:lnTo>
                <a:lnTo>
                  <a:pt x="558" y="428"/>
                </a:lnTo>
                <a:lnTo>
                  <a:pt x="572" y="450"/>
                </a:lnTo>
                <a:lnTo>
                  <a:pt x="586" y="468"/>
                </a:lnTo>
                <a:lnTo>
                  <a:pt x="600" y="482"/>
                </a:lnTo>
                <a:lnTo>
                  <a:pt x="612" y="490"/>
                </a:lnTo>
                <a:lnTo>
                  <a:pt x="622" y="496"/>
                </a:lnTo>
                <a:lnTo>
                  <a:pt x="630" y="500"/>
                </a:lnTo>
                <a:lnTo>
                  <a:pt x="630" y="500"/>
                </a:lnTo>
                <a:lnTo>
                  <a:pt x="612" y="496"/>
                </a:lnTo>
                <a:lnTo>
                  <a:pt x="592" y="490"/>
                </a:lnTo>
                <a:lnTo>
                  <a:pt x="568" y="480"/>
                </a:lnTo>
                <a:lnTo>
                  <a:pt x="554" y="472"/>
                </a:lnTo>
                <a:lnTo>
                  <a:pt x="542" y="462"/>
                </a:lnTo>
                <a:lnTo>
                  <a:pt x="530" y="452"/>
                </a:lnTo>
                <a:lnTo>
                  <a:pt x="518" y="438"/>
                </a:lnTo>
                <a:lnTo>
                  <a:pt x="506" y="422"/>
                </a:lnTo>
                <a:lnTo>
                  <a:pt x="496" y="404"/>
                </a:lnTo>
                <a:lnTo>
                  <a:pt x="488" y="384"/>
                </a:lnTo>
                <a:lnTo>
                  <a:pt x="480" y="360"/>
                </a:lnTo>
                <a:lnTo>
                  <a:pt x="480" y="360"/>
                </a:lnTo>
                <a:lnTo>
                  <a:pt x="474" y="336"/>
                </a:lnTo>
                <a:lnTo>
                  <a:pt x="472" y="314"/>
                </a:lnTo>
                <a:lnTo>
                  <a:pt x="470" y="292"/>
                </a:lnTo>
                <a:lnTo>
                  <a:pt x="470" y="274"/>
                </a:lnTo>
                <a:lnTo>
                  <a:pt x="472" y="240"/>
                </a:lnTo>
                <a:lnTo>
                  <a:pt x="478" y="212"/>
                </a:lnTo>
                <a:lnTo>
                  <a:pt x="484" y="192"/>
                </a:lnTo>
                <a:lnTo>
                  <a:pt x="490" y="176"/>
                </a:lnTo>
                <a:lnTo>
                  <a:pt x="498" y="164"/>
                </a:lnTo>
                <a:lnTo>
                  <a:pt x="498" y="164"/>
                </a:lnTo>
                <a:lnTo>
                  <a:pt x="486" y="166"/>
                </a:lnTo>
                <a:lnTo>
                  <a:pt x="474" y="166"/>
                </a:lnTo>
                <a:lnTo>
                  <a:pt x="456" y="166"/>
                </a:lnTo>
                <a:lnTo>
                  <a:pt x="438" y="164"/>
                </a:lnTo>
                <a:lnTo>
                  <a:pt x="418" y="160"/>
                </a:lnTo>
                <a:lnTo>
                  <a:pt x="398" y="154"/>
                </a:lnTo>
                <a:lnTo>
                  <a:pt x="378" y="142"/>
                </a:lnTo>
                <a:lnTo>
                  <a:pt x="378" y="142"/>
                </a:lnTo>
                <a:lnTo>
                  <a:pt x="362" y="128"/>
                </a:lnTo>
                <a:lnTo>
                  <a:pt x="348" y="116"/>
                </a:lnTo>
                <a:lnTo>
                  <a:pt x="340" y="104"/>
                </a:lnTo>
                <a:lnTo>
                  <a:pt x="334" y="92"/>
                </a:lnTo>
                <a:lnTo>
                  <a:pt x="328" y="76"/>
                </a:lnTo>
                <a:lnTo>
                  <a:pt x="326" y="70"/>
                </a:lnTo>
                <a:lnTo>
                  <a:pt x="326" y="70"/>
                </a:lnTo>
                <a:lnTo>
                  <a:pt x="332" y="74"/>
                </a:lnTo>
                <a:lnTo>
                  <a:pt x="352" y="86"/>
                </a:lnTo>
                <a:lnTo>
                  <a:pt x="366" y="92"/>
                </a:lnTo>
                <a:lnTo>
                  <a:pt x="382" y="96"/>
                </a:lnTo>
                <a:lnTo>
                  <a:pt x="402" y="100"/>
                </a:lnTo>
                <a:lnTo>
                  <a:pt x="426" y="102"/>
                </a:lnTo>
                <a:lnTo>
                  <a:pt x="426" y="102"/>
                </a:lnTo>
                <a:lnTo>
                  <a:pt x="450" y="100"/>
                </a:lnTo>
                <a:lnTo>
                  <a:pt x="474" y="96"/>
                </a:lnTo>
                <a:lnTo>
                  <a:pt x="498" y="90"/>
                </a:lnTo>
                <a:lnTo>
                  <a:pt x="520" y="82"/>
                </a:lnTo>
                <a:lnTo>
                  <a:pt x="568" y="62"/>
                </a:lnTo>
                <a:lnTo>
                  <a:pt x="618" y="42"/>
                </a:lnTo>
                <a:lnTo>
                  <a:pt x="644" y="30"/>
                </a:lnTo>
                <a:lnTo>
                  <a:pt x="670" y="22"/>
                </a:lnTo>
                <a:lnTo>
                  <a:pt x="700" y="14"/>
                </a:lnTo>
                <a:lnTo>
                  <a:pt x="728" y="6"/>
                </a:lnTo>
                <a:lnTo>
                  <a:pt x="760" y="2"/>
                </a:lnTo>
                <a:lnTo>
                  <a:pt x="792" y="0"/>
                </a:lnTo>
                <a:lnTo>
                  <a:pt x="828" y="2"/>
                </a:lnTo>
                <a:lnTo>
                  <a:pt x="864" y="6"/>
                </a:lnTo>
                <a:lnTo>
                  <a:pt x="864" y="6"/>
                </a:lnTo>
                <a:lnTo>
                  <a:pt x="900" y="12"/>
                </a:lnTo>
                <a:lnTo>
                  <a:pt x="934" y="20"/>
                </a:lnTo>
                <a:lnTo>
                  <a:pt x="964" y="30"/>
                </a:lnTo>
                <a:lnTo>
                  <a:pt x="992" y="40"/>
                </a:lnTo>
                <a:lnTo>
                  <a:pt x="1018" y="52"/>
                </a:lnTo>
                <a:lnTo>
                  <a:pt x="1042" y="64"/>
                </a:lnTo>
                <a:lnTo>
                  <a:pt x="1064" y="76"/>
                </a:lnTo>
                <a:lnTo>
                  <a:pt x="1084" y="90"/>
                </a:lnTo>
                <a:lnTo>
                  <a:pt x="1102" y="106"/>
                </a:lnTo>
                <a:lnTo>
                  <a:pt x="1120" y="120"/>
                </a:lnTo>
                <a:lnTo>
                  <a:pt x="1134" y="138"/>
                </a:lnTo>
                <a:lnTo>
                  <a:pt x="1150" y="154"/>
                </a:lnTo>
                <a:lnTo>
                  <a:pt x="1176" y="190"/>
                </a:lnTo>
                <a:lnTo>
                  <a:pt x="1200" y="228"/>
                </a:lnTo>
                <a:lnTo>
                  <a:pt x="1200" y="228"/>
                </a:lnTo>
                <a:lnTo>
                  <a:pt x="1208" y="242"/>
                </a:lnTo>
                <a:lnTo>
                  <a:pt x="1216" y="258"/>
                </a:lnTo>
                <a:lnTo>
                  <a:pt x="1226" y="290"/>
                </a:lnTo>
                <a:lnTo>
                  <a:pt x="1232" y="322"/>
                </a:lnTo>
                <a:lnTo>
                  <a:pt x="1234" y="356"/>
                </a:lnTo>
                <a:lnTo>
                  <a:pt x="1234" y="390"/>
                </a:lnTo>
                <a:lnTo>
                  <a:pt x="1232" y="424"/>
                </a:lnTo>
                <a:lnTo>
                  <a:pt x="1226" y="456"/>
                </a:lnTo>
                <a:lnTo>
                  <a:pt x="1220" y="488"/>
                </a:lnTo>
                <a:lnTo>
                  <a:pt x="1212" y="518"/>
                </a:lnTo>
                <a:lnTo>
                  <a:pt x="1202" y="544"/>
                </a:lnTo>
                <a:lnTo>
                  <a:pt x="1186" y="590"/>
                </a:lnTo>
                <a:lnTo>
                  <a:pt x="1174" y="620"/>
                </a:lnTo>
                <a:lnTo>
                  <a:pt x="1168" y="632"/>
                </a:lnTo>
                <a:lnTo>
                  <a:pt x="1168" y="632"/>
                </a:lnTo>
                <a:lnTo>
                  <a:pt x="1242" y="584"/>
                </a:lnTo>
                <a:lnTo>
                  <a:pt x="1424" y="472"/>
                </a:lnTo>
                <a:lnTo>
                  <a:pt x="1536" y="404"/>
                </a:lnTo>
                <a:lnTo>
                  <a:pt x="1652" y="338"/>
                </a:lnTo>
                <a:lnTo>
                  <a:pt x="1762" y="276"/>
                </a:lnTo>
                <a:lnTo>
                  <a:pt x="1814" y="250"/>
                </a:lnTo>
                <a:lnTo>
                  <a:pt x="1862" y="226"/>
                </a:lnTo>
                <a:lnTo>
                  <a:pt x="1862" y="226"/>
                </a:lnTo>
                <a:lnTo>
                  <a:pt x="1910" y="206"/>
                </a:lnTo>
                <a:lnTo>
                  <a:pt x="1960" y="190"/>
                </a:lnTo>
                <a:lnTo>
                  <a:pt x="2012" y="176"/>
                </a:lnTo>
                <a:lnTo>
                  <a:pt x="2066" y="164"/>
                </a:lnTo>
                <a:lnTo>
                  <a:pt x="2120" y="156"/>
                </a:lnTo>
                <a:lnTo>
                  <a:pt x="2176" y="152"/>
                </a:lnTo>
                <a:lnTo>
                  <a:pt x="2232" y="152"/>
                </a:lnTo>
                <a:lnTo>
                  <a:pt x="2288" y="154"/>
                </a:lnTo>
                <a:lnTo>
                  <a:pt x="2342" y="158"/>
                </a:lnTo>
                <a:lnTo>
                  <a:pt x="2396" y="168"/>
                </a:lnTo>
                <a:lnTo>
                  <a:pt x="2446" y="180"/>
                </a:lnTo>
                <a:lnTo>
                  <a:pt x="2494" y="194"/>
                </a:lnTo>
                <a:lnTo>
                  <a:pt x="2538" y="214"/>
                </a:lnTo>
                <a:lnTo>
                  <a:pt x="2558" y="224"/>
                </a:lnTo>
                <a:lnTo>
                  <a:pt x="2578" y="236"/>
                </a:lnTo>
                <a:lnTo>
                  <a:pt x="2596" y="248"/>
                </a:lnTo>
                <a:lnTo>
                  <a:pt x="2614" y="262"/>
                </a:lnTo>
                <a:lnTo>
                  <a:pt x="2630" y="276"/>
                </a:lnTo>
                <a:lnTo>
                  <a:pt x="2644" y="292"/>
                </a:lnTo>
                <a:lnTo>
                  <a:pt x="2644" y="292"/>
                </a:lnTo>
                <a:lnTo>
                  <a:pt x="2664" y="316"/>
                </a:lnTo>
                <a:lnTo>
                  <a:pt x="2680" y="340"/>
                </a:lnTo>
                <a:lnTo>
                  <a:pt x="2696" y="364"/>
                </a:lnTo>
                <a:lnTo>
                  <a:pt x="2708" y="386"/>
                </a:lnTo>
                <a:lnTo>
                  <a:pt x="2718" y="410"/>
                </a:lnTo>
                <a:lnTo>
                  <a:pt x="2726" y="432"/>
                </a:lnTo>
                <a:lnTo>
                  <a:pt x="2730" y="454"/>
                </a:lnTo>
                <a:lnTo>
                  <a:pt x="2734" y="476"/>
                </a:lnTo>
                <a:lnTo>
                  <a:pt x="2736" y="498"/>
                </a:lnTo>
                <a:lnTo>
                  <a:pt x="2738" y="518"/>
                </a:lnTo>
                <a:lnTo>
                  <a:pt x="2736" y="540"/>
                </a:lnTo>
                <a:lnTo>
                  <a:pt x="2734" y="560"/>
                </a:lnTo>
                <a:lnTo>
                  <a:pt x="2730" y="578"/>
                </a:lnTo>
                <a:lnTo>
                  <a:pt x="2726" y="598"/>
                </a:lnTo>
                <a:lnTo>
                  <a:pt x="2714" y="632"/>
                </a:lnTo>
                <a:lnTo>
                  <a:pt x="2700" y="666"/>
                </a:lnTo>
                <a:lnTo>
                  <a:pt x="2684" y="694"/>
                </a:lnTo>
                <a:lnTo>
                  <a:pt x="2666" y="720"/>
                </a:lnTo>
                <a:lnTo>
                  <a:pt x="2650" y="742"/>
                </a:lnTo>
                <a:lnTo>
                  <a:pt x="2624" y="772"/>
                </a:lnTo>
                <a:lnTo>
                  <a:pt x="2614" y="782"/>
                </a:lnTo>
                <a:lnTo>
                  <a:pt x="2614" y="782"/>
                </a:lnTo>
                <a:lnTo>
                  <a:pt x="2612" y="800"/>
                </a:lnTo>
                <a:lnTo>
                  <a:pt x="2610" y="818"/>
                </a:lnTo>
                <a:lnTo>
                  <a:pt x="2610" y="840"/>
                </a:lnTo>
                <a:lnTo>
                  <a:pt x="2614" y="862"/>
                </a:lnTo>
                <a:lnTo>
                  <a:pt x="2618" y="872"/>
                </a:lnTo>
                <a:lnTo>
                  <a:pt x="2622" y="882"/>
                </a:lnTo>
                <a:lnTo>
                  <a:pt x="2628" y="890"/>
                </a:lnTo>
                <a:lnTo>
                  <a:pt x="2636" y="896"/>
                </a:lnTo>
                <a:lnTo>
                  <a:pt x="2646" y="900"/>
                </a:lnTo>
                <a:lnTo>
                  <a:pt x="2658" y="902"/>
                </a:lnTo>
                <a:lnTo>
                  <a:pt x="2658" y="902"/>
                </a:lnTo>
                <a:lnTo>
                  <a:pt x="2670" y="902"/>
                </a:lnTo>
                <a:lnTo>
                  <a:pt x="2678" y="900"/>
                </a:lnTo>
                <a:lnTo>
                  <a:pt x="2686" y="898"/>
                </a:lnTo>
                <a:lnTo>
                  <a:pt x="2692" y="894"/>
                </a:lnTo>
                <a:lnTo>
                  <a:pt x="2696" y="890"/>
                </a:lnTo>
                <a:lnTo>
                  <a:pt x="2698" y="886"/>
                </a:lnTo>
                <a:lnTo>
                  <a:pt x="2700" y="874"/>
                </a:lnTo>
                <a:lnTo>
                  <a:pt x="2700" y="864"/>
                </a:lnTo>
                <a:lnTo>
                  <a:pt x="2696" y="854"/>
                </a:lnTo>
                <a:lnTo>
                  <a:pt x="2692" y="844"/>
                </a:lnTo>
                <a:lnTo>
                  <a:pt x="2692" y="844"/>
                </a:lnTo>
                <a:lnTo>
                  <a:pt x="2704" y="844"/>
                </a:lnTo>
                <a:lnTo>
                  <a:pt x="2714" y="846"/>
                </a:lnTo>
                <a:lnTo>
                  <a:pt x="2728" y="850"/>
                </a:lnTo>
                <a:lnTo>
                  <a:pt x="2740" y="858"/>
                </a:lnTo>
                <a:lnTo>
                  <a:pt x="2744" y="864"/>
                </a:lnTo>
                <a:lnTo>
                  <a:pt x="2748" y="870"/>
                </a:lnTo>
                <a:lnTo>
                  <a:pt x="2752" y="878"/>
                </a:lnTo>
                <a:lnTo>
                  <a:pt x="2754" y="888"/>
                </a:lnTo>
                <a:lnTo>
                  <a:pt x="2754" y="900"/>
                </a:lnTo>
                <a:lnTo>
                  <a:pt x="2752" y="912"/>
                </a:lnTo>
                <a:lnTo>
                  <a:pt x="2752" y="912"/>
                </a:lnTo>
                <a:lnTo>
                  <a:pt x="2748" y="924"/>
                </a:lnTo>
                <a:lnTo>
                  <a:pt x="2742" y="936"/>
                </a:lnTo>
                <a:lnTo>
                  <a:pt x="2736" y="944"/>
                </a:lnTo>
                <a:lnTo>
                  <a:pt x="2726" y="952"/>
                </a:lnTo>
                <a:lnTo>
                  <a:pt x="2716" y="958"/>
                </a:lnTo>
                <a:lnTo>
                  <a:pt x="2706" y="962"/>
                </a:lnTo>
                <a:lnTo>
                  <a:pt x="2694" y="964"/>
                </a:lnTo>
                <a:lnTo>
                  <a:pt x="2682" y="964"/>
                </a:lnTo>
                <a:lnTo>
                  <a:pt x="2670" y="964"/>
                </a:lnTo>
                <a:lnTo>
                  <a:pt x="2658" y="962"/>
                </a:lnTo>
                <a:lnTo>
                  <a:pt x="2646" y="958"/>
                </a:lnTo>
                <a:lnTo>
                  <a:pt x="2636" y="952"/>
                </a:lnTo>
                <a:lnTo>
                  <a:pt x="2626" y="946"/>
                </a:lnTo>
                <a:lnTo>
                  <a:pt x="2616" y="938"/>
                </a:lnTo>
                <a:lnTo>
                  <a:pt x="2610" y="928"/>
                </a:lnTo>
                <a:lnTo>
                  <a:pt x="2604" y="918"/>
                </a:lnTo>
                <a:lnTo>
                  <a:pt x="2604" y="918"/>
                </a:lnTo>
                <a:lnTo>
                  <a:pt x="2596" y="896"/>
                </a:lnTo>
                <a:lnTo>
                  <a:pt x="2592" y="874"/>
                </a:lnTo>
                <a:lnTo>
                  <a:pt x="2588" y="852"/>
                </a:lnTo>
                <a:lnTo>
                  <a:pt x="2588" y="834"/>
                </a:lnTo>
                <a:lnTo>
                  <a:pt x="2588" y="804"/>
                </a:lnTo>
                <a:lnTo>
                  <a:pt x="2588" y="794"/>
                </a:lnTo>
                <a:lnTo>
                  <a:pt x="2588" y="794"/>
                </a:lnTo>
                <a:lnTo>
                  <a:pt x="2582" y="796"/>
                </a:lnTo>
                <a:lnTo>
                  <a:pt x="2564" y="804"/>
                </a:lnTo>
                <a:lnTo>
                  <a:pt x="2534" y="812"/>
                </a:lnTo>
                <a:lnTo>
                  <a:pt x="2516" y="816"/>
                </a:lnTo>
                <a:lnTo>
                  <a:pt x="2496" y="820"/>
                </a:lnTo>
                <a:lnTo>
                  <a:pt x="2474" y="820"/>
                </a:lnTo>
                <a:lnTo>
                  <a:pt x="2450" y="822"/>
                </a:lnTo>
                <a:lnTo>
                  <a:pt x="2424" y="820"/>
                </a:lnTo>
                <a:lnTo>
                  <a:pt x="2396" y="816"/>
                </a:lnTo>
                <a:lnTo>
                  <a:pt x="2366" y="810"/>
                </a:lnTo>
                <a:lnTo>
                  <a:pt x="2336" y="802"/>
                </a:lnTo>
                <a:lnTo>
                  <a:pt x="2304" y="790"/>
                </a:lnTo>
                <a:lnTo>
                  <a:pt x="2270" y="774"/>
                </a:lnTo>
                <a:lnTo>
                  <a:pt x="2270" y="774"/>
                </a:lnTo>
                <a:lnTo>
                  <a:pt x="2254" y="764"/>
                </a:lnTo>
                <a:lnTo>
                  <a:pt x="2238" y="754"/>
                </a:lnTo>
                <a:lnTo>
                  <a:pt x="2224" y="742"/>
                </a:lnTo>
                <a:lnTo>
                  <a:pt x="2210" y="728"/>
                </a:lnTo>
                <a:lnTo>
                  <a:pt x="2198" y="716"/>
                </a:lnTo>
                <a:lnTo>
                  <a:pt x="2186" y="700"/>
                </a:lnTo>
                <a:lnTo>
                  <a:pt x="2176" y="684"/>
                </a:lnTo>
                <a:lnTo>
                  <a:pt x="2168" y="668"/>
                </a:lnTo>
                <a:lnTo>
                  <a:pt x="2152" y="634"/>
                </a:lnTo>
                <a:lnTo>
                  <a:pt x="2140" y="600"/>
                </a:lnTo>
                <a:lnTo>
                  <a:pt x="2134" y="562"/>
                </a:lnTo>
                <a:lnTo>
                  <a:pt x="2130" y="526"/>
                </a:lnTo>
                <a:lnTo>
                  <a:pt x="2132" y="490"/>
                </a:lnTo>
                <a:lnTo>
                  <a:pt x="2136" y="456"/>
                </a:lnTo>
                <a:lnTo>
                  <a:pt x="2140" y="440"/>
                </a:lnTo>
                <a:lnTo>
                  <a:pt x="2146" y="424"/>
                </a:lnTo>
                <a:lnTo>
                  <a:pt x="2152" y="408"/>
                </a:lnTo>
                <a:lnTo>
                  <a:pt x="2160" y="394"/>
                </a:lnTo>
                <a:lnTo>
                  <a:pt x="2168" y="380"/>
                </a:lnTo>
                <a:lnTo>
                  <a:pt x="2178" y="368"/>
                </a:lnTo>
                <a:lnTo>
                  <a:pt x="2190" y="356"/>
                </a:lnTo>
                <a:lnTo>
                  <a:pt x="2202" y="346"/>
                </a:lnTo>
                <a:lnTo>
                  <a:pt x="2214" y="336"/>
                </a:lnTo>
                <a:lnTo>
                  <a:pt x="2228" y="328"/>
                </a:lnTo>
                <a:lnTo>
                  <a:pt x="2244" y="322"/>
                </a:lnTo>
                <a:lnTo>
                  <a:pt x="2260" y="318"/>
                </a:lnTo>
                <a:lnTo>
                  <a:pt x="2260" y="318"/>
                </a:lnTo>
                <a:lnTo>
                  <a:pt x="2292" y="312"/>
                </a:lnTo>
                <a:lnTo>
                  <a:pt x="2322" y="312"/>
                </a:lnTo>
                <a:lnTo>
                  <a:pt x="2348" y="316"/>
                </a:lnTo>
                <a:lnTo>
                  <a:pt x="2370" y="324"/>
                </a:lnTo>
                <a:lnTo>
                  <a:pt x="2392" y="334"/>
                </a:lnTo>
                <a:lnTo>
                  <a:pt x="2410" y="348"/>
                </a:lnTo>
                <a:lnTo>
                  <a:pt x="2426" y="364"/>
                </a:lnTo>
                <a:lnTo>
                  <a:pt x="2440" y="380"/>
                </a:lnTo>
                <a:lnTo>
                  <a:pt x="2450" y="398"/>
                </a:lnTo>
                <a:lnTo>
                  <a:pt x="2460" y="416"/>
                </a:lnTo>
                <a:lnTo>
                  <a:pt x="2468" y="432"/>
                </a:lnTo>
                <a:lnTo>
                  <a:pt x="2474" y="448"/>
                </a:lnTo>
                <a:lnTo>
                  <a:pt x="2480" y="474"/>
                </a:lnTo>
                <a:lnTo>
                  <a:pt x="2482" y="488"/>
                </a:lnTo>
                <a:lnTo>
                  <a:pt x="2482" y="488"/>
                </a:lnTo>
                <a:lnTo>
                  <a:pt x="2480" y="506"/>
                </a:lnTo>
                <a:lnTo>
                  <a:pt x="2480" y="518"/>
                </a:lnTo>
                <a:lnTo>
                  <a:pt x="2480" y="530"/>
                </a:lnTo>
                <a:lnTo>
                  <a:pt x="2484" y="542"/>
                </a:lnTo>
                <a:lnTo>
                  <a:pt x="2490" y="552"/>
                </a:lnTo>
                <a:lnTo>
                  <a:pt x="2500" y="560"/>
                </a:lnTo>
                <a:lnTo>
                  <a:pt x="2506" y="564"/>
                </a:lnTo>
                <a:lnTo>
                  <a:pt x="2514" y="566"/>
                </a:lnTo>
                <a:lnTo>
                  <a:pt x="2514" y="566"/>
                </a:lnTo>
                <a:lnTo>
                  <a:pt x="2524" y="568"/>
                </a:lnTo>
                <a:lnTo>
                  <a:pt x="2532" y="568"/>
                </a:lnTo>
                <a:lnTo>
                  <a:pt x="2540" y="566"/>
                </a:lnTo>
                <a:lnTo>
                  <a:pt x="2548" y="564"/>
                </a:lnTo>
                <a:lnTo>
                  <a:pt x="2558" y="558"/>
                </a:lnTo>
                <a:lnTo>
                  <a:pt x="2568" y="550"/>
                </a:lnTo>
                <a:lnTo>
                  <a:pt x="2572" y="540"/>
                </a:lnTo>
                <a:lnTo>
                  <a:pt x="2576" y="532"/>
                </a:lnTo>
                <a:lnTo>
                  <a:pt x="2578" y="524"/>
                </a:lnTo>
                <a:lnTo>
                  <a:pt x="2578" y="524"/>
                </a:lnTo>
                <a:lnTo>
                  <a:pt x="2580" y="532"/>
                </a:lnTo>
                <a:lnTo>
                  <a:pt x="2582" y="542"/>
                </a:lnTo>
                <a:lnTo>
                  <a:pt x="2584" y="552"/>
                </a:lnTo>
                <a:lnTo>
                  <a:pt x="2582" y="566"/>
                </a:lnTo>
                <a:lnTo>
                  <a:pt x="2578" y="578"/>
                </a:lnTo>
                <a:lnTo>
                  <a:pt x="2572" y="590"/>
                </a:lnTo>
                <a:lnTo>
                  <a:pt x="2566" y="596"/>
                </a:lnTo>
                <a:lnTo>
                  <a:pt x="2558" y="600"/>
                </a:lnTo>
                <a:lnTo>
                  <a:pt x="2558" y="600"/>
                </a:lnTo>
                <a:lnTo>
                  <a:pt x="2548" y="604"/>
                </a:lnTo>
                <a:lnTo>
                  <a:pt x="2538" y="608"/>
                </a:lnTo>
                <a:lnTo>
                  <a:pt x="2528" y="610"/>
                </a:lnTo>
                <a:lnTo>
                  <a:pt x="2518" y="610"/>
                </a:lnTo>
                <a:lnTo>
                  <a:pt x="2500" y="610"/>
                </a:lnTo>
                <a:lnTo>
                  <a:pt x="2484" y="606"/>
                </a:lnTo>
                <a:lnTo>
                  <a:pt x="2470" y="600"/>
                </a:lnTo>
                <a:lnTo>
                  <a:pt x="2460" y="594"/>
                </a:lnTo>
                <a:lnTo>
                  <a:pt x="2450" y="588"/>
                </a:lnTo>
                <a:lnTo>
                  <a:pt x="2450" y="588"/>
                </a:lnTo>
                <a:lnTo>
                  <a:pt x="2446" y="596"/>
                </a:lnTo>
                <a:lnTo>
                  <a:pt x="2444" y="604"/>
                </a:lnTo>
                <a:lnTo>
                  <a:pt x="2440" y="616"/>
                </a:lnTo>
                <a:lnTo>
                  <a:pt x="2440" y="626"/>
                </a:lnTo>
                <a:lnTo>
                  <a:pt x="2440" y="638"/>
                </a:lnTo>
                <a:lnTo>
                  <a:pt x="2444" y="650"/>
                </a:lnTo>
                <a:lnTo>
                  <a:pt x="2448" y="654"/>
                </a:lnTo>
                <a:lnTo>
                  <a:pt x="2454" y="658"/>
                </a:lnTo>
                <a:lnTo>
                  <a:pt x="2454" y="658"/>
                </a:lnTo>
                <a:lnTo>
                  <a:pt x="2470" y="666"/>
                </a:lnTo>
                <a:lnTo>
                  <a:pt x="2486" y="670"/>
                </a:lnTo>
                <a:lnTo>
                  <a:pt x="2500" y="668"/>
                </a:lnTo>
                <a:lnTo>
                  <a:pt x="2512" y="666"/>
                </a:lnTo>
                <a:lnTo>
                  <a:pt x="2520" y="660"/>
                </a:lnTo>
                <a:lnTo>
                  <a:pt x="2528" y="656"/>
                </a:lnTo>
                <a:lnTo>
                  <a:pt x="2534" y="650"/>
                </a:lnTo>
                <a:lnTo>
                  <a:pt x="2534" y="650"/>
                </a:lnTo>
                <a:lnTo>
                  <a:pt x="2532" y="658"/>
                </a:lnTo>
                <a:lnTo>
                  <a:pt x="2530" y="668"/>
                </a:lnTo>
                <a:lnTo>
                  <a:pt x="2524" y="678"/>
                </a:lnTo>
                <a:lnTo>
                  <a:pt x="2516" y="690"/>
                </a:lnTo>
                <a:lnTo>
                  <a:pt x="2502" y="698"/>
                </a:lnTo>
                <a:lnTo>
                  <a:pt x="2494" y="702"/>
                </a:lnTo>
                <a:lnTo>
                  <a:pt x="2486" y="704"/>
                </a:lnTo>
                <a:lnTo>
                  <a:pt x="2474" y="706"/>
                </a:lnTo>
                <a:lnTo>
                  <a:pt x="2462" y="706"/>
                </a:lnTo>
                <a:lnTo>
                  <a:pt x="2462" y="706"/>
                </a:lnTo>
                <a:lnTo>
                  <a:pt x="2444" y="704"/>
                </a:lnTo>
                <a:lnTo>
                  <a:pt x="2430" y="698"/>
                </a:lnTo>
                <a:lnTo>
                  <a:pt x="2418" y="692"/>
                </a:lnTo>
                <a:lnTo>
                  <a:pt x="2406" y="682"/>
                </a:lnTo>
                <a:lnTo>
                  <a:pt x="2398" y="672"/>
                </a:lnTo>
                <a:lnTo>
                  <a:pt x="2392" y="660"/>
                </a:lnTo>
                <a:lnTo>
                  <a:pt x="2386" y="648"/>
                </a:lnTo>
                <a:lnTo>
                  <a:pt x="2382" y="634"/>
                </a:lnTo>
                <a:lnTo>
                  <a:pt x="2376" y="610"/>
                </a:lnTo>
                <a:lnTo>
                  <a:pt x="2374" y="588"/>
                </a:lnTo>
                <a:lnTo>
                  <a:pt x="2374" y="566"/>
                </a:lnTo>
                <a:lnTo>
                  <a:pt x="2374" y="566"/>
                </a:lnTo>
                <a:lnTo>
                  <a:pt x="2368" y="566"/>
                </a:lnTo>
                <a:lnTo>
                  <a:pt x="2352" y="564"/>
                </a:lnTo>
                <a:lnTo>
                  <a:pt x="2342" y="560"/>
                </a:lnTo>
                <a:lnTo>
                  <a:pt x="2330" y="554"/>
                </a:lnTo>
                <a:lnTo>
                  <a:pt x="2318" y="546"/>
                </a:lnTo>
                <a:lnTo>
                  <a:pt x="2306" y="534"/>
                </a:lnTo>
                <a:lnTo>
                  <a:pt x="2306" y="534"/>
                </a:lnTo>
                <a:lnTo>
                  <a:pt x="2296" y="520"/>
                </a:lnTo>
                <a:lnTo>
                  <a:pt x="2290" y="504"/>
                </a:lnTo>
                <a:lnTo>
                  <a:pt x="2288" y="490"/>
                </a:lnTo>
                <a:lnTo>
                  <a:pt x="2290" y="476"/>
                </a:lnTo>
                <a:lnTo>
                  <a:pt x="2290" y="462"/>
                </a:lnTo>
                <a:lnTo>
                  <a:pt x="2294" y="452"/>
                </a:lnTo>
                <a:lnTo>
                  <a:pt x="2296" y="444"/>
                </a:lnTo>
                <a:lnTo>
                  <a:pt x="2296" y="444"/>
                </a:lnTo>
                <a:lnTo>
                  <a:pt x="2298" y="454"/>
                </a:lnTo>
                <a:lnTo>
                  <a:pt x="2302" y="464"/>
                </a:lnTo>
                <a:lnTo>
                  <a:pt x="2308" y="476"/>
                </a:lnTo>
                <a:lnTo>
                  <a:pt x="2316" y="486"/>
                </a:lnTo>
                <a:lnTo>
                  <a:pt x="2322" y="490"/>
                </a:lnTo>
                <a:lnTo>
                  <a:pt x="2328" y="494"/>
                </a:lnTo>
                <a:lnTo>
                  <a:pt x="2336" y="498"/>
                </a:lnTo>
                <a:lnTo>
                  <a:pt x="2344" y="498"/>
                </a:lnTo>
                <a:lnTo>
                  <a:pt x="2354" y="500"/>
                </a:lnTo>
                <a:lnTo>
                  <a:pt x="2366" y="498"/>
                </a:lnTo>
                <a:lnTo>
                  <a:pt x="2366" y="498"/>
                </a:lnTo>
                <a:lnTo>
                  <a:pt x="2376" y="494"/>
                </a:lnTo>
                <a:lnTo>
                  <a:pt x="2386" y="490"/>
                </a:lnTo>
                <a:lnTo>
                  <a:pt x="2392" y="484"/>
                </a:lnTo>
                <a:lnTo>
                  <a:pt x="2398" y="478"/>
                </a:lnTo>
                <a:lnTo>
                  <a:pt x="2402" y="470"/>
                </a:lnTo>
                <a:lnTo>
                  <a:pt x="2402" y="460"/>
                </a:lnTo>
                <a:lnTo>
                  <a:pt x="2402" y="452"/>
                </a:lnTo>
                <a:lnTo>
                  <a:pt x="2402" y="442"/>
                </a:lnTo>
                <a:lnTo>
                  <a:pt x="2398" y="432"/>
                </a:lnTo>
                <a:lnTo>
                  <a:pt x="2394" y="422"/>
                </a:lnTo>
                <a:lnTo>
                  <a:pt x="2382" y="404"/>
                </a:lnTo>
                <a:lnTo>
                  <a:pt x="2366" y="386"/>
                </a:lnTo>
                <a:lnTo>
                  <a:pt x="2358" y="380"/>
                </a:lnTo>
                <a:lnTo>
                  <a:pt x="2348" y="374"/>
                </a:lnTo>
                <a:lnTo>
                  <a:pt x="2348" y="374"/>
                </a:lnTo>
                <a:lnTo>
                  <a:pt x="2338" y="370"/>
                </a:lnTo>
                <a:lnTo>
                  <a:pt x="2324" y="366"/>
                </a:lnTo>
                <a:lnTo>
                  <a:pt x="2312" y="364"/>
                </a:lnTo>
                <a:lnTo>
                  <a:pt x="2296" y="366"/>
                </a:lnTo>
                <a:lnTo>
                  <a:pt x="2282" y="368"/>
                </a:lnTo>
                <a:lnTo>
                  <a:pt x="2266" y="372"/>
                </a:lnTo>
                <a:lnTo>
                  <a:pt x="2252" y="376"/>
                </a:lnTo>
                <a:lnTo>
                  <a:pt x="2236" y="384"/>
                </a:lnTo>
                <a:lnTo>
                  <a:pt x="2222" y="394"/>
                </a:lnTo>
                <a:lnTo>
                  <a:pt x="2210" y="406"/>
                </a:lnTo>
                <a:lnTo>
                  <a:pt x="2198" y="420"/>
                </a:lnTo>
                <a:lnTo>
                  <a:pt x="2188" y="436"/>
                </a:lnTo>
                <a:lnTo>
                  <a:pt x="2180" y="456"/>
                </a:lnTo>
                <a:lnTo>
                  <a:pt x="2174" y="476"/>
                </a:lnTo>
                <a:lnTo>
                  <a:pt x="2170" y="500"/>
                </a:lnTo>
                <a:lnTo>
                  <a:pt x="2170" y="526"/>
                </a:lnTo>
                <a:lnTo>
                  <a:pt x="2170" y="526"/>
                </a:lnTo>
                <a:lnTo>
                  <a:pt x="2172" y="552"/>
                </a:lnTo>
                <a:lnTo>
                  <a:pt x="2176" y="578"/>
                </a:lnTo>
                <a:lnTo>
                  <a:pt x="2184" y="604"/>
                </a:lnTo>
                <a:lnTo>
                  <a:pt x="2192" y="628"/>
                </a:lnTo>
                <a:lnTo>
                  <a:pt x="2202" y="650"/>
                </a:lnTo>
                <a:lnTo>
                  <a:pt x="2214" y="670"/>
                </a:lnTo>
                <a:lnTo>
                  <a:pt x="2228" y="690"/>
                </a:lnTo>
                <a:lnTo>
                  <a:pt x="2244" y="708"/>
                </a:lnTo>
                <a:lnTo>
                  <a:pt x="2262" y="724"/>
                </a:lnTo>
                <a:lnTo>
                  <a:pt x="2282" y="738"/>
                </a:lnTo>
                <a:lnTo>
                  <a:pt x="2302" y="750"/>
                </a:lnTo>
                <a:lnTo>
                  <a:pt x="2324" y="760"/>
                </a:lnTo>
                <a:lnTo>
                  <a:pt x="2348" y="768"/>
                </a:lnTo>
                <a:lnTo>
                  <a:pt x="2372" y="774"/>
                </a:lnTo>
                <a:lnTo>
                  <a:pt x="2398" y="776"/>
                </a:lnTo>
                <a:lnTo>
                  <a:pt x="2426" y="778"/>
                </a:lnTo>
                <a:lnTo>
                  <a:pt x="2426" y="778"/>
                </a:lnTo>
                <a:lnTo>
                  <a:pt x="2452" y="776"/>
                </a:lnTo>
                <a:lnTo>
                  <a:pt x="2478" y="774"/>
                </a:lnTo>
                <a:lnTo>
                  <a:pt x="2502" y="770"/>
                </a:lnTo>
                <a:lnTo>
                  <a:pt x="2524" y="766"/>
                </a:lnTo>
                <a:lnTo>
                  <a:pt x="2546" y="760"/>
                </a:lnTo>
                <a:lnTo>
                  <a:pt x="2566" y="752"/>
                </a:lnTo>
                <a:lnTo>
                  <a:pt x="2584" y="742"/>
                </a:lnTo>
                <a:lnTo>
                  <a:pt x="2600" y="732"/>
                </a:lnTo>
                <a:lnTo>
                  <a:pt x="2614" y="720"/>
                </a:lnTo>
                <a:lnTo>
                  <a:pt x="2628" y="708"/>
                </a:lnTo>
                <a:lnTo>
                  <a:pt x="2640" y="692"/>
                </a:lnTo>
                <a:lnTo>
                  <a:pt x="2652" y="678"/>
                </a:lnTo>
                <a:lnTo>
                  <a:pt x="2660" y="660"/>
                </a:lnTo>
                <a:lnTo>
                  <a:pt x="2668" y="642"/>
                </a:lnTo>
                <a:lnTo>
                  <a:pt x="2674" y="622"/>
                </a:lnTo>
                <a:lnTo>
                  <a:pt x="2680" y="602"/>
                </a:lnTo>
                <a:lnTo>
                  <a:pt x="2680" y="602"/>
                </a:lnTo>
                <a:lnTo>
                  <a:pt x="2684" y="580"/>
                </a:lnTo>
                <a:lnTo>
                  <a:pt x="2686" y="554"/>
                </a:lnTo>
                <a:lnTo>
                  <a:pt x="2684" y="528"/>
                </a:lnTo>
                <a:lnTo>
                  <a:pt x="2682" y="498"/>
                </a:lnTo>
                <a:lnTo>
                  <a:pt x="2676" y="470"/>
                </a:lnTo>
                <a:lnTo>
                  <a:pt x="2666" y="440"/>
                </a:lnTo>
                <a:lnTo>
                  <a:pt x="2652" y="410"/>
                </a:lnTo>
                <a:lnTo>
                  <a:pt x="2634" y="380"/>
                </a:lnTo>
                <a:lnTo>
                  <a:pt x="2612" y="352"/>
                </a:lnTo>
                <a:lnTo>
                  <a:pt x="2586" y="324"/>
                </a:lnTo>
                <a:lnTo>
                  <a:pt x="2570" y="312"/>
                </a:lnTo>
                <a:lnTo>
                  <a:pt x="2554" y="300"/>
                </a:lnTo>
                <a:lnTo>
                  <a:pt x="2536" y="288"/>
                </a:lnTo>
                <a:lnTo>
                  <a:pt x="2518" y="276"/>
                </a:lnTo>
                <a:lnTo>
                  <a:pt x="2496" y="266"/>
                </a:lnTo>
                <a:lnTo>
                  <a:pt x="2474" y="256"/>
                </a:lnTo>
                <a:lnTo>
                  <a:pt x="2450" y="246"/>
                </a:lnTo>
                <a:lnTo>
                  <a:pt x="2424" y="238"/>
                </a:lnTo>
                <a:lnTo>
                  <a:pt x="2398" y="232"/>
                </a:lnTo>
                <a:lnTo>
                  <a:pt x="2368" y="226"/>
                </a:lnTo>
                <a:lnTo>
                  <a:pt x="2338" y="220"/>
                </a:lnTo>
                <a:lnTo>
                  <a:pt x="2306" y="216"/>
                </a:lnTo>
                <a:lnTo>
                  <a:pt x="2306" y="216"/>
                </a:lnTo>
                <a:lnTo>
                  <a:pt x="2270" y="212"/>
                </a:lnTo>
                <a:lnTo>
                  <a:pt x="2236" y="212"/>
                </a:lnTo>
                <a:lnTo>
                  <a:pt x="2202" y="212"/>
                </a:lnTo>
                <a:lnTo>
                  <a:pt x="2168" y="214"/>
                </a:lnTo>
                <a:lnTo>
                  <a:pt x="2134" y="218"/>
                </a:lnTo>
                <a:lnTo>
                  <a:pt x="2102" y="224"/>
                </a:lnTo>
                <a:lnTo>
                  <a:pt x="2070" y="230"/>
                </a:lnTo>
                <a:lnTo>
                  <a:pt x="2038" y="236"/>
                </a:lnTo>
                <a:lnTo>
                  <a:pt x="1976" y="254"/>
                </a:lnTo>
                <a:lnTo>
                  <a:pt x="1918" y="274"/>
                </a:lnTo>
                <a:lnTo>
                  <a:pt x="1864" y="296"/>
                </a:lnTo>
                <a:lnTo>
                  <a:pt x="1814" y="320"/>
                </a:lnTo>
                <a:lnTo>
                  <a:pt x="1766" y="346"/>
                </a:lnTo>
                <a:lnTo>
                  <a:pt x="1726" y="370"/>
                </a:lnTo>
                <a:lnTo>
                  <a:pt x="1690" y="392"/>
                </a:lnTo>
                <a:lnTo>
                  <a:pt x="1660" y="412"/>
                </a:lnTo>
                <a:lnTo>
                  <a:pt x="1616" y="444"/>
                </a:lnTo>
                <a:lnTo>
                  <a:pt x="1602" y="456"/>
                </a:lnTo>
                <a:lnTo>
                  <a:pt x="1602" y="456"/>
                </a:lnTo>
                <a:lnTo>
                  <a:pt x="1616" y="456"/>
                </a:lnTo>
                <a:lnTo>
                  <a:pt x="1630" y="456"/>
                </a:lnTo>
                <a:lnTo>
                  <a:pt x="1646" y="458"/>
                </a:lnTo>
                <a:lnTo>
                  <a:pt x="1664" y="462"/>
                </a:lnTo>
                <a:lnTo>
                  <a:pt x="1684" y="468"/>
                </a:lnTo>
                <a:lnTo>
                  <a:pt x="1702" y="476"/>
                </a:lnTo>
                <a:lnTo>
                  <a:pt x="1710" y="482"/>
                </a:lnTo>
                <a:lnTo>
                  <a:pt x="1716" y="490"/>
                </a:lnTo>
                <a:lnTo>
                  <a:pt x="1716" y="490"/>
                </a:lnTo>
                <a:lnTo>
                  <a:pt x="1728" y="504"/>
                </a:lnTo>
                <a:lnTo>
                  <a:pt x="1740" y="516"/>
                </a:lnTo>
                <a:lnTo>
                  <a:pt x="1752" y="526"/>
                </a:lnTo>
                <a:lnTo>
                  <a:pt x="1766" y="534"/>
                </a:lnTo>
                <a:lnTo>
                  <a:pt x="1778" y="540"/>
                </a:lnTo>
                <a:lnTo>
                  <a:pt x="1794" y="546"/>
                </a:lnTo>
                <a:lnTo>
                  <a:pt x="1810" y="550"/>
                </a:lnTo>
                <a:lnTo>
                  <a:pt x="1828" y="552"/>
                </a:lnTo>
                <a:lnTo>
                  <a:pt x="1828" y="552"/>
                </a:lnTo>
                <a:lnTo>
                  <a:pt x="1848" y="554"/>
                </a:lnTo>
                <a:lnTo>
                  <a:pt x="1866" y="554"/>
                </a:lnTo>
                <a:lnTo>
                  <a:pt x="1882" y="552"/>
                </a:lnTo>
                <a:lnTo>
                  <a:pt x="1898" y="548"/>
                </a:lnTo>
                <a:lnTo>
                  <a:pt x="1910" y="542"/>
                </a:lnTo>
                <a:lnTo>
                  <a:pt x="1920" y="534"/>
                </a:lnTo>
                <a:lnTo>
                  <a:pt x="1924" y="528"/>
                </a:lnTo>
                <a:lnTo>
                  <a:pt x="1926" y="522"/>
                </a:lnTo>
                <a:lnTo>
                  <a:pt x="1928" y="506"/>
                </a:lnTo>
                <a:lnTo>
                  <a:pt x="1928" y="506"/>
                </a:lnTo>
                <a:lnTo>
                  <a:pt x="1928" y="498"/>
                </a:lnTo>
                <a:lnTo>
                  <a:pt x="1926" y="492"/>
                </a:lnTo>
                <a:lnTo>
                  <a:pt x="1922" y="486"/>
                </a:lnTo>
                <a:lnTo>
                  <a:pt x="1918" y="480"/>
                </a:lnTo>
                <a:lnTo>
                  <a:pt x="1910" y="474"/>
                </a:lnTo>
                <a:lnTo>
                  <a:pt x="1900" y="470"/>
                </a:lnTo>
                <a:lnTo>
                  <a:pt x="1888" y="470"/>
                </a:lnTo>
                <a:lnTo>
                  <a:pt x="1880" y="468"/>
                </a:lnTo>
                <a:lnTo>
                  <a:pt x="1870" y="470"/>
                </a:lnTo>
                <a:lnTo>
                  <a:pt x="1870" y="470"/>
                </a:lnTo>
                <a:lnTo>
                  <a:pt x="1880" y="466"/>
                </a:lnTo>
                <a:lnTo>
                  <a:pt x="1892" y="464"/>
                </a:lnTo>
                <a:lnTo>
                  <a:pt x="1904" y="462"/>
                </a:lnTo>
                <a:lnTo>
                  <a:pt x="1920" y="462"/>
                </a:lnTo>
                <a:lnTo>
                  <a:pt x="1934" y="464"/>
                </a:lnTo>
                <a:lnTo>
                  <a:pt x="1940" y="468"/>
                </a:lnTo>
                <a:lnTo>
                  <a:pt x="1946" y="472"/>
                </a:lnTo>
                <a:lnTo>
                  <a:pt x="1952" y="478"/>
                </a:lnTo>
                <a:lnTo>
                  <a:pt x="1956" y="484"/>
                </a:lnTo>
                <a:lnTo>
                  <a:pt x="1956" y="484"/>
                </a:lnTo>
                <a:lnTo>
                  <a:pt x="1960" y="492"/>
                </a:lnTo>
                <a:lnTo>
                  <a:pt x="1962" y="500"/>
                </a:lnTo>
                <a:lnTo>
                  <a:pt x="1964" y="516"/>
                </a:lnTo>
                <a:lnTo>
                  <a:pt x="1960" y="534"/>
                </a:lnTo>
                <a:lnTo>
                  <a:pt x="1954" y="552"/>
                </a:lnTo>
                <a:lnTo>
                  <a:pt x="1942" y="570"/>
                </a:lnTo>
                <a:lnTo>
                  <a:pt x="1928" y="584"/>
                </a:lnTo>
                <a:lnTo>
                  <a:pt x="1908" y="598"/>
                </a:lnTo>
                <a:lnTo>
                  <a:pt x="1886" y="608"/>
                </a:lnTo>
                <a:lnTo>
                  <a:pt x="1886" y="608"/>
                </a:lnTo>
                <a:lnTo>
                  <a:pt x="1864" y="614"/>
                </a:lnTo>
                <a:lnTo>
                  <a:pt x="1844" y="618"/>
                </a:lnTo>
                <a:lnTo>
                  <a:pt x="1828" y="618"/>
                </a:lnTo>
                <a:lnTo>
                  <a:pt x="1816" y="616"/>
                </a:lnTo>
                <a:lnTo>
                  <a:pt x="1806" y="614"/>
                </a:lnTo>
                <a:lnTo>
                  <a:pt x="1800" y="610"/>
                </a:lnTo>
                <a:lnTo>
                  <a:pt x="1794" y="608"/>
                </a:lnTo>
                <a:lnTo>
                  <a:pt x="1794" y="608"/>
                </a:lnTo>
                <a:lnTo>
                  <a:pt x="1796" y="634"/>
                </a:lnTo>
                <a:lnTo>
                  <a:pt x="1796" y="664"/>
                </a:lnTo>
                <a:lnTo>
                  <a:pt x="1792" y="700"/>
                </a:lnTo>
                <a:lnTo>
                  <a:pt x="1788" y="720"/>
                </a:lnTo>
                <a:lnTo>
                  <a:pt x="1784" y="742"/>
                </a:lnTo>
                <a:lnTo>
                  <a:pt x="1778" y="762"/>
                </a:lnTo>
                <a:lnTo>
                  <a:pt x="1770" y="784"/>
                </a:lnTo>
                <a:lnTo>
                  <a:pt x="1760" y="806"/>
                </a:lnTo>
                <a:lnTo>
                  <a:pt x="1748" y="826"/>
                </a:lnTo>
                <a:lnTo>
                  <a:pt x="1734" y="846"/>
                </a:lnTo>
                <a:lnTo>
                  <a:pt x="1718" y="866"/>
                </a:lnTo>
                <a:lnTo>
                  <a:pt x="1718" y="866"/>
                </a:lnTo>
                <a:lnTo>
                  <a:pt x="1700" y="882"/>
                </a:lnTo>
                <a:lnTo>
                  <a:pt x="1682" y="896"/>
                </a:lnTo>
                <a:lnTo>
                  <a:pt x="1664" y="906"/>
                </a:lnTo>
                <a:lnTo>
                  <a:pt x="1646" y="916"/>
                </a:lnTo>
                <a:lnTo>
                  <a:pt x="1630" y="922"/>
                </a:lnTo>
                <a:lnTo>
                  <a:pt x="1614" y="926"/>
                </a:lnTo>
                <a:lnTo>
                  <a:pt x="1598" y="928"/>
                </a:lnTo>
                <a:lnTo>
                  <a:pt x="1584" y="928"/>
                </a:lnTo>
                <a:lnTo>
                  <a:pt x="1558" y="928"/>
                </a:lnTo>
                <a:lnTo>
                  <a:pt x="1540" y="924"/>
                </a:lnTo>
                <a:lnTo>
                  <a:pt x="1522" y="918"/>
                </a:lnTo>
                <a:lnTo>
                  <a:pt x="1522" y="918"/>
                </a:lnTo>
                <a:lnTo>
                  <a:pt x="1544" y="916"/>
                </a:lnTo>
                <a:lnTo>
                  <a:pt x="1566" y="914"/>
                </a:lnTo>
                <a:lnTo>
                  <a:pt x="1594" y="906"/>
                </a:lnTo>
                <a:lnTo>
                  <a:pt x="1608" y="902"/>
                </a:lnTo>
                <a:lnTo>
                  <a:pt x="1622" y="896"/>
                </a:lnTo>
                <a:lnTo>
                  <a:pt x="1638" y="888"/>
                </a:lnTo>
                <a:lnTo>
                  <a:pt x="1652" y="878"/>
                </a:lnTo>
                <a:lnTo>
                  <a:pt x="1664" y="868"/>
                </a:lnTo>
                <a:lnTo>
                  <a:pt x="1676" y="856"/>
                </a:lnTo>
                <a:lnTo>
                  <a:pt x="1686" y="840"/>
                </a:lnTo>
                <a:lnTo>
                  <a:pt x="1694" y="824"/>
                </a:lnTo>
                <a:lnTo>
                  <a:pt x="1694" y="824"/>
                </a:lnTo>
                <a:lnTo>
                  <a:pt x="1700" y="806"/>
                </a:lnTo>
                <a:lnTo>
                  <a:pt x="1706" y="788"/>
                </a:lnTo>
                <a:lnTo>
                  <a:pt x="1710" y="754"/>
                </a:lnTo>
                <a:lnTo>
                  <a:pt x="1712" y="722"/>
                </a:lnTo>
                <a:lnTo>
                  <a:pt x="1712" y="694"/>
                </a:lnTo>
                <a:lnTo>
                  <a:pt x="1708" y="670"/>
                </a:lnTo>
                <a:lnTo>
                  <a:pt x="1704" y="652"/>
                </a:lnTo>
                <a:lnTo>
                  <a:pt x="1700" y="636"/>
                </a:lnTo>
                <a:lnTo>
                  <a:pt x="1700" y="636"/>
                </a:lnTo>
                <a:lnTo>
                  <a:pt x="1690" y="646"/>
                </a:lnTo>
                <a:lnTo>
                  <a:pt x="1678" y="658"/>
                </a:lnTo>
                <a:lnTo>
                  <a:pt x="1664" y="670"/>
                </a:lnTo>
                <a:lnTo>
                  <a:pt x="1642" y="682"/>
                </a:lnTo>
                <a:lnTo>
                  <a:pt x="1620" y="692"/>
                </a:lnTo>
                <a:lnTo>
                  <a:pt x="1606" y="694"/>
                </a:lnTo>
                <a:lnTo>
                  <a:pt x="1592" y="696"/>
                </a:lnTo>
                <a:lnTo>
                  <a:pt x="1576" y="698"/>
                </a:lnTo>
                <a:lnTo>
                  <a:pt x="1560" y="696"/>
                </a:lnTo>
                <a:lnTo>
                  <a:pt x="1560" y="696"/>
                </a:lnTo>
                <a:lnTo>
                  <a:pt x="1546" y="692"/>
                </a:lnTo>
                <a:lnTo>
                  <a:pt x="1532" y="688"/>
                </a:lnTo>
                <a:lnTo>
                  <a:pt x="1524" y="684"/>
                </a:lnTo>
                <a:lnTo>
                  <a:pt x="1516" y="678"/>
                </a:lnTo>
                <a:lnTo>
                  <a:pt x="1510" y="670"/>
                </a:lnTo>
                <a:lnTo>
                  <a:pt x="1508" y="664"/>
                </a:lnTo>
                <a:lnTo>
                  <a:pt x="1506" y="656"/>
                </a:lnTo>
                <a:lnTo>
                  <a:pt x="1506" y="648"/>
                </a:lnTo>
                <a:lnTo>
                  <a:pt x="1506" y="634"/>
                </a:lnTo>
                <a:lnTo>
                  <a:pt x="1510" y="622"/>
                </a:lnTo>
                <a:lnTo>
                  <a:pt x="1516" y="610"/>
                </a:lnTo>
                <a:lnTo>
                  <a:pt x="1516" y="610"/>
                </a:lnTo>
                <a:lnTo>
                  <a:pt x="1516" y="618"/>
                </a:lnTo>
                <a:lnTo>
                  <a:pt x="1518" y="628"/>
                </a:lnTo>
                <a:lnTo>
                  <a:pt x="1520" y="640"/>
                </a:lnTo>
                <a:lnTo>
                  <a:pt x="1526" y="650"/>
                </a:lnTo>
                <a:lnTo>
                  <a:pt x="1536" y="660"/>
                </a:lnTo>
                <a:lnTo>
                  <a:pt x="1542" y="664"/>
                </a:lnTo>
                <a:lnTo>
                  <a:pt x="1548" y="668"/>
                </a:lnTo>
                <a:lnTo>
                  <a:pt x="1556" y="670"/>
                </a:lnTo>
                <a:lnTo>
                  <a:pt x="1566" y="672"/>
                </a:lnTo>
                <a:lnTo>
                  <a:pt x="1566" y="672"/>
                </a:lnTo>
                <a:lnTo>
                  <a:pt x="1576" y="672"/>
                </a:lnTo>
                <a:lnTo>
                  <a:pt x="1586" y="670"/>
                </a:lnTo>
                <a:lnTo>
                  <a:pt x="1596" y="668"/>
                </a:lnTo>
                <a:lnTo>
                  <a:pt x="1604" y="664"/>
                </a:lnTo>
                <a:lnTo>
                  <a:pt x="1612" y="658"/>
                </a:lnTo>
                <a:lnTo>
                  <a:pt x="1620" y="652"/>
                </a:lnTo>
                <a:lnTo>
                  <a:pt x="1626" y="646"/>
                </a:lnTo>
                <a:lnTo>
                  <a:pt x="1632" y="638"/>
                </a:lnTo>
                <a:lnTo>
                  <a:pt x="1638" y="628"/>
                </a:lnTo>
                <a:lnTo>
                  <a:pt x="1642" y="618"/>
                </a:lnTo>
                <a:lnTo>
                  <a:pt x="1644" y="608"/>
                </a:lnTo>
                <a:lnTo>
                  <a:pt x="1646" y="596"/>
                </a:lnTo>
                <a:lnTo>
                  <a:pt x="1646" y="584"/>
                </a:lnTo>
                <a:lnTo>
                  <a:pt x="1646" y="572"/>
                </a:lnTo>
                <a:lnTo>
                  <a:pt x="1642" y="560"/>
                </a:lnTo>
                <a:lnTo>
                  <a:pt x="1638" y="546"/>
                </a:lnTo>
                <a:lnTo>
                  <a:pt x="1638" y="546"/>
                </a:lnTo>
                <a:lnTo>
                  <a:pt x="1632" y="534"/>
                </a:lnTo>
                <a:lnTo>
                  <a:pt x="1624" y="524"/>
                </a:lnTo>
                <a:lnTo>
                  <a:pt x="1616" y="516"/>
                </a:lnTo>
                <a:lnTo>
                  <a:pt x="1606" y="510"/>
                </a:lnTo>
                <a:lnTo>
                  <a:pt x="1596" y="506"/>
                </a:lnTo>
                <a:lnTo>
                  <a:pt x="1586" y="502"/>
                </a:lnTo>
                <a:lnTo>
                  <a:pt x="1564" y="500"/>
                </a:lnTo>
                <a:lnTo>
                  <a:pt x="1544" y="502"/>
                </a:lnTo>
                <a:lnTo>
                  <a:pt x="1526" y="506"/>
                </a:lnTo>
                <a:lnTo>
                  <a:pt x="1510" y="510"/>
                </a:lnTo>
                <a:lnTo>
                  <a:pt x="1510" y="510"/>
                </a:lnTo>
                <a:lnTo>
                  <a:pt x="1468" y="536"/>
                </a:lnTo>
                <a:lnTo>
                  <a:pt x="1418" y="568"/>
                </a:lnTo>
                <a:lnTo>
                  <a:pt x="1352" y="606"/>
                </a:lnTo>
                <a:lnTo>
                  <a:pt x="1270" y="652"/>
                </a:lnTo>
                <a:lnTo>
                  <a:pt x="1174" y="702"/>
                </a:lnTo>
                <a:lnTo>
                  <a:pt x="1066" y="754"/>
                </a:lnTo>
                <a:lnTo>
                  <a:pt x="1008" y="780"/>
                </a:lnTo>
                <a:lnTo>
                  <a:pt x="948" y="806"/>
                </a:lnTo>
                <a:lnTo>
                  <a:pt x="948" y="806"/>
                </a:lnTo>
                <a:lnTo>
                  <a:pt x="888" y="830"/>
                </a:lnTo>
                <a:lnTo>
                  <a:pt x="832" y="850"/>
                </a:lnTo>
                <a:lnTo>
                  <a:pt x="778" y="868"/>
                </a:lnTo>
                <a:lnTo>
                  <a:pt x="728" y="884"/>
                </a:lnTo>
                <a:lnTo>
                  <a:pt x="680" y="896"/>
                </a:lnTo>
                <a:lnTo>
                  <a:pt x="634" y="906"/>
                </a:lnTo>
                <a:lnTo>
                  <a:pt x="590" y="914"/>
                </a:lnTo>
                <a:lnTo>
                  <a:pt x="550" y="920"/>
                </a:lnTo>
                <a:lnTo>
                  <a:pt x="508" y="922"/>
                </a:lnTo>
                <a:lnTo>
                  <a:pt x="470" y="926"/>
                </a:lnTo>
                <a:lnTo>
                  <a:pt x="396" y="926"/>
                </a:lnTo>
                <a:lnTo>
                  <a:pt x="324" y="924"/>
                </a:lnTo>
                <a:lnTo>
                  <a:pt x="252" y="920"/>
                </a:lnTo>
                <a:lnTo>
                  <a:pt x="252" y="920"/>
                </a:lnTo>
                <a:lnTo>
                  <a:pt x="218" y="916"/>
                </a:lnTo>
                <a:lnTo>
                  <a:pt x="186" y="912"/>
                </a:lnTo>
                <a:lnTo>
                  <a:pt x="158" y="908"/>
                </a:lnTo>
                <a:lnTo>
                  <a:pt x="132" y="902"/>
                </a:lnTo>
                <a:lnTo>
                  <a:pt x="88" y="890"/>
                </a:lnTo>
                <a:lnTo>
                  <a:pt x="54" y="876"/>
                </a:lnTo>
                <a:lnTo>
                  <a:pt x="30" y="864"/>
                </a:lnTo>
                <a:lnTo>
                  <a:pt x="12" y="852"/>
                </a:lnTo>
                <a:lnTo>
                  <a:pt x="0" y="842"/>
                </a:lnTo>
                <a:lnTo>
                  <a:pt x="0" y="842"/>
                </a:lnTo>
                <a:close/>
              </a:path>
            </a:pathLst>
          </a:custGeom>
          <a:solidFill>
            <a:srgbClr val="c1a781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未知"/>
          <p:cNvSpPr/>
          <p:nvPr/>
        </p:nvSpPr>
        <p:spPr>
          <a:xfrm>
            <a:off x="7416720" y="115920"/>
            <a:ext cx="863640" cy="287280"/>
          </a:xfrm>
          <a:custGeom>
            <a:avLst/>
            <a:gdLst/>
            <a:ahLst/>
            <a:rect l="l" t="t" r="r" b="b"/>
            <a:pathLst>
              <a:path w="2754" h="964">
                <a:moveTo>
                  <a:pt x="0" y="842"/>
                </a:moveTo>
                <a:lnTo>
                  <a:pt x="0" y="842"/>
                </a:lnTo>
                <a:lnTo>
                  <a:pt x="36" y="854"/>
                </a:lnTo>
                <a:lnTo>
                  <a:pt x="76" y="866"/>
                </a:lnTo>
                <a:lnTo>
                  <a:pt x="132" y="880"/>
                </a:lnTo>
                <a:lnTo>
                  <a:pt x="198" y="890"/>
                </a:lnTo>
                <a:lnTo>
                  <a:pt x="234" y="896"/>
                </a:lnTo>
                <a:lnTo>
                  <a:pt x="274" y="898"/>
                </a:lnTo>
                <a:lnTo>
                  <a:pt x="314" y="900"/>
                </a:lnTo>
                <a:lnTo>
                  <a:pt x="356" y="900"/>
                </a:lnTo>
                <a:lnTo>
                  <a:pt x="400" y="898"/>
                </a:lnTo>
                <a:lnTo>
                  <a:pt x="446" y="894"/>
                </a:lnTo>
                <a:lnTo>
                  <a:pt x="446" y="894"/>
                </a:lnTo>
                <a:lnTo>
                  <a:pt x="490" y="888"/>
                </a:lnTo>
                <a:lnTo>
                  <a:pt x="534" y="880"/>
                </a:lnTo>
                <a:lnTo>
                  <a:pt x="574" y="870"/>
                </a:lnTo>
                <a:lnTo>
                  <a:pt x="612" y="860"/>
                </a:lnTo>
                <a:lnTo>
                  <a:pt x="646" y="848"/>
                </a:lnTo>
                <a:lnTo>
                  <a:pt x="680" y="834"/>
                </a:lnTo>
                <a:lnTo>
                  <a:pt x="710" y="820"/>
                </a:lnTo>
                <a:lnTo>
                  <a:pt x="738" y="806"/>
                </a:lnTo>
                <a:lnTo>
                  <a:pt x="764" y="790"/>
                </a:lnTo>
                <a:lnTo>
                  <a:pt x="788" y="774"/>
                </a:lnTo>
                <a:lnTo>
                  <a:pt x="808" y="756"/>
                </a:lnTo>
                <a:lnTo>
                  <a:pt x="826" y="738"/>
                </a:lnTo>
                <a:lnTo>
                  <a:pt x="840" y="720"/>
                </a:lnTo>
                <a:lnTo>
                  <a:pt x="852" y="702"/>
                </a:lnTo>
                <a:lnTo>
                  <a:pt x="862" y="682"/>
                </a:lnTo>
                <a:lnTo>
                  <a:pt x="868" y="664"/>
                </a:lnTo>
                <a:lnTo>
                  <a:pt x="868" y="664"/>
                </a:lnTo>
                <a:lnTo>
                  <a:pt x="874" y="636"/>
                </a:lnTo>
                <a:lnTo>
                  <a:pt x="874" y="610"/>
                </a:lnTo>
                <a:lnTo>
                  <a:pt x="870" y="590"/>
                </a:lnTo>
                <a:lnTo>
                  <a:pt x="862" y="572"/>
                </a:lnTo>
                <a:lnTo>
                  <a:pt x="852" y="558"/>
                </a:lnTo>
                <a:lnTo>
                  <a:pt x="840" y="546"/>
                </a:lnTo>
                <a:lnTo>
                  <a:pt x="826" y="538"/>
                </a:lnTo>
                <a:lnTo>
                  <a:pt x="812" y="534"/>
                </a:lnTo>
                <a:lnTo>
                  <a:pt x="812" y="534"/>
                </a:lnTo>
                <a:lnTo>
                  <a:pt x="796" y="532"/>
                </a:lnTo>
                <a:lnTo>
                  <a:pt x="778" y="534"/>
                </a:lnTo>
                <a:lnTo>
                  <a:pt x="762" y="538"/>
                </a:lnTo>
                <a:lnTo>
                  <a:pt x="748" y="542"/>
                </a:lnTo>
                <a:lnTo>
                  <a:pt x="726" y="552"/>
                </a:lnTo>
                <a:lnTo>
                  <a:pt x="718" y="558"/>
                </a:lnTo>
                <a:lnTo>
                  <a:pt x="718" y="558"/>
                </a:lnTo>
                <a:lnTo>
                  <a:pt x="722" y="546"/>
                </a:lnTo>
                <a:lnTo>
                  <a:pt x="728" y="532"/>
                </a:lnTo>
                <a:lnTo>
                  <a:pt x="736" y="518"/>
                </a:lnTo>
                <a:lnTo>
                  <a:pt x="748" y="502"/>
                </a:lnTo>
                <a:lnTo>
                  <a:pt x="764" y="488"/>
                </a:lnTo>
                <a:lnTo>
                  <a:pt x="774" y="484"/>
                </a:lnTo>
                <a:lnTo>
                  <a:pt x="784" y="478"/>
                </a:lnTo>
                <a:lnTo>
                  <a:pt x="796" y="476"/>
                </a:lnTo>
                <a:lnTo>
                  <a:pt x="808" y="474"/>
                </a:lnTo>
                <a:lnTo>
                  <a:pt x="808" y="474"/>
                </a:lnTo>
                <a:lnTo>
                  <a:pt x="824" y="474"/>
                </a:lnTo>
                <a:lnTo>
                  <a:pt x="838" y="476"/>
                </a:lnTo>
                <a:lnTo>
                  <a:pt x="848" y="480"/>
                </a:lnTo>
                <a:lnTo>
                  <a:pt x="858" y="482"/>
                </a:lnTo>
                <a:lnTo>
                  <a:pt x="870" y="490"/>
                </a:lnTo>
                <a:lnTo>
                  <a:pt x="874" y="494"/>
                </a:lnTo>
                <a:lnTo>
                  <a:pt x="874" y="494"/>
                </a:lnTo>
                <a:lnTo>
                  <a:pt x="872" y="484"/>
                </a:lnTo>
                <a:lnTo>
                  <a:pt x="870" y="474"/>
                </a:lnTo>
                <a:lnTo>
                  <a:pt x="866" y="462"/>
                </a:lnTo>
                <a:lnTo>
                  <a:pt x="858" y="450"/>
                </a:lnTo>
                <a:lnTo>
                  <a:pt x="848" y="438"/>
                </a:lnTo>
                <a:lnTo>
                  <a:pt x="834" y="426"/>
                </a:lnTo>
                <a:lnTo>
                  <a:pt x="826" y="422"/>
                </a:lnTo>
                <a:lnTo>
                  <a:pt x="816" y="420"/>
                </a:lnTo>
                <a:lnTo>
                  <a:pt x="816" y="420"/>
                </a:lnTo>
                <a:lnTo>
                  <a:pt x="796" y="416"/>
                </a:lnTo>
                <a:lnTo>
                  <a:pt x="774" y="416"/>
                </a:lnTo>
                <a:lnTo>
                  <a:pt x="756" y="418"/>
                </a:lnTo>
                <a:lnTo>
                  <a:pt x="738" y="420"/>
                </a:lnTo>
                <a:lnTo>
                  <a:pt x="712" y="428"/>
                </a:lnTo>
                <a:lnTo>
                  <a:pt x="702" y="432"/>
                </a:lnTo>
                <a:lnTo>
                  <a:pt x="702" y="432"/>
                </a:lnTo>
                <a:lnTo>
                  <a:pt x="710" y="420"/>
                </a:lnTo>
                <a:lnTo>
                  <a:pt x="720" y="408"/>
                </a:lnTo>
                <a:lnTo>
                  <a:pt x="734" y="394"/>
                </a:lnTo>
                <a:lnTo>
                  <a:pt x="752" y="380"/>
                </a:lnTo>
                <a:lnTo>
                  <a:pt x="764" y="374"/>
                </a:lnTo>
                <a:lnTo>
                  <a:pt x="776" y="368"/>
                </a:lnTo>
                <a:lnTo>
                  <a:pt x="788" y="364"/>
                </a:lnTo>
                <a:lnTo>
                  <a:pt x="804" y="362"/>
                </a:lnTo>
                <a:lnTo>
                  <a:pt x="820" y="360"/>
                </a:lnTo>
                <a:lnTo>
                  <a:pt x="836" y="362"/>
                </a:lnTo>
                <a:lnTo>
                  <a:pt x="836" y="362"/>
                </a:lnTo>
                <a:lnTo>
                  <a:pt x="852" y="364"/>
                </a:lnTo>
                <a:lnTo>
                  <a:pt x="868" y="368"/>
                </a:lnTo>
                <a:lnTo>
                  <a:pt x="882" y="374"/>
                </a:lnTo>
                <a:lnTo>
                  <a:pt x="894" y="378"/>
                </a:lnTo>
                <a:lnTo>
                  <a:pt x="916" y="392"/>
                </a:lnTo>
                <a:lnTo>
                  <a:pt x="932" y="406"/>
                </a:lnTo>
                <a:lnTo>
                  <a:pt x="944" y="420"/>
                </a:lnTo>
                <a:lnTo>
                  <a:pt x="952" y="432"/>
                </a:lnTo>
                <a:lnTo>
                  <a:pt x="958" y="444"/>
                </a:lnTo>
                <a:lnTo>
                  <a:pt x="958" y="444"/>
                </a:lnTo>
                <a:lnTo>
                  <a:pt x="962" y="434"/>
                </a:lnTo>
                <a:lnTo>
                  <a:pt x="964" y="422"/>
                </a:lnTo>
                <a:lnTo>
                  <a:pt x="966" y="406"/>
                </a:lnTo>
                <a:lnTo>
                  <a:pt x="966" y="406"/>
                </a:lnTo>
                <a:lnTo>
                  <a:pt x="964" y="388"/>
                </a:lnTo>
                <a:lnTo>
                  <a:pt x="960" y="374"/>
                </a:lnTo>
                <a:lnTo>
                  <a:pt x="954" y="360"/>
                </a:lnTo>
                <a:lnTo>
                  <a:pt x="954" y="360"/>
                </a:lnTo>
                <a:lnTo>
                  <a:pt x="964" y="372"/>
                </a:lnTo>
                <a:lnTo>
                  <a:pt x="974" y="388"/>
                </a:lnTo>
                <a:lnTo>
                  <a:pt x="984" y="410"/>
                </a:lnTo>
                <a:lnTo>
                  <a:pt x="988" y="422"/>
                </a:lnTo>
                <a:lnTo>
                  <a:pt x="990" y="438"/>
                </a:lnTo>
                <a:lnTo>
                  <a:pt x="994" y="454"/>
                </a:lnTo>
                <a:lnTo>
                  <a:pt x="994" y="472"/>
                </a:lnTo>
                <a:lnTo>
                  <a:pt x="994" y="490"/>
                </a:lnTo>
                <a:lnTo>
                  <a:pt x="992" y="512"/>
                </a:lnTo>
                <a:lnTo>
                  <a:pt x="988" y="534"/>
                </a:lnTo>
                <a:lnTo>
                  <a:pt x="982" y="558"/>
                </a:lnTo>
                <a:lnTo>
                  <a:pt x="982" y="558"/>
                </a:lnTo>
                <a:lnTo>
                  <a:pt x="968" y="596"/>
                </a:lnTo>
                <a:lnTo>
                  <a:pt x="954" y="632"/>
                </a:lnTo>
                <a:lnTo>
                  <a:pt x="938" y="662"/>
                </a:lnTo>
                <a:lnTo>
                  <a:pt x="924" y="690"/>
                </a:lnTo>
                <a:lnTo>
                  <a:pt x="898" y="732"/>
                </a:lnTo>
                <a:lnTo>
                  <a:pt x="888" y="746"/>
                </a:lnTo>
                <a:lnTo>
                  <a:pt x="888" y="746"/>
                </a:lnTo>
                <a:lnTo>
                  <a:pt x="906" y="740"/>
                </a:lnTo>
                <a:lnTo>
                  <a:pt x="924" y="730"/>
                </a:lnTo>
                <a:lnTo>
                  <a:pt x="948" y="718"/>
                </a:lnTo>
                <a:lnTo>
                  <a:pt x="960" y="708"/>
                </a:lnTo>
                <a:lnTo>
                  <a:pt x="972" y="698"/>
                </a:lnTo>
                <a:lnTo>
                  <a:pt x="984" y="684"/>
                </a:lnTo>
                <a:lnTo>
                  <a:pt x="996" y="670"/>
                </a:lnTo>
                <a:lnTo>
                  <a:pt x="1006" y="654"/>
                </a:lnTo>
                <a:lnTo>
                  <a:pt x="1018" y="636"/>
                </a:lnTo>
                <a:lnTo>
                  <a:pt x="1026" y="614"/>
                </a:lnTo>
                <a:lnTo>
                  <a:pt x="1034" y="592"/>
                </a:lnTo>
                <a:lnTo>
                  <a:pt x="1034" y="592"/>
                </a:lnTo>
                <a:lnTo>
                  <a:pt x="1042" y="564"/>
                </a:lnTo>
                <a:lnTo>
                  <a:pt x="1046" y="538"/>
                </a:lnTo>
                <a:lnTo>
                  <a:pt x="1048" y="514"/>
                </a:lnTo>
                <a:lnTo>
                  <a:pt x="1050" y="492"/>
                </a:lnTo>
                <a:lnTo>
                  <a:pt x="1050" y="470"/>
                </a:lnTo>
                <a:lnTo>
                  <a:pt x="1048" y="452"/>
                </a:lnTo>
                <a:lnTo>
                  <a:pt x="1042" y="418"/>
                </a:lnTo>
                <a:lnTo>
                  <a:pt x="1034" y="394"/>
                </a:lnTo>
                <a:lnTo>
                  <a:pt x="1026" y="374"/>
                </a:lnTo>
                <a:lnTo>
                  <a:pt x="1016" y="360"/>
                </a:lnTo>
                <a:lnTo>
                  <a:pt x="1016" y="360"/>
                </a:lnTo>
                <a:lnTo>
                  <a:pt x="1028" y="368"/>
                </a:lnTo>
                <a:lnTo>
                  <a:pt x="1040" y="378"/>
                </a:lnTo>
                <a:lnTo>
                  <a:pt x="1052" y="392"/>
                </a:lnTo>
                <a:lnTo>
                  <a:pt x="1066" y="410"/>
                </a:lnTo>
                <a:lnTo>
                  <a:pt x="1080" y="432"/>
                </a:lnTo>
                <a:lnTo>
                  <a:pt x="1084" y="444"/>
                </a:lnTo>
                <a:lnTo>
                  <a:pt x="1088" y="458"/>
                </a:lnTo>
                <a:lnTo>
                  <a:pt x="1092" y="472"/>
                </a:lnTo>
                <a:lnTo>
                  <a:pt x="1094" y="488"/>
                </a:lnTo>
                <a:lnTo>
                  <a:pt x="1094" y="488"/>
                </a:lnTo>
                <a:lnTo>
                  <a:pt x="1096" y="518"/>
                </a:lnTo>
                <a:lnTo>
                  <a:pt x="1094" y="546"/>
                </a:lnTo>
                <a:lnTo>
                  <a:pt x="1092" y="570"/>
                </a:lnTo>
                <a:lnTo>
                  <a:pt x="1090" y="590"/>
                </a:lnTo>
                <a:lnTo>
                  <a:pt x="1084" y="618"/>
                </a:lnTo>
                <a:lnTo>
                  <a:pt x="1080" y="628"/>
                </a:lnTo>
                <a:lnTo>
                  <a:pt x="1080" y="628"/>
                </a:lnTo>
                <a:lnTo>
                  <a:pt x="1090" y="618"/>
                </a:lnTo>
                <a:lnTo>
                  <a:pt x="1100" y="602"/>
                </a:lnTo>
                <a:lnTo>
                  <a:pt x="1112" y="582"/>
                </a:lnTo>
                <a:lnTo>
                  <a:pt x="1126" y="552"/>
                </a:lnTo>
                <a:lnTo>
                  <a:pt x="1138" y="514"/>
                </a:lnTo>
                <a:lnTo>
                  <a:pt x="1150" y="468"/>
                </a:lnTo>
                <a:lnTo>
                  <a:pt x="1154" y="442"/>
                </a:lnTo>
                <a:lnTo>
                  <a:pt x="1158" y="412"/>
                </a:lnTo>
                <a:lnTo>
                  <a:pt x="1158" y="412"/>
                </a:lnTo>
                <a:lnTo>
                  <a:pt x="1160" y="382"/>
                </a:lnTo>
                <a:lnTo>
                  <a:pt x="1158" y="352"/>
                </a:lnTo>
                <a:lnTo>
                  <a:pt x="1154" y="324"/>
                </a:lnTo>
                <a:lnTo>
                  <a:pt x="1146" y="298"/>
                </a:lnTo>
                <a:lnTo>
                  <a:pt x="1136" y="272"/>
                </a:lnTo>
                <a:lnTo>
                  <a:pt x="1122" y="248"/>
                </a:lnTo>
                <a:lnTo>
                  <a:pt x="1108" y="226"/>
                </a:lnTo>
                <a:lnTo>
                  <a:pt x="1092" y="204"/>
                </a:lnTo>
                <a:lnTo>
                  <a:pt x="1072" y="186"/>
                </a:lnTo>
                <a:lnTo>
                  <a:pt x="1052" y="168"/>
                </a:lnTo>
                <a:lnTo>
                  <a:pt x="1032" y="152"/>
                </a:lnTo>
                <a:lnTo>
                  <a:pt x="1010" y="138"/>
                </a:lnTo>
                <a:lnTo>
                  <a:pt x="986" y="124"/>
                </a:lnTo>
                <a:lnTo>
                  <a:pt x="964" y="114"/>
                </a:lnTo>
                <a:lnTo>
                  <a:pt x="940" y="106"/>
                </a:lnTo>
                <a:lnTo>
                  <a:pt x="916" y="100"/>
                </a:lnTo>
                <a:lnTo>
                  <a:pt x="916" y="100"/>
                </a:lnTo>
                <a:lnTo>
                  <a:pt x="892" y="96"/>
                </a:lnTo>
                <a:lnTo>
                  <a:pt x="868" y="94"/>
                </a:lnTo>
                <a:lnTo>
                  <a:pt x="844" y="92"/>
                </a:lnTo>
                <a:lnTo>
                  <a:pt x="820" y="94"/>
                </a:lnTo>
                <a:lnTo>
                  <a:pt x="798" y="98"/>
                </a:lnTo>
                <a:lnTo>
                  <a:pt x="774" y="102"/>
                </a:lnTo>
                <a:lnTo>
                  <a:pt x="754" y="108"/>
                </a:lnTo>
                <a:lnTo>
                  <a:pt x="734" y="116"/>
                </a:lnTo>
                <a:lnTo>
                  <a:pt x="716" y="126"/>
                </a:lnTo>
                <a:lnTo>
                  <a:pt x="698" y="136"/>
                </a:lnTo>
                <a:lnTo>
                  <a:pt x="684" y="148"/>
                </a:lnTo>
                <a:lnTo>
                  <a:pt x="674" y="160"/>
                </a:lnTo>
                <a:lnTo>
                  <a:pt x="664" y="176"/>
                </a:lnTo>
                <a:lnTo>
                  <a:pt x="658" y="190"/>
                </a:lnTo>
                <a:lnTo>
                  <a:pt x="656" y="206"/>
                </a:lnTo>
                <a:lnTo>
                  <a:pt x="656" y="224"/>
                </a:lnTo>
                <a:lnTo>
                  <a:pt x="656" y="224"/>
                </a:lnTo>
                <a:lnTo>
                  <a:pt x="662" y="254"/>
                </a:lnTo>
                <a:lnTo>
                  <a:pt x="668" y="278"/>
                </a:lnTo>
                <a:lnTo>
                  <a:pt x="674" y="294"/>
                </a:lnTo>
                <a:lnTo>
                  <a:pt x="680" y="306"/>
                </a:lnTo>
                <a:lnTo>
                  <a:pt x="686" y="312"/>
                </a:lnTo>
                <a:lnTo>
                  <a:pt x="690" y="316"/>
                </a:lnTo>
                <a:lnTo>
                  <a:pt x="694" y="318"/>
                </a:lnTo>
                <a:lnTo>
                  <a:pt x="694" y="318"/>
                </a:lnTo>
                <a:lnTo>
                  <a:pt x="686" y="318"/>
                </a:lnTo>
                <a:lnTo>
                  <a:pt x="666" y="314"/>
                </a:lnTo>
                <a:lnTo>
                  <a:pt x="652" y="310"/>
                </a:lnTo>
                <a:lnTo>
                  <a:pt x="638" y="304"/>
                </a:lnTo>
                <a:lnTo>
                  <a:pt x="622" y="296"/>
                </a:lnTo>
                <a:lnTo>
                  <a:pt x="608" y="286"/>
                </a:lnTo>
                <a:lnTo>
                  <a:pt x="608" y="286"/>
                </a:lnTo>
                <a:lnTo>
                  <a:pt x="596" y="274"/>
                </a:lnTo>
                <a:lnTo>
                  <a:pt x="586" y="262"/>
                </a:lnTo>
                <a:lnTo>
                  <a:pt x="580" y="252"/>
                </a:lnTo>
                <a:lnTo>
                  <a:pt x="574" y="244"/>
                </a:lnTo>
                <a:lnTo>
                  <a:pt x="570" y="230"/>
                </a:lnTo>
                <a:lnTo>
                  <a:pt x="570" y="226"/>
                </a:lnTo>
                <a:lnTo>
                  <a:pt x="570" y="226"/>
                </a:lnTo>
                <a:lnTo>
                  <a:pt x="562" y="242"/>
                </a:lnTo>
                <a:lnTo>
                  <a:pt x="554" y="258"/>
                </a:lnTo>
                <a:lnTo>
                  <a:pt x="546" y="282"/>
                </a:lnTo>
                <a:lnTo>
                  <a:pt x="540" y="308"/>
                </a:lnTo>
                <a:lnTo>
                  <a:pt x="538" y="338"/>
                </a:lnTo>
                <a:lnTo>
                  <a:pt x="538" y="352"/>
                </a:lnTo>
                <a:lnTo>
                  <a:pt x="538" y="368"/>
                </a:lnTo>
                <a:lnTo>
                  <a:pt x="542" y="384"/>
                </a:lnTo>
                <a:lnTo>
                  <a:pt x="546" y="400"/>
                </a:lnTo>
                <a:lnTo>
                  <a:pt x="546" y="400"/>
                </a:lnTo>
                <a:lnTo>
                  <a:pt x="558" y="428"/>
                </a:lnTo>
                <a:lnTo>
                  <a:pt x="572" y="450"/>
                </a:lnTo>
                <a:lnTo>
                  <a:pt x="586" y="468"/>
                </a:lnTo>
                <a:lnTo>
                  <a:pt x="600" y="482"/>
                </a:lnTo>
                <a:lnTo>
                  <a:pt x="612" y="490"/>
                </a:lnTo>
                <a:lnTo>
                  <a:pt x="622" y="496"/>
                </a:lnTo>
                <a:lnTo>
                  <a:pt x="630" y="500"/>
                </a:lnTo>
                <a:lnTo>
                  <a:pt x="630" y="500"/>
                </a:lnTo>
                <a:lnTo>
                  <a:pt x="612" y="496"/>
                </a:lnTo>
                <a:lnTo>
                  <a:pt x="592" y="490"/>
                </a:lnTo>
                <a:lnTo>
                  <a:pt x="568" y="480"/>
                </a:lnTo>
                <a:lnTo>
                  <a:pt x="554" y="472"/>
                </a:lnTo>
                <a:lnTo>
                  <a:pt x="542" y="462"/>
                </a:lnTo>
                <a:lnTo>
                  <a:pt x="530" y="452"/>
                </a:lnTo>
                <a:lnTo>
                  <a:pt x="518" y="438"/>
                </a:lnTo>
                <a:lnTo>
                  <a:pt x="506" y="422"/>
                </a:lnTo>
                <a:lnTo>
                  <a:pt x="496" y="404"/>
                </a:lnTo>
                <a:lnTo>
                  <a:pt x="488" y="384"/>
                </a:lnTo>
                <a:lnTo>
                  <a:pt x="480" y="360"/>
                </a:lnTo>
                <a:lnTo>
                  <a:pt x="480" y="360"/>
                </a:lnTo>
                <a:lnTo>
                  <a:pt x="474" y="336"/>
                </a:lnTo>
                <a:lnTo>
                  <a:pt x="472" y="314"/>
                </a:lnTo>
                <a:lnTo>
                  <a:pt x="470" y="292"/>
                </a:lnTo>
                <a:lnTo>
                  <a:pt x="470" y="274"/>
                </a:lnTo>
                <a:lnTo>
                  <a:pt x="472" y="240"/>
                </a:lnTo>
                <a:lnTo>
                  <a:pt x="478" y="212"/>
                </a:lnTo>
                <a:lnTo>
                  <a:pt x="484" y="192"/>
                </a:lnTo>
                <a:lnTo>
                  <a:pt x="490" y="176"/>
                </a:lnTo>
                <a:lnTo>
                  <a:pt x="498" y="164"/>
                </a:lnTo>
                <a:lnTo>
                  <a:pt x="498" y="164"/>
                </a:lnTo>
                <a:lnTo>
                  <a:pt x="486" y="166"/>
                </a:lnTo>
                <a:lnTo>
                  <a:pt x="474" y="166"/>
                </a:lnTo>
                <a:lnTo>
                  <a:pt x="456" y="166"/>
                </a:lnTo>
                <a:lnTo>
                  <a:pt x="438" y="164"/>
                </a:lnTo>
                <a:lnTo>
                  <a:pt x="418" y="160"/>
                </a:lnTo>
                <a:lnTo>
                  <a:pt x="398" y="154"/>
                </a:lnTo>
                <a:lnTo>
                  <a:pt x="378" y="142"/>
                </a:lnTo>
                <a:lnTo>
                  <a:pt x="378" y="142"/>
                </a:lnTo>
                <a:lnTo>
                  <a:pt x="362" y="128"/>
                </a:lnTo>
                <a:lnTo>
                  <a:pt x="348" y="116"/>
                </a:lnTo>
                <a:lnTo>
                  <a:pt x="340" y="104"/>
                </a:lnTo>
                <a:lnTo>
                  <a:pt x="334" y="92"/>
                </a:lnTo>
                <a:lnTo>
                  <a:pt x="328" y="76"/>
                </a:lnTo>
                <a:lnTo>
                  <a:pt x="326" y="70"/>
                </a:lnTo>
                <a:lnTo>
                  <a:pt x="326" y="70"/>
                </a:lnTo>
                <a:lnTo>
                  <a:pt x="332" y="74"/>
                </a:lnTo>
                <a:lnTo>
                  <a:pt x="352" y="86"/>
                </a:lnTo>
                <a:lnTo>
                  <a:pt x="366" y="92"/>
                </a:lnTo>
                <a:lnTo>
                  <a:pt x="382" y="96"/>
                </a:lnTo>
                <a:lnTo>
                  <a:pt x="402" y="100"/>
                </a:lnTo>
                <a:lnTo>
                  <a:pt x="426" y="102"/>
                </a:lnTo>
                <a:lnTo>
                  <a:pt x="426" y="102"/>
                </a:lnTo>
                <a:lnTo>
                  <a:pt x="450" y="100"/>
                </a:lnTo>
                <a:lnTo>
                  <a:pt x="474" y="96"/>
                </a:lnTo>
                <a:lnTo>
                  <a:pt x="498" y="90"/>
                </a:lnTo>
                <a:lnTo>
                  <a:pt x="520" y="82"/>
                </a:lnTo>
                <a:lnTo>
                  <a:pt x="568" y="62"/>
                </a:lnTo>
                <a:lnTo>
                  <a:pt x="618" y="42"/>
                </a:lnTo>
                <a:lnTo>
                  <a:pt x="644" y="30"/>
                </a:lnTo>
                <a:lnTo>
                  <a:pt x="670" y="22"/>
                </a:lnTo>
                <a:lnTo>
                  <a:pt x="700" y="14"/>
                </a:lnTo>
                <a:lnTo>
                  <a:pt x="728" y="6"/>
                </a:lnTo>
                <a:lnTo>
                  <a:pt x="760" y="2"/>
                </a:lnTo>
                <a:lnTo>
                  <a:pt x="792" y="0"/>
                </a:lnTo>
                <a:lnTo>
                  <a:pt x="828" y="2"/>
                </a:lnTo>
                <a:lnTo>
                  <a:pt x="864" y="6"/>
                </a:lnTo>
                <a:lnTo>
                  <a:pt x="864" y="6"/>
                </a:lnTo>
                <a:lnTo>
                  <a:pt x="900" y="12"/>
                </a:lnTo>
                <a:lnTo>
                  <a:pt x="934" y="20"/>
                </a:lnTo>
                <a:lnTo>
                  <a:pt x="964" y="30"/>
                </a:lnTo>
                <a:lnTo>
                  <a:pt x="992" y="40"/>
                </a:lnTo>
                <a:lnTo>
                  <a:pt x="1018" y="52"/>
                </a:lnTo>
                <a:lnTo>
                  <a:pt x="1042" y="64"/>
                </a:lnTo>
                <a:lnTo>
                  <a:pt x="1064" y="76"/>
                </a:lnTo>
                <a:lnTo>
                  <a:pt x="1084" y="90"/>
                </a:lnTo>
                <a:lnTo>
                  <a:pt x="1102" y="106"/>
                </a:lnTo>
                <a:lnTo>
                  <a:pt x="1120" y="120"/>
                </a:lnTo>
                <a:lnTo>
                  <a:pt x="1134" y="138"/>
                </a:lnTo>
                <a:lnTo>
                  <a:pt x="1150" y="154"/>
                </a:lnTo>
                <a:lnTo>
                  <a:pt x="1176" y="190"/>
                </a:lnTo>
                <a:lnTo>
                  <a:pt x="1200" y="228"/>
                </a:lnTo>
                <a:lnTo>
                  <a:pt x="1200" y="228"/>
                </a:lnTo>
                <a:lnTo>
                  <a:pt x="1208" y="242"/>
                </a:lnTo>
                <a:lnTo>
                  <a:pt x="1216" y="258"/>
                </a:lnTo>
                <a:lnTo>
                  <a:pt x="1226" y="290"/>
                </a:lnTo>
                <a:lnTo>
                  <a:pt x="1232" y="322"/>
                </a:lnTo>
                <a:lnTo>
                  <a:pt x="1234" y="356"/>
                </a:lnTo>
                <a:lnTo>
                  <a:pt x="1234" y="390"/>
                </a:lnTo>
                <a:lnTo>
                  <a:pt x="1232" y="424"/>
                </a:lnTo>
                <a:lnTo>
                  <a:pt x="1226" y="456"/>
                </a:lnTo>
                <a:lnTo>
                  <a:pt x="1220" y="488"/>
                </a:lnTo>
                <a:lnTo>
                  <a:pt x="1212" y="518"/>
                </a:lnTo>
                <a:lnTo>
                  <a:pt x="1202" y="544"/>
                </a:lnTo>
                <a:lnTo>
                  <a:pt x="1186" y="590"/>
                </a:lnTo>
                <a:lnTo>
                  <a:pt x="1174" y="620"/>
                </a:lnTo>
                <a:lnTo>
                  <a:pt x="1168" y="632"/>
                </a:lnTo>
                <a:lnTo>
                  <a:pt x="1168" y="632"/>
                </a:lnTo>
                <a:lnTo>
                  <a:pt x="1242" y="584"/>
                </a:lnTo>
                <a:lnTo>
                  <a:pt x="1424" y="472"/>
                </a:lnTo>
                <a:lnTo>
                  <a:pt x="1536" y="404"/>
                </a:lnTo>
                <a:lnTo>
                  <a:pt x="1652" y="338"/>
                </a:lnTo>
                <a:lnTo>
                  <a:pt x="1762" y="276"/>
                </a:lnTo>
                <a:lnTo>
                  <a:pt x="1814" y="250"/>
                </a:lnTo>
                <a:lnTo>
                  <a:pt x="1862" y="226"/>
                </a:lnTo>
                <a:lnTo>
                  <a:pt x="1862" y="226"/>
                </a:lnTo>
                <a:lnTo>
                  <a:pt x="1910" y="206"/>
                </a:lnTo>
                <a:lnTo>
                  <a:pt x="1960" y="190"/>
                </a:lnTo>
                <a:lnTo>
                  <a:pt x="2012" y="176"/>
                </a:lnTo>
                <a:lnTo>
                  <a:pt x="2066" y="164"/>
                </a:lnTo>
                <a:lnTo>
                  <a:pt x="2120" y="156"/>
                </a:lnTo>
                <a:lnTo>
                  <a:pt x="2176" y="152"/>
                </a:lnTo>
                <a:lnTo>
                  <a:pt x="2232" y="152"/>
                </a:lnTo>
                <a:lnTo>
                  <a:pt x="2288" y="154"/>
                </a:lnTo>
                <a:lnTo>
                  <a:pt x="2342" y="158"/>
                </a:lnTo>
                <a:lnTo>
                  <a:pt x="2396" y="168"/>
                </a:lnTo>
                <a:lnTo>
                  <a:pt x="2446" y="180"/>
                </a:lnTo>
                <a:lnTo>
                  <a:pt x="2494" y="194"/>
                </a:lnTo>
                <a:lnTo>
                  <a:pt x="2538" y="214"/>
                </a:lnTo>
                <a:lnTo>
                  <a:pt x="2558" y="224"/>
                </a:lnTo>
                <a:lnTo>
                  <a:pt x="2578" y="236"/>
                </a:lnTo>
                <a:lnTo>
                  <a:pt x="2596" y="248"/>
                </a:lnTo>
                <a:lnTo>
                  <a:pt x="2614" y="262"/>
                </a:lnTo>
                <a:lnTo>
                  <a:pt x="2630" y="276"/>
                </a:lnTo>
                <a:lnTo>
                  <a:pt x="2644" y="292"/>
                </a:lnTo>
                <a:lnTo>
                  <a:pt x="2644" y="292"/>
                </a:lnTo>
                <a:lnTo>
                  <a:pt x="2664" y="316"/>
                </a:lnTo>
                <a:lnTo>
                  <a:pt x="2680" y="340"/>
                </a:lnTo>
                <a:lnTo>
                  <a:pt x="2696" y="364"/>
                </a:lnTo>
                <a:lnTo>
                  <a:pt x="2708" y="386"/>
                </a:lnTo>
                <a:lnTo>
                  <a:pt x="2718" y="410"/>
                </a:lnTo>
                <a:lnTo>
                  <a:pt x="2726" y="432"/>
                </a:lnTo>
                <a:lnTo>
                  <a:pt x="2730" y="454"/>
                </a:lnTo>
                <a:lnTo>
                  <a:pt x="2734" y="476"/>
                </a:lnTo>
                <a:lnTo>
                  <a:pt x="2736" y="498"/>
                </a:lnTo>
                <a:lnTo>
                  <a:pt x="2738" y="518"/>
                </a:lnTo>
                <a:lnTo>
                  <a:pt x="2736" y="540"/>
                </a:lnTo>
                <a:lnTo>
                  <a:pt x="2734" y="560"/>
                </a:lnTo>
                <a:lnTo>
                  <a:pt x="2730" y="578"/>
                </a:lnTo>
                <a:lnTo>
                  <a:pt x="2726" y="598"/>
                </a:lnTo>
                <a:lnTo>
                  <a:pt x="2714" y="632"/>
                </a:lnTo>
                <a:lnTo>
                  <a:pt x="2700" y="666"/>
                </a:lnTo>
                <a:lnTo>
                  <a:pt x="2684" y="694"/>
                </a:lnTo>
                <a:lnTo>
                  <a:pt x="2666" y="720"/>
                </a:lnTo>
                <a:lnTo>
                  <a:pt x="2650" y="742"/>
                </a:lnTo>
                <a:lnTo>
                  <a:pt x="2624" y="772"/>
                </a:lnTo>
                <a:lnTo>
                  <a:pt x="2614" y="782"/>
                </a:lnTo>
                <a:lnTo>
                  <a:pt x="2614" y="782"/>
                </a:lnTo>
                <a:lnTo>
                  <a:pt x="2612" y="800"/>
                </a:lnTo>
                <a:lnTo>
                  <a:pt x="2610" y="818"/>
                </a:lnTo>
                <a:lnTo>
                  <a:pt x="2610" y="840"/>
                </a:lnTo>
                <a:lnTo>
                  <a:pt x="2614" y="862"/>
                </a:lnTo>
                <a:lnTo>
                  <a:pt x="2618" y="872"/>
                </a:lnTo>
                <a:lnTo>
                  <a:pt x="2622" y="882"/>
                </a:lnTo>
                <a:lnTo>
                  <a:pt x="2628" y="890"/>
                </a:lnTo>
                <a:lnTo>
                  <a:pt x="2636" y="896"/>
                </a:lnTo>
                <a:lnTo>
                  <a:pt x="2646" y="900"/>
                </a:lnTo>
                <a:lnTo>
                  <a:pt x="2658" y="902"/>
                </a:lnTo>
                <a:lnTo>
                  <a:pt x="2658" y="902"/>
                </a:lnTo>
                <a:lnTo>
                  <a:pt x="2670" y="902"/>
                </a:lnTo>
                <a:lnTo>
                  <a:pt x="2678" y="900"/>
                </a:lnTo>
                <a:lnTo>
                  <a:pt x="2686" y="898"/>
                </a:lnTo>
                <a:lnTo>
                  <a:pt x="2692" y="894"/>
                </a:lnTo>
                <a:lnTo>
                  <a:pt x="2696" y="890"/>
                </a:lnTo>
                <a:lnTo>
                  <a:pt x="2698" y="886"/>
                </a:lnTo>
                <a:lnTo>
                  <a:pt x="2700" y="874"/>
                </a:lnTo>
                <a:lnTo>
                  <a:pt x="2700" y="864"/>
                </a:lnTo>
                <a:lnTo>
                  <a:pt x="2696" y="854"/>
                </a:lnTo>
                <a:lnTo>
                  <a:pt x="2692" y="844"/>
                </a:lnTo>
                <a:lnTo>
                  <a:pt x="2692" y="844"/>
                </a:lnTo>
                <a:lnTo>
                  <a:pt x="2704" y="844"/>
                </a:lnTo>
                <a:lnTo>
                  <a:pt x="2714" y="846"/>
                </a:lnTo>
                <a:lnTo>
                  <a:pt x="2728" y="850"/>
                </a:lnTo>
                <a:lnTo>
                  <a:pt x="2740" y="858"/>
                </a:lnTo>
                <a:lnTo>
                  <a:pt x="2744" y="864"/>
                </a:lnTo>
                <a:lnTo>
                  <a:pt x="2748" y="870"/>
                </a:lnTo>
                <a:lnTo>
                  <a:pt x="2752" y="878"/>
                </a:lnTo>
                <a:lnTo>
                  <a:pt x="2754" y="888"/>
                </a:lnTo>
                <a:lnTo>
                  <a:pt x="2754" y="900"/>
                </a:lnTo>
                <a:lnTo>
                  <a:pt x="2752" y="912"/>
                </a:lnTo>
                <a:lnTo>
                  <a:pt x="2752" y="912"/>
                </a:lnTo>
                <a:lnTo>
                  <a:pt x="2748" y="924"/>
                </a:lnTo>
                <a:lnTo>
                  <a:pt x="2742" y="936"/>
                </a:lnTo>
                <a:lnTo>
                  <a:pt x="2736" y="944"/>
                </a:lnTo>
                <a:lnTo>
                  <a:pt x="2726" y="952"/>
                </a:lnTo>
                <a:lnTo>
                  <a:pt x="2716" y="958"/>
                </a:lnTo>
                <a:lnTo>
                  <a:pt x="2706" y="962"/>
                </a:lnTo>
                <a:lnTo>
                  <a:pt x="2694" y="964"/>
                </a:lnTo>
                <a:lnTo>
                  <a:pt x="2682" y="964"/>
                </a:lnTo>
                <a:lnTo>
                  <a:pt x="2670" y="964"/>
                </a:lnTo>
                <a:lnTo>
                  <a:pt x="2658" y="962"/>
                </a:lnTo>
                <a:lnTo>
                  <a:pt x="2646" y="958"/>
                </a:lnTo>
                <a:lnTo>
                  <a:pt x="2636" y="952"/>
                </a:lnTo>
                <a:lnTo>
                  <a:pt x="2626" y="946"/>
                </a:lnTo>
                <a:lnTo>
                  <a:pt x="2616" y="938"/>
                </a:lnTo>
                <a:lnTo>
                  <a:pt x="2610" y="928"/>
                </a:lnTo>
                <a:lnTo>
                  <a:pt x="2604" y="918"/>
                </a:lnTo>
                <a:lnTo>
                  <a:pt x="2604" y="918"/>
                </a:lnTo>
                <a:lnTo>
                  <a:pt x="2596" y="896"/>
                </a:lnTo>
                <a:lnTo>
                  <a:pt x="2592" y="874"/>
                </a:lnTo>
                <a:lnTo>
                  <a:pt x="2588" y="852"/>
                </a:lnTo>
                <a:lnTo>
                  <a:pt x="2588" y="834"/>
                </a:lnTo>
                <a:lnTo>
                  <a:pt x="2588" y="804"/>
                </a:lnTo>
                <a:lnTo>
                  <a:pt x="2588" y="794"/>
                </a:lnTo>
                <a:lnTo>
                  <a:pt x="2588" y="794"/>
                </a:lnTo>
                <a:lnTo>
                  <a:pt x="2582" y="796"/>
                </a:lnTo>
                <a:lnTo>
                  <a:pt x="2564" y="804"/>
                </a:lnTo>
                <a:lnTo>
                  <a:pt x="2534" y="812"/>
                </a:lnTo>
                <a:lnTo>
                  <a:pt x="2516" y="816"/>
                </a:lnTo>
                <a:lnTo>
                  <a:pt x="2496" y="820"/>
                </a:lnTo>
                <a:lnTo>
                  <a:pt x="2474" y="820"/>
                </a:lnTo>
                <a:lnTo>
                  <a:pt x="2450" y="822"/>
                </a:lnTo>
                <a:lnTo>
                  <a:pt x="2424" y="820"/>
                </a:lnTo>
                <a:lnTo>
                  <a:pt x="2396" y="816"/>
                </a:lnTo>
                <a:lnTo>
                  <a:pt x="2366" y="810"/>
                </a:lnTo>
                <a:lnTo>
                  <a:pt x="2336" y="802"/>
                </a:lnTo>
                <a:lnTo>
                  <a:pt x="2304" y="790"/>
                </a:lnTo>
                <a:lnTo>
                  <a:pt x="2270" y="774"/>
                </a:lnTo>
                <a:lnTo>
                  <a:pt x="2270" y="774"/>
                </a:lnTo>
                <a:lnTo>
                  <a:pt x="2254" y="764"/>
                </a:lnTo>
                <a:lnTo>
                  <a:pt x="2238" y="754"/>
                </a:lnTo>
                <a:lnTo>
                  <a:pt x="2224" y="742"/>
                </a:lnTo>
                <a:lnTo>
                  <a:pt x="2210" y="728"/>
                </a:lnTo>
                <a:lnTo>
                  <a:pt x="2198" y="716"/>
                </a:lnTo>
                <a:lnTo>
                  <a:pt x="2186" y="700"/>
                </a:lnTo>
                <a:lnTo>
                  <a:pt x="2176" y="684"/>
                </a:lnTo>
                <a:lnTo>
                  <a:pt x="2168" y="668"/>
                </a:lnTo>
                <a:lnTo>
                  <a:pt x="2152" y="634"/>
                </a:lnTo>
                <a:lnTo>
                  <a:pt x="2140" y="600"/>
                </a:lnTo>
                <a:lnTo>
                  <a:pt x="2134" y="562"/>
                </a:lnTo>
                <a:lnTo>
                  <a:pt x="2130" y="526"/>
                </a:lnTo>
                <a:lnTo>
                  <a:pt x="2132" y="490"/>
                </a:lnTo>
                <a:lnTo>
                  <a:pt x="2136" y="456"/>
                </a:lnTo>
                <a:lnTo>
                  <a:pt x="2140" y="440"/>
                </a:lnTo>
                <a:lnTo>
                  <a:pt x="2146" y="424"/>
                </a:lnTo>
                <a:lnTo>
                  <a:pt x="2152" y="408"/>
                </a:lnTo>
                <a:lnTo>
                  <a:pt x="2160" y="394"/>
                </a:lnTo>
                <a:lnTo>
                  <a:pt x="2168" y="380"/>
                </a:lnTo>
                <a:lnTo>
                  <a:pt x="2178" y="368"/>
                </a:lnTo>
                <a:lnTo>
                  <a:pt x="2190" y="356"/>
                </a:lnTo>
                <a:lnTo>
                  <a:pt x="2202" y="346"/>
                </a:lnTo>
                <a:lnTo>
                  <a:pt x="2214" y="336"/>
                </a:lnTo>
                <a:lnTo>
                  <a:pt x="2228" y="328"/>
                </a:lnTo>
                <a:lnTo>
                  <a:pt x="2244" y="322"/>
                </a:lnTo>
                <a:lnTo>
                  <a:pt x="2260" y="318"/>
                </a:lnTo>
                <a:lnTo>
                  <a:pt x="2260" y="318"/>
                </a:lnTo>
                <a:lnTo>
                  <a:pt x="2292" y="312"/>
                </a:lnTo>
                <a:lnTo>
                  <a:pt x="2322" y="312"/>
                </a:lnTo>
                <a:lnTo>
                  <a:pt x="2348" y="316"/>
                </a:lnTo>
                <a:lnTo>
                  <a:pt x="2370" y="324"/>
                </a:lnTo>
                <a:lnTo>
                  <a:pt x="2392" y="334"/>
                </a:lnTo>
                <a:lnTo>
                  <a:pt x="2410" y="348"/>
                </a:lnTo>
                <a:lnTo>
                  <a:pt x="2426" y="364"/>
                </a:lnTo>
                <a:lnTo>
                  <a:pt x="2440" y="380"/>
                </a:lnTo>
                <a:lnTo>
                  <a:pt x="2450" y="398"/>
                </a:lnTo>
                <a:lnTo>
                  <a:pt x="2460" y="416"/>
                </a:lnTo>
                <a:lnTo>
                  <a:pt x="2468" y="432"/>
                </a:lnTo>
                <a:lnTo>
                  <a:pt x="2474" y="448"/>
                </a:lnTo>
                <a:lnTo>
                  <a:pt x="2480" y="474"/>
                </a:lnTo>
                <a:lnTo>
                  <a:pt x="2482" y="488"/>
                </a:lnTo>
                <a:lnTo>
                  <a:pt x="2482" y="488"/>
                </a:lnTo>
                <a:lnTo>
                  <a:pt x="2480" y="506"/>
                </a:lnTo>
                <a:lnTo>
                  <a:pt x="2480" y="518"/>
                </a:lnTo>
                <a:lnTo>
                  <a:pt x="2480" y="530"/>
                </a:lnTo>
                <a:lnTo>
                  <a:pt x="2484" y="542"/>
                </a:lnTo>
                <a:lnTo>
                  <a:pt x="2490" y="552"/>
                </a:lnTo>
                <a:lnTo>
                  <a:pt x="2500" y="560"/>
                </a:lnTo>
                <a:lnTo>
                  <a:pt x="2506" y="564"/>
                </a:lnTo>
                <a:lnTo>
                  <a:pt x="2514" y="566"/>
                </a:lnTo>
                <a:lnTo>
                  <a:pt x="2514" y="566"/>
                </a:lnTo>
                <a:lnTo>
                  <a:pt x="2524" y="568"/>
                </a:lnTo>
                <a:lnTo>
                  <a:pt x="2532" y="568"/>
                </a:lnTo>
                <a:lnTo>
                  <a:pt x="2540" y="566"/>
                </a:lnTo>
                <a:lnTo>
                  <a:pt x="2548" y="564"/>
                </a:lnTo>
                <a:lnTo>
                  <a:pt x="2558" y="558"/>
                </a:lnTo>
                <a:lnTo>
                  <a:pt x="2568" y="550"/>
                </a:lnTo>
                <a:lnTo>
                  <a:pt x="2572" y="540"/>
                </a:lnTo>
                <a:lnTo>
                  <a:pt x="2576" y="532"/>
                </a:lnTo>
                <a:lnTo>
                  <a:pt x="2578" y="524"/>
                </a:lnTo>
                <a:lnTo>
                  <a:pt x="2578" y="524"/>
                </a:lnTo>
                <a:lnTo>
                  <a:pt x="2580" y="532"/>
                </a:lnTo>
                <a:lnTo>
                  <a:pt x="2582" y="542"/>
                </a:lnTo>
                <a:lnTo>
                  <a:pt x="2584" y="552"/>
                </a:lnTo>
                <a:lnTo>
                  <a:pt x="2582" y="566"/>
                </a:lnTo>
                <a:lnTo>
                  <a:pt x="2578" y="578"/>
                </a:lnTo>
                <a:lnTo>
                  <a:pt x="2572" y="590"/>
                </a:lnTo>
                <a:lnTo>
                  <a:pt x="2566" y="596"/>
                </a:lnTo>
                <a:lnTo>
                  <a:pt x="2558" y="600"/>
                </a:lnTo>
                <a:lnTo>
                  <a:pt x="2558" y="600"/>
                </a:lnTo>
                <a:lnTo>
                  <a:pt x="2548" y="604"/>
                </a:lnTo>
                <a:lnTo>
                  <a:pt x="2538" y="608"/>
                </a:lnTo>
                <a:lnTo>
                  <a:pt x="2528" y="610"/>
                </a:lnTo>
                <a:lnTo>
                  <a:pt x="2518" y="610"/>
                </a:lnTo>
                <a:lnTo>
                  <a:pt x="2500" y="610"/>
                </a:lnTo>
                <a:lnTo>
                  <a:pt x="2484" y="606"/>
                </a:lnTo>
                <a:lnTo>
                  <a:pt x="2470" y="600"/>
                </a:lnTo>
                <a:lnTo>
                  <a:pt x="2460" y="594"/>
                </a:lnTo>
                <a:lnTo>
                  <a:pt x="2450" y="588"/>
                </a:lnTo>
                <a:lnTo>
                  <a:pt x="2450" y="588"/>
                </a:lnTo>
                <a:lnTo>
                  <a:pt x="2446" y="596"/>
                </a:lnTo>
                <a:lnTo>
                  <a:pt x="2444" y="604"/>
                </a:lnTo>
                <a:lnTo>
                  <a:pt x="2440" y="616"/>
                </a:lnTo>
                <a:lnTo>
                  <a:pt x="2440" y="626"/>
                </a:lnTo>
                <a:lnTo>
                  <a:pt x="2440" y="638"/>
                </a:lnTo>
                <a:lnTo>
                  <a:pt x="2444" y="650"/>
                </a:lnTo>
                <a:lnTo>
                  <a:pt x="2448" y="654"/>
                </a:lnTo>
                <a:lnTo>
                  <a:pt x="2454" y="658"/>
                </a:lnTo>
                <a:lnTo>
                  <a:pt x="2454" y="658"/>
                </a:lnTo>
                <a:lnTo>
                  <a:pt x="2470" y="666"/>
                </a:lnTo>
                <a:lnTo>
                  <a:pt x="2486" y="670"/>
                </a:lnTo>
                <a:lnTo>
                  <a:pt x="2500" y="668"/>
                </a:lnTo>
                <a:lnTo>
                  <a:pt x="2512" y="666"/>
                </a:lnTo>
                <a:lnTo>
                  <a:pt x="2520" y="660"/>
                </a:lnTo>
                <a:lnTo>
                  <a:pt x="2528" y="656"/>
                </a:lnTo>
                <a:lnTo>
                  <a:pt x="2534" y="650"/>
                </a:lnTo>
                <a:lnTo>
                  <a:pt x="2534" y="650"/>
                </a:lnTo>
                <a:lnTo>
                  <a:pt x="2532" y="658"/>
                </a:lnTo>
                <a:lnTo>
                  <a:pt x="2530" y="668"/>
                </a:lnTo>
                <a:lnTo>
                  <a:pt x="2524" y="678"/>
                </a:lnTo>
                <a:lnTo>
                  <a:pt x="2516" y="690"/>
                </a:lnTo>
                <a:lnTo>
                  <a:pt x="2502" y="698"/>
                </a:lnTo>
                <a:lnTo>
                  <a:pt x="2494" y="702"/>
                </a:lnTo>
                <a:lnTo>
                  <a:pt x="2486" y="704"/>
                </a:lnTo>
                <a:lnTo>
                  <a:pt x="2474" y="706"/>
                </a:lnTo>
                <a:lnTo>
                  <a:pt x="2462" y="706"/>
                </a:lnTo>
                <a:lnTo>
                  <a:pt x="2462" y="706"/>
                </a:lnTo>
                <a:lnTo>
                  <a:pt x="2444" y="704"/>
                </a:lnTo>
                <a:lnTo>
                  <a:pt x="2430" y="698"/>
                </a:lnTo>
                <a:lnTo>
                  <a:pt x="2418" y="692"/>
                </a:lnTo>
                <a:lnTo>
                  <a:pt x="2406" y="682"/>
                </a:lnTo>
                <a:lnTo>
                  <a:pt x="2398" y="672"/>
                </a:lnTo>
                <a:lnTo>
                  <a:pt x="2392" y="660"/>
                </a:lnTo>
                <a:lnTo>
                  <a:pt x="2386" y="648"/>
                </a:lnTo>
                <a:lnTo>
                  <a:pt x="2382" y="634"/>
                </a:lnTo>
                <a:lnTo>
                  <a:pt x="2376" y="610"/>
                </a:lnTo>
                <a:lnTo>
                  <a:pt x="2374" y="588"/>
                </a:lnTo>
                <a:lnTo>
                  <a:pt x="2374" y="566"/>
                </a:lnTo>
                <a:lnTo>
                  <a:pt x="2374" y="566"/>
                </a:lnTo>
                <a:lnTo>
                  <a:pt x="2368" y="566"/>
                </a:lnTo>
                <a:lnTo>
                  <a:pt x="2352" y="564"/>
                </a:lnTo>
                <a:lnTo>
                  <a:pt x="2342" y="560"/>
                </a:lnTo>
                <a:lnTo>
                  <a:pt x="2330" y="554"/>
                </a:lnTo>
                <a:lnTo>
                  <a:pt x="2318" y="546"/>
                </a:lnTo>
                <a:lnTo>
                  <a:pt x="2306" y="534"/>
                </a:lnTo>
                <a:lnTo>
                  <a:pt x="2306" y="534"/>
                </a:lnTo>
                <a:lnTo>
                  <a:pt x="2296" y="520"/>
                </a:lnTo>
                <a:lnTo>
                  <a:pt x="2290" y="504"/>
                </a:lnTo>
                <a:lnTo>
                  <a:pt x="2288" y="490"/>
                </a:lnTo>
                <a:lnTo>
                  <a:pt x="2290" y="476"/>
                </a:lnTo>
                <a:lnTo>
                  <a:pt x="2290" y="462"/>
                </a:lnTo>
                <a:lnTo>
                  <a:pt x="2294" y="452"/>
                </a:lnTo>
                <a:lnTo>
                  <a:pt x="2296" y="444"/>
                </a:lnTo>
                <a:lnTo>
                  <a:pt x="2296" y="444"/>
                </a:lnTo>
                <a:lnTo>
                  <a:pt x="2298" y="454"/>
                </a:lnTo>
                <a:lnTo>
                  <a:pt x="2302" y="464"/>
                </a:lnTo>
                <a:lnTo>
                  <a:pt x="2308" y="476"/>
                </a:lnTo>
                <a:lnTo>
                  <a:pt x="2316" y="486"/>
                </a:lnTo>
                <a:lnTo>
                  <a:pt x="2322" y="490"/>
                </a:lnTo>
                <a:lnTo>
                  <a:pt x="2328" y="494"/>
                </a:lnTo>
                <a:lnTo>
                  <a:pt x="2336" y="498"/>
                </a:lnTo>
                <a:lnTo>
                  <a:pt x="2344" y="498"/>
                </a:lnTo>
                <a:lnTo>
                  <a:pt x="2354" y="500"/>
                </a:lnTo>
                <a:lnTo>
                  <a:pt x="2366" y="498"/>
                </a:lnTo>
                <a:lnTo>
                  <a:pt x="2366" y="498"/>
                </a:lnTo>
                <a:lnTo>
                  <a:pt x="2376" y="494"/>
                </a:lnTo>
                <a:lnTo>
                  <a:pt x="2386" y="490"/>
                </a:lnTo>
                <a:lnTo>
                  <a:pt x="2392" y="484"/>
                </a:lnTo>
                <a:lnTo>
                  <a:pt x="2398" y="478"/>
                </a:lnTo>
                <a:lnTo>
                  <a:pt x="2402" y="470"/>
                </a:lnTo>
                <a:lnTo>
                  <a:pt x="2402" y="460"/>
                </a:lnTo>
                <a:lnTo>
                  <a:pt x="2402" y="452"/>
                </a:lnTo>
                <a:lnTo>
                  <a:pt x="2402" y="442"/>
                </a:lnTo>
                <a:lnTo>
                  <a:pt x="2398" y="432"/>
                </a:lnTo>
                <a:lnTo>
                  <a:pt x="2394" y="422"/>
                </a:lnTo>
                <a:lnTo>
                  <a:pt x="2382" y="404"/>
                </a:lnTo>
                <a:lnTo>
                  <a:pt x="2366" y="386"/>
                </a:lnTo>
                <a:lnTo>
                  <a:pt x="2358" y="380"/>
                </a:lnTo>
                <a:lnTo>
                  <a:pt x="2348" y="374"/>
                </a:lnTo>
                <a:lnTo>
                  <a:pt x="2348" y="374"/>
                </a:lnTo>
                <a:lnTo>
                  <a:pt x="2338" y="370"/>
                </a:lnTo>
                <a:lnTo>
                  <a:pt x="2324" y="366"/>
                </a:lnTo>
                <a:lnTo>
                  <a:pt x="2312" y="364"/>
                </a:lnTo>
                <a:lnTo>
                  <a:pt x="2296" y="366"/>
                </a:lnTo>
                <a:lnTo>
                  <a:pt x="2282" y="368"/>
                </a:lnTo>
                <a:lnTo>
                  <a:pt x="2266" y="372"/>
                </a:lnTo>
                <a:lnTo>
                  <a:pt x="2252" y="376"/>
                </a:lnTo>
                <a:lnTo>
                  <a:pt x="2236" y="384"/>
                </a:lnTo>
                <a:lnTo>
                  <a:pt x="2222" y="394"/>
                </a:lnTo>
                <a:lnTo>
                  <a:pt x="2210" y="406"/>
                </a:lnTo>
                <a:lnTo>
                  <a:pt x="2198" y="420"/>
                </a:lnTo>
                <a:lnTo>
                  <a:pt x="2188" y="436"/>
                </a:lnTo>
                <a:lnTo>
                  <a:pt x="2180" y="456"/>
                </a:lnTo>
                <a:lnTo>
                  <a:pt x="2174" y="476"/>
                </a:lnTo>
                <a:lnTo>
                  <a:pt x="2170" y="500"/>
                </a:lnTo>
                <a:lnTo>
                  <a:pt x="2170" y="526"/>
                </a:lnTo>
                <a:lnTo>
                  <a:pt x="2170" y="526"/>
                </a:lnTo>
                <a:lnTo>
                  <a:pt x="2172" y="552"/>
                </a:lnTo>
                <a:lnTo>
                  <a:pt x="2176" y="578"/>
                </a:lnTo>
                <a:lnTo>
                  <a:pt x="2184" y="604"/>
                </a:lnTo>
                <a:lnTo>
                  <a:pt x="2192" y="628"/>
                </a:lnTo>
                <a:lnTo>
                  <a:pt x="2202" y="650"/>
                </a:lnTo>
                <a:lnTo>
                  <a:pt x="2214" y="670"/>
                </a:lnTo>
                <a:lnTo>
                  <a:pt x="2228" y="690"/>
                </a:lnTo>
                <a:lnTo>
                  <a:pt x="2244" y="708"/>
                </a:lnTo>
                <a:lnTo>
                  <a:pt x="2262" y="724"/>
                </a:lnTo>
                <a:lnTo>
                  <a:pt x="2282" y="738"/>
                </a:lnTo>
                <a:lnTo>
                  <a:pt x="2302" y="750"/>
                </a:lnTo>
                <a:lnTo>
                  <a:pt x="2324" y="760"/>
                </a:lnTo>
                <a:lnTo>
                  <a:pt x="2348" y="768"/>
                </a:lnTo>
                <a:lnTo>
                  <a:pt x="2372" y="774"/>
                </a:lnTo>
                <a:lnTo>
                  <a:pt x="2398" y="776"/>
                </a:lnTo>
                <a:lnTo>
                  <a:pt x="2426" y="778"/>
                </a:lnTo>
                <a:lnTo>
                  <a:pt x="2426" y="778"/>
                </a:lnTo>
                <a:lnTo>
                  <a:pt x="2452" y="776"/>
                </a:lnTo>
                <a:lnTo>
                  <a:pt x="2478" y="774"/>
                </a:lnTo>
                <a:lnTo>
                  <a:pt x="2502" y="770"/>
                </a:lnTo>
                <a:lnTo>
                  <a:pt x="2524" y="766"/>
                </a:lnTo>
                <a:lnTo>
                  <a:pt x="2546" y="760"/>
                </a:lnTo>
                <a:lnTo>
                  <a:pt x="2566" y="752"/>
                </a:lnTo>
                <a:lnTo>
                  <a:pt x="2584" y="742"/>
                </a:lnTo>
                <a:lnTo>
                  <a:pt x="2600" y="732"/>
                </a:lnTo>
                <a:lnTo>
                  <a:pt x="2614" y="720"/>
                </a:lnTo>
                <a:lnTo>
                  <a:pt x="2628" y="708"/>
                </a:lnTo>
                <a:lnTo>
                  <a:pt x="2640" y="692"/>
                </a:lnTo>
                <a:lnTo>
                  <a:pt x="2652" y="678"/>
                </a:lnTo>
                <a:lnTo>
                  <a:pt x="2660" y="660"/>
                </a:lnTo>
                <a:lnTo>
                  <a:pt x="2668" y="642"/>
                </a:lnTo>
                <a:lnTo>
                  <a:pt x="2674" y="622"/>
                </a:lnTo>
                <a:lnTo>
                  <a:pt x="2680" y="602"/>
                </a:lnTo>
                <a:lnTo>
                  <a:pt x="2680" y="602"/>
                </a:lnTo>
                <a:lnTo>
                  <a:pt x="2684" y="580"/>
                </a:lnTo>
                <a:lnTo>
                  <a:pt x="2686" y="554"/>
                </a:lnTo>
                <a:lnTo>
                  <a:pt x="2684" y="528"/>
                </a:lnTo>
                <a:lnTo>
                  <a:pt x="2682" y="498"/>
                </a:lnTo>
                <a:lnTo>
                  <a:pt x="2676" y="470"/>
                </a:lnTo>
                <a:lnTo>
                  <a:pt x="2666" y="440"/>
                </a:lnTo>
                <a:lnTo>
                  <a:pt x="2652" y="410"/>
                </a:lnTo>
                <a:lnTo>
                  <a:pt x="2634" y="380"/>
                </a:lnTo>
                <a:lnTo>
                  <a:pt x="2612" y="352"/>
                </a:lnTo>
                <a:lnTo>
                  <a:pt x="2586" y="324"/>
                </a:lnTo>
                <a:lnTo>
                  <a:pt x="2570" y="312"/>
                </a:lnTo>
                <a:lnTo>
                  <a:pt x="2554" y="300"/>
                </a:lnTo>
                <a:lnTo>
                  <a:pt x="2536" y="288"/>
                </a:lnTo>
                <a:lnTo>
                  <a:pt x="2518" y="276"/>
                </a:lnTo>
                <a:lnTo>
                  <a:pt x="2496" y="266"/>
                </a:lnTo>
                <a:lnTo>
                  <a:pt x="2474" y="256"/>
                </a:lnTo>
                <a:lnTo>
                  <a:pt x="2450" y="246"/>
                </a:lnTo>
                <a:lnTo>
                  <a:pt x="2424" y="238"/>
                </a:lnTo>
                <a:lnTo>
                  <a:pt x="2398" y="232"/>
                </a:lnTo>
                <a:lnTo>
                  <a:pt x="2368" y="226"/>
                </a:lnTo>
                <a:lnTo>
                  <a:pt x="2338" y="220"/>
                </a:lnTo>
                <a:lnTo>
                  <a:pt x="2306" y="216"/>
                </a:lnTo>
                <a:lnTo>
                  <a:pt x="2306" y="216"/>
                </a:lnTo>
                <a:lnTo>
                  <a:pt x="2270" y="212"/>
                </a:lnTo>
                <a:lnTo>
                  <a:pt x="2236" y="212"/>
                </a:lnTo>
                <a:lnTo>
                  <a:pt x="2202" y="212"/>
                </a:lnTo>
                <a:lnTo>
                  <a:pt x="2168" y="214"/>
                </a:lnTo>
                <a:lnTo>
                  <a:pt x="2134" y="218"/>
                </a:lnTo>
                <a:lnTo>
                  <a:pt x="2102" y="224"/>
                </a:lnTo>
                <a:lnTo>
                  <a:pt x="2070" y="230"/>
                </a:lnTo>
                <a:lnTo>
                  <a:pt x="2038" y="236"/>
                </a:lnTo>
                <a:lnTo>
                  <a:pt x="1976" y="254"/>
                </a:lnTo>
                <a:lnTo>
                  <a:pt x="1918" y="274"/>
                </a:lnTo>
                <a:lnTo>
                  <a:pt x="1864" y="296"/>
                </a:lnTo>
                <a:lnTo>
                  <a:pt x="1814" y="320"/>
                </a:lnTo>
                <a:lnTo>
                  <a:pt x="1766" y="346"/>
                </a:lnTo>
                <a:lnTo>
                  <a:pt x="1726" y="370"/>
                </a:lnTo>
                <a:lnTo>
                  <a:pt x="1690" y="392"/>
                </a:lnTo>
                <a:lnTo>
                  <a:pt x="1660" y="412"/>
                </a:lnTo>
                <a:lnTo>
                  <a:pt x="1616" y="444"/>
                </a:lnTo>
                <a:lnTo>
                  <a:pt x="1602" y="456"/>
                </a:lnTo>
                <a:lnTo>
                  <a:pt x="1602" y="456"/>
                </a:lnTo>
                <a:lnTo>
                  <a:pt x="1616" y="456"/>
                </a:lnTo>
                <a:lnTo>
                  <a:pt x="1630" y="456"/>
                </a:lnTo>
                <a:lnTo>
                  <a:pt x="1646" y="458"/>
                </a:lnTo>
                <a:lnTo>
                  <a:pt x="1664" y="462"/>
                </a:lnTo>
                <a:lnTo>
                  <a:pt x="1684" y="468"/>
                </a:lnTo>
                <a:lnTo>
                  <a:pt x="1702" y="476"/>
                </a:lnTo>
                <a:lnTo>
                  <a:pt x="1710" y="482"/>
                </a:lnTo>
                <a:lnTo>
                  <a:pt x="1716" y="490"/>
                </a:lnTo>
                <a:lnTo>
                  <a:pt x="1716" y="490"/>
                </a:lnTo>
                <a:lnTo>
                  <a:pt x="1728" y="504"/>
                </a:lnTo>
                <a:lnTo>
                  <a:pt x="1740" y="516"/>
                </a:lnTo>
                <a:lnTo>
                  <a:pt x="1752" y="526"/>
                </a:lnTo>
                <a:lnTo>
                  <a:pt x="1766" y="534"/>
                </a:lnTo>
                <a:lnTo>
                  <a:pt x="1778" y="540"/>
                </a:lnTo>
                <a:lnTo>
                  <a:pt x="1794" y="546"/>
                </a:lnTo>
                <a:lnTo>
                  <a:pt x="1810" y="550"/>
                </a:lnTo>
                <a:lnTo>
                  <a:pt x="1828" y="552"/>
                </a:lnTo>
                <a:lnTo>
                  <a:pt x="1828" y="552"/>
                </a:lnTo>
                <a:lnTo>
                  <a:pt x="1848" y="554"/>
                </a:lnTo>
                <a:lnTo>
                  <a:pt x="1866" y="554"/>
                </a:lnTo>
                <a:lnTo>
                  <a:pt x="1882" y="552"/>
                </a:lnTo>
                <a:lnTo>
                  <a:pt x="1898" y="548"/>
                </a:lnTo>
                <a:lnTo>
                  <a:pt x="1910" y="542"/>
                </a:lnTo>
                <a:lnTo>
                  <a:pt x="1920" y="534"/>
                </a:lnTo>
                <a:lnTo>
                  <a:pt x="1924" y="528"/>
                </a:lnTo>
                <a:lnTo>
                  <a:pt x="1926" y="522"/>
                </a:lnTo>
                <a:lnTo>
                  <a:pt x="1928" y="506"/>
                </a:lnTo>
                <a:lnTo>
                  <a:pt x="1928" y="506"/>
                </a:lnTo>
                <a:lnTo>
                  <a:pt x="1928" y="498"/>
                </a:lnTo>
                <a:lnTo>
                  <a:pt x="1926" y="492"/>
                </a:lnTo>
                <a:lnTo>
                  <a:pt x="1922" y="486"/>
                </a:lnTo>
                <a:lnTo>
                  <a:pt x="1918" y="480"/>
                </a:lnTo>
                <a:lnTo>
                  <a:pt x="1910" y="474"/>
                </a:lnTo>
                <a:lnTo>
                  <a:pt x="1900" y="470"/>
                </a:lnTo>
                <a:lnTo>
                  <a:pt x="1888" y="470"/>
                </a:lnTo>
                <a:lnTo>
                  <a:pt x="1880" y="468"/>
                </a:lnTo>
                <a:lnTo>
                  <a:pt x="1870" y="470"/>
                </a:lnTo>
                <a:lnTo>
                  <a:pt x="1870" y="470"/>
                </a:lnTo>
                <a:lnTo>
                  <a:pt x="1880" y="466"/>
                </a:lnTo>
                <a:lnTo>
                  <a:pt x="1892" y="464"/>
                </a:lnTo>
                <a:lnTo>
                  <a:pt x="1904" y="462"/>
                </a:lnTo>
                <a:lnTo>
                  <a:pt x="1920" y="462"/>
                </a:lnTo>
                <a:lnTo>
                  <a:pt x="1934" y="464"/>
                </a:lnTo>
                <a:lnTo>
                  <a:pt x="1940" y="468"/>
                </a:lnTo>
                <a:lnTo>
                  <a:pt x="1946" y="472"/>
                </a:lnTo>
                <a:lnTo>
                  <a:pt x="1952" y="478"/>
                </a:lnTo>
                <a:lnTo>
                  <a:pt x="1956" y="484"/>
                </a:lnTo>
                <a:lnTo>
                  <a:pt x="1956" y="484"/>
                </a:lnTo>
                <a:lnTo>
                  <a:pt x="1960" y="492"/>
                </a:lnTo>
                <a:lnTo>
                  <a:pt x="1962" y="500"/>
                </a:lnTo>
                <a:lnTo>
                  <a:pt x="1964" y="516"/>
                </a:lnTo>
                <a:lnTo>
                  <a:pt x="1960" y="534"/>
                </a:lnTo>
                <a:lnTo>
                  <a:pt x="1954" y="552"/>
                </a:lnTo>
                <a:lnTo>
                  <a:pt x="1942" y="570"/>
                </a:lnTo>
                <a:lnTo>
                  <a:pt x="1928" y="584"/>
                </a:lnTo>
                <a:lnTo>
                  <a:pt x="1908" y="598"/>
                </a:lnTo>
                <a:lnTo>
                  <a:pt x="1886" y="608"/>
                </a:lnTo>
                <a:lnTo>
                  <a:pt x="1886" y="608"/>
                </a:lnTo>
                <a:lnTo>
                  <a:pt x="1864" y="614"/>
                </a:lnTo>
                <a:lnTo>
                  <a:pt x="1844" y="618"/>
                </a:lnTo>
                <a:lnTo>
                  <a:pt x="1828" y="618"/>
                </a:lnTo>
                <a:lnTo>
                  <a:pt x="1816" y="616"/>
                </a:lnTo>
                <a:lnTo>
                  <a:pt x="1806" y="614"/>
                </a:lnTo>
                <a:lnTo>
                  <a:pt x="1800" y="610"/>
                </a:lnTo>
                <a:lnTo>
                  <a:pt x="1794" y="608"/>
                </a:lnTo>
                <a:lnTo>
                  <a:pt x="1794" y="608"/>
                </a:lnTo>
                <a:lnTo>
                  <a:pt x="1796" y="634"/>
                </a:lnTo>
                <a:lnTo>
                  <a:pt x="1796" y="664"/>
                </a:lnTo>
                <a:lnTo>
                  <a:pt x="1792" y="700"/>
                </a:lnTo>
                <a:lnTo>
                  <a:pt x="1788" y="720"/>
                </a:lnTo>
                <a:lnTo>
                  <a:pt x="1784" y="742"/>
                </a:lnTo>
                <a:lnTo>
                  <a:pt x="1778" y="762"/>
                </a:lnTo>
                <a:lnTo>
                  <a:pt x="1770" y="784"/>
                </a:lnTo>
                <a:lnTo>
                  <a:pt x="1760" y="806"/>
                </a:lnTo>
                <a:lnTo>
                  <a:pt x="1748" y="826"/>
                </a:lnTo>
                <a:lnTo>
                  <a:pt x="1734" y="846"/>
                </a:lnTo>
                <a:lnTo>
                  <a:pt x="1718" y="866"/>
                </a:lnTo>
                <a:lnTo>
                  <a:pt x="1718" y="866"/>
                </a:lnTo>
                <a:lnTo>
                  <a:pt x="1700" y="882"/>
                </a:lnTo>
                <a:lnTo>
                  <a:pt x="1682" y="896"/>
                </a:lnTo>
                <a:lnTo>
                  <a:pt x="1664" y="906"/>
                </a:lnTo>
                <a:lnTo>
                  <a:pt x="1646" y="916"/>
                </a:lnTo>
                <a:lnTo>
                  <a:pt x="1630" y="922"/>
                </a:lnTo>
                <a:lnTo>
                  <a:pt x="1614" y="926"/>
                </a:lnTo>
                <a:lnTo>
                  <a:pt x="1598" y="928"/>
                </a:lnTo>
                <a:lnTo>
                  <a:pt x="1584" y="928"/>
                </a:lnTo>
                <a:lnTo>
                  <a:pt x="1558" y="928"/>
                </a:lnTo>
                <a:lnTo>
                  <a:pt x="1540" y="924"/>
                </a:lnTo>
                <a:lnTo>
                  <a:pt x="1522" y="918"/>
                </a:lnTo>
                <a:lnTo>
                  <a:pt x="1522" y="918"/>
                </a:lnTo>
                <a:lnTo>
                  <a:pt x="1544" y="916"/>
                </a:lnTo>
                <a:lnTo>
                  <a:pt x="1566" y="914"/>
                </a:lnTo>
                <a:lnTo>
                  <a:pt x="1594" y="906"/>
                </a:lnTo>
                <a:lnTo>
                  <a:pt x="1608" y="902"/>
                </a:lnTo>
                <a:lnTo>
                  <a:pt x="1622" y="896"/>
                </a:lnTo>
                <a:lnTo>
                  <a:pt x="1638" y="888"/>
                </a:lnTo>
                <a:lnTo>
                  <a:pt x="1652" y="878"/>
                </a:lnTo>
                <a:lnTo>
                  <a:pt x="1664" y="868"/>
                </a:lnTo>
                <a:lnTo>
                  <a:pt x="1676" y="856"/>
                </a:lnTo>
                <a:lnTo>
                  <a:pt x="1686" y="840"/>
                </a:lnTo>
                <a:lnTo>
                  <a:pt x="1694" y="824"/>
                </a:lnTo>
                <a:lnTo>
                  <a:pt x="1694" y="824"/>
                </a:lnTo>
                <a:lnTo>
                  <a:pt x="1700" y="806"/>
                </a:lnTo>
                <a:lnTo>
                  <a:pt x="1706" y="788"/>
                </a:lnTo>
                <a:lnTo>
                  <a:pt x="1710" y="754"/>
                </a:lnTo>
                <a:lnTo>
                  <a:pt x="1712" y="722"/>
                </a:lnTo>
                <a:lnTo>
                  <a:pt x="1712" y="694"/>
                </a:lnTo>
                <a:lnTo>
                  <a:pt x="1708" y="670"/>
                </a:lnTo>
                <a:lnTo>
                  <a:pt x="1704" y="652"/>
                </a:lnTo>
                <a:lnTo>
                  <a:pt x="1700" y="636"/>
                </a:lnTo>
                <a:lnTo>
                  <a:pt x="1700" y="636"/>
                </a:lnTo>
                <a:lnTo>
                  <a:pt x="1690" y="646"/>
                </a:lnTo>
                <a:lnTo>
                  <a:pt x="1678" y="658"/>
                </a:lnTo>
                <a:lnTo>
                  <a:pt x="1664" y="670"/>
                </a:lnTo>
                <a:lnTo>
                  <a:pt x="1642" y="682"/>
                </a:lnTo>
                <a:lnTo>
                  <a:pt x="1620" y="692"/>
                </a:lnTo>
                <a:lnTo>
                  <a:pt x="1606" y="694"/>
                </a:lnTo>
                <a:lnTo>
                  <a:pt x="1592" y="696"/>
                </a:lnTo>
                <a:lnTo>
                  <a:pt x="1576" y="698"/>
                </a:lnTo>
                <a:lnTo>
                  <a:pt x="1560" y="696"/>
                </a:lnTo>
                <a:lnTo>
                  <a:pt x="1560" y="696"/>
                </a:lnTo>
                <a:lnTo>
                  <a:pt x="1546" y="692"/>
                </a:lnTo>
                <a:lnTo>
                  <a:pt x="1532" y="688"/>
                </a:lnTo>
                <a:lnTo>
                  <a:pt x="1524" y="684"/>
                </a:lnTo>
                <a:lnTo>
                  <a:pt x="1516" y="678"/>
                </a:lnTo>
                <a:lnTo>
                  <a:pt x="1510" y="670"/>
                </a:lnTo>
                <a:lnTo>
                  <a:pt x="1508" y="664"/>
                </a:lnTo>
                <a:lnTo>
                  <a:pt x="1506" y="656"/>
                </a:lnTo>
                <a:lnTo>
                  <a:pt x="1506" y="648"/>
                </a:lnTo>
                <a:lnTo>
                  <a:pt x="1506" y="634"/>
                </a:lnTo>
                <a:lnTo>
                  <a:pt x="1510" y="622"/>
                </a:lnTo>
                <a:lnTo>
                  <a:pt x="1516" y="610"/>
                </a:lnTo>
                <a:lnTo>
                  <a:pt x="1516" y="610"/>
                </a:lnTo>
                <a:lnTo>
                  <a:pt x="1516" y="618"/>
                </a:lnTo>
                <a:lnTo>
                  <a:pt x="1518" y="628"/>
                </a:lnTo>
                <a:lnTo>
                  <a:pt x="1520" y="640"/>
                </a:lnTo>
                <a:lnTo>
                  <a:pt x="1526" y="650"/>
                </a:lnTo>
                <a:lnTo>
                  <a:pt x="1536" y="660"/>
                </a:lnTo>
                <a:lnTo>
                  <a:pt x="1542" y="664"/>
                </a:lnTo>
                <a:lnTo>
                  <a:pt x="1548" y="668"/>
                </a:lnTo>
                <a:lnTo>
                  <a:pt x="1556" y="670"/>
                </a:lnTo>
                <a:lnTo>
                  <a:pt x="1566" y="672"/>
                </a:lnTo>
                <a:lnTo>
                  <a:pt x="1566" y="672"/>
                </a:lnTo>
                <a:lnTo>
                  <a:pt x="1576" y="672"/>
                </a:lnTo>
                <a:lnTo>
                  <a:pt x="1586" y="670"/>
                </a:lnTo>
                <a:lnTo>
                  <a:pt x="1596" y="668"/>
                </a:lnTo>
                <a:lnTo>
                  <a:pt x="1604" y="664"/>
                </a:lnTo>
                <a:lnTo>
                  <a:pt x="1612" y="658"/>
                </a:lnTo>
                <a:lnTo>
                  <a:pt x="1620" y="652"/>
                </a:lnTo>
                <a:lnTo>
                  <a:pt x="1626" y="646"/>
                </a:lnTo>
                <a:lnTo>
                  <a:pt x="1632" y="638"/>
                </a:lnTo>
                <a:lnTo>
                  <a:pt x="1638" y="628"/>
                </a:lnTo>
                <a:lnTo>
                  <a:pt x="1642" y="618"/>
                </a:lnTo>
                <a:lnTo>
                  <a:pt x="1644" y="608"/>
                </a:lnTo>
                <a:lnTo>
                  <a:pt x="1646" y="596"/>
                </a:lnTo>
                <a:lnTo>
                  <a:pt x="1646" y="584"/>
                </a:lnTo>
                <a:lnTo>
                  <a:pt x="1646" y="572"/>
                </a:lnTo>
                <a:lnTo>
                  <a:pt x="1642" y="560"/>
                </a:lnTo>
                <a:lnTo>
                  <a:pt x="1638" y="546"/>
                </a:lnTo>
                <a:lnTo>
                  <a:pt x="1638" y="546"/>
                </a:lnTo>
                <a:lnTo>
                  <a:pt x="1632" y="534"/>
                </a:lnTo>
                <a:lnTo>
                  <a:pt x="1624" y="524"/>
                </a:lnTo>
                <a:lnTo>
                  <a:pt x="1616" y="516"/>
                </a:lnTo>
                <a:lnTo>
                  <a:pt x="1606" y="510"/>
                </a:lnTo>
                <a:lnTo>
                  <a:pt x="1596" y="506"/>
                </a:lnTo>
                <a:lnTo>
                  <a:pt x="1586" y="502"/>
                </a:lnTo>
                <a:lnTo>
                  <a:pt x="1564" y="500"/>
                </a:lnTo>
                <a:lnTo>
                  <a:pt x="1544" y="502"/>
                </a:lnTo>
                <a:lnTo>
                  <a:pt x="1526" y="506"/>
                </a:lnTo>
                <a:lnTo>
                  <a:pt x="1510" y="510"/>
                </a:lnTo>
                <a:lnTo>
                  <a:pt x="1510" y="510"/>
                </a:lnTo>
                <a:lnTo>
                  <a:pt x="1468" y="536"/>
                </a:lnTo>
                <a:lnTo>
                  <a:pt x="1418" y="568"/>
                </a:lnTo>
                <a:lnTo>
                  <a:pt x="1352" y="606"/>
                </a:lnTo>
                <a:lnTo>
                  <a:pt x="1270" y="652"/>
                </a:lnTo>
                <a:lnTo>
                  <a:pt x="1174" y="702"/>
                </a:lnTo>
                <a:lnTo>
                  <a:pt x="1066" y="754"/>
                </a:lnTo>
                <a:lnTo>
                  <a:pt x="1008" y="780"/>
                </a:lnTo>
                <a:lnTo>
                  <a:pt x="948" y="806"/>
                </a:lnTo>
                <a:lnTo>
                  <a:pt x="948" y="806"/>
                </a:lnTo>
                <a:lnTo>
                  <a:pt x="888" y="830"/>
                </a:lnTo>
                <a:lnTo>
                  <a:pt x="832" y="850"/>
                </a:lnTo>
                <a:lnTo>
                  <a:pt x="778" y="868"/>
                </a:lnTo>
                <a:lnTo>
                  <a:pt x="728" y="884"/>
                </a:lnTo>
                <a:lnTo>
                  <a:pt x="680" y="896"/>
                </a:lnTo>
                <a:lnTo>
                  <a:pt x="634" y="906"/>
                </a:lnTo>
                <a:lnTo>
                  <a:pt x="590" y="914"/>
                </a:lnTo>
                <a:lnTo>
                  <a:pt x="550" y="920"/>
                </a:lnTo>
                <a:lnTo>
                  <a:pt x="508" y="922"/>
                </a:lnTo>
                <a:lnTo>
                  <a:pt x="470" y="926"/>
                </a:lnTo>
                <a:lnTo>
                  <a:pt x="396" y="926"/>
                </a:lnTo>
                <a:lnTo>
                  <a:pt x="324" y="924"/>
                </a:lnTo>
                <a:lnTo>
                  <a:pt x="252" y="920"/>
                </a:lnTo>
                <a:lnTo>
                  <a:pt x="252" y="920"/>
                </a:lnTo>
                <a:lnTo>
                  <a:pt x="218" y="916"/>
                </a:lnTo>
                <a:lnTo>
                  <a:pt x="186" y="912"/>
                </a:lnTo>
                <a:lnTo>
                  <a:pt x="158" y="908"/>
                </a:lnTo>
                <a:lnTo>
                  <a:pt x="132" y="902"/>
                </a:lnTo>
                <a:lnTo>
                  <a:pt x="88" y="890"/>
                </a:lnTo>
                <a:lnTo>
                  <a:pt x="54" y="876"/>
                </a:lnTo>
                <a:lnTo>
                  <a:pt x="30" y="864"/>
                </a:lnTo>
                <a:lnTo>
                  <a:pt x="12" y="852"/>
                </a:lnTo>
                <a:lnTo>
                  <a:pt x="0" y="842"/>
                </a:lnTo>
                <a:lnTo>
                  <a:pt x="0" y="842"/>
                </a:lnTo>
                <a:close/>
              </a:path>
            </a:pathLst>
          </a:custGeom>
          <a:solidFill>
            <a:srgbClr val="c1a781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203640" y="3011760"/>
            <a:ext cx="2753640" cy="1991880"/>
            <a:chOff x="3203640" y="3011760"/>
            <a:chExt cx="2753640" cy="1991880"/>
          </a:xfrm>
        </p:grpSpPr>
        <p:sp>
          <p:nvSpPr>
            <p:cNvPr id="99" name=""/>
            <p:cNvSpPr/>
            <p:nvPr/>
          </p:nvSpPr>
          <p:spPr>
            <a:xfrm>
              <a:off x="3311640" y="3213000"/>
              <a:ext cx="2519280" cy="1297080"/>
            </a:xfrm>
            <a:prstGeom prst="ellipse">
              <a:avLst/>
            </a:prstGeom>
            <a:gradFill rotWithShape="0">
              <a:gsLst>
                <a:gs pos="0">
                  <a:srgbClr val="47194b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3203640" y="3011760"/>
              <a:ext cx="2753640" cy="1991880"/>
              <a:chOff x="3203640" y="3011760"/>
              <a:chExt cx="2753640" cy="199188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3203640" y="3011760"/>
                <a:ext cx="2753640" cy="1991880"/>
                <a:chOff x="3203640" y="3011760"/>
                <a:chExt cx="2753640" cy="1991880"/>
              </a:xfrm>
            </p:grpSpPr>
            <p:pic>
              <p:nvPicPr>
                <p:cNvPr id="10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203640" y="3492360"/>
                  <a:ext cx="2736720" cy="151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" name=""/>
                <p:cNvSpPr/>
                <p:nvPr/>
              </p:nvSpPr>
              <p:spPr>
                <a:xfrm>
                  <a:off x="3311640" y="3203640"/>
                  <a:ext cx="2519280" cy="1319040"/>
                </a:xfrm>
                <a:prstGeom prst="donut">
                  <a:avLst>
                    <a:gd name="adj" fmla="val 6050"/>
                  </a:avLst>
                </a:prstGeom>
                <a:gradFill rotWithShape="0">
                  <a:gsLst>
                    <a:gs pos="0">
                      <a:srgbClr val="686a6d"/>
                    </a:gs>
                    <a:gs pos="50000">
                      <a:srgbClr val="e2e8ee"/>
                    </a:gs>
                    <a:gs pos="100000">
                      <a:srgbClr val="686a6d"/>
                    </a:gs>
                  </a:gsLst>
                  <a:lin ang="8100000"/>
                </a:gradFill>
                <a:ln cap="rnd" w="1908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rot="20926800">
                  <a:off x="4464000" y="4114440"/>
                  <a:ext cx="1455840" cy="52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rot="20431200">
                  <a:off x="3311640" y="3177720"/>
                  <a:ext cx="1063440" cy="38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3995640" y="3671640"/>
                <a:ext cx="1155600" cy="420840"/>
                <a:chOff x="3995640" y="3671640"/>
                <a:chExt cx="1155600" cy="420840"/>
              </a:xfrm>
            </p:grpSpPr>
            <p:sp>
              <p:nvSpPr>
                <p:cNvPr id="107" name=""/>
                <p:cNvSpPr txBox="1"/>
                <p:nvPr/>
              </p:nvSpPr>
              <p:spPr>
                <a:xfrm>
                  <a:off x="4143240" y="3671640"/>
                  <a:ext cx="863640" cy="257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latin typeface="Arial Black"/>
                    </a:rPr>
                    <a:t>TEXT</a:t>
                  </a:r>
                  <a:endPara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08" name=""/>
                <p:cNvSpPr txBox="1"/>
                <p:nvPr/>
              </p:nvSpPr>
              <p:spPr>
                <a:xfrm>
                  <a:off x="3995640" y="3958920"/>
                  <a:ext cx="1155600" cy="133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latin typeface="Arial"/>
                    </a:rPr>
                    <a:t>ADD CONTENTS</a:t>
                  </a:r>
                  <a:endPara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Arial"/>
                  </a:endParaRPr>
                </a:p>
              </p:txBody>
            </p:sp>
          </p:grpSp>
        </p:grpSp>
      </p:grpSp>
      <p:grpSp>
        <p:nvGrpSpPr>
          <p:cNvPr id="109" name=""/>
          <p:cNvGrpSpPr/>
          <p:nvPr/>
        </p:nvGrpSpPr>
        <p:grpSpPr>
          <a:xfrm>
            <a:off x="5975280" y="3011760"/>
            <a:ext cx="2753640" cy="1991880"/>
            <a:chOff x="5975280" y="3011760"/>
            <a:chExt cx="2753640" cy="1991880"/>
          </a:xfrm>
        </p:grpSpPr>
        <p:sp>
          <p:nvSpPr>
            <p:cNvPr id="110" name=""/>
            <p:cNvSpPr/>
            <p:nvPr/>
          </p:nvSpPr>
          <p:spPr>
            <a:xfrm>
              <a:off x="6084720" y="3213000"/>
              <a:ext cx="2519640" cy="1297080"/>
            </a:xfrm>
            <a:prstGeom prst="ellipse">
              <a:avLst/>
            </a:prstGeom>
            <a:gradFill rotWithShape="0">
              <a:gsLst>
                <a:gs pos="0">
                  <a:srgbClr val="4b1919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5975280" y="3011760"/>
              <a:ext cx="2753640" cy="1991880"/>
              <a:chOff x="5975280" y="3011760"/>
              <a:chExt cx="2753640" cy="199188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5975280" y="3011760"/>
                <a:ext cx="2753640" cy="1991880"/>
                <a:chOff x="5975280" y="3011760"/>
                <a:chExt cx="2753640" cy="1991880"/>
              </a:xfrm>
            </p:grpSpPr>
            <p:pic>
              <p:nvPicPr>
                <p:cNvPr id="11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975280" y="3492360"/>
                  <a:ext cx="2736720" cy="151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" name=""/>
                <p:cNvSpPr/>
                <p:nvPr/>
              </p:nvSpPr>
              <p:spPr>
                <a:xfrm>
                  <a:off x="6083280" y="3203640"/>
                  <a:ext cx="2519280" cy="1319040"/>
                </a:xfrm>
                <a:prstGeom prst="donut">
                  <a:avLst>
                    <a:gd name="adj" fmla="val 6050"/>
                  </a:avLst>
                </a:prstGeom>
                <a:gradFill rotWithShape="0">
                  <a:gsLst>
                    <a:gs pos="0">
                      <a:srgbClr val="686a6d"/>
                    </a:gs>
                    <a:gs pos="50000">
                      <a:srgbClr val="e2e8ee"/>
                    </a:gs>
                    <a:gs pos="100000">
                      <a:srgbClr val="686a6d"/>
                    </a:gs>
                  </a:gsLst>
                  <a:lin ang="8100000"/>
                </a:gradFill>
                <a:ln cap="rnd" w="1908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rot="20926800">
                  <a:off x="7235640" y="4114440"/>
                  <a:ext cx="1455840" cy="52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rot="20431200">
                  <a:off x="6083280" y="3177720"/>
                  <a:ext cx="1063440" cy="38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6767280" y="3671640"/>
                <a:ext cx="1155600" cy="420840"/>
                <a:chOff x="6767280" y="3671640"/>
                <a:chExt cx="1155600" cy="420840"/>
              </a:xfrm>
            </p:grpSpPr>
            <p:sp>
              <p:nvSpPr>
                <p:cNvPr id="118" name=""/>
                <p:cNvSpPr txBox="1"/>
                <p:nvPr/>
              </p:nvSpPr>
              <p:spPr>
                <a:xfrm>
                  <a:off x="6914880" y="3671640"/>
                  <a:ext cx="863640" cy="257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latin typeface="Arial Black"/>
                    </a:rPr>
                    <a:t>TEXT</a:t>
                  </a:r>
                  <a:endPara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19" name=""/>
                <p:cNvSpPr txBox="1"/>
                <p:nvPr/>
              </p:nvSpPr>
              <p:spPr>
                <a:xfrm>
                  <a:off x="6767280" y="3958920"/>
                  <a:ext cx="1155600" cy="133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latin typeface="Arial"/>
                    </a:rPr>
                    <a:t>ADD CONTENTS</a:t>
                  </a:r>
                  <a:endPara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Arial"/>
                  </a:endParaRPr>
                </a:p>
              </p:txBody>
            </p:sp>
          </p:grpSp>
        </p:grpSp>
      </p:grpSp>
      <p:grpSp>
        <p:nvGrpSpPr>
          <p:cNvPr id="120" name=""/>
          <p:cNvGrpSpPr/>
          <p:nvPr/>
        </p:nvGrpSpPr>
        <p:grpSpPr>
          <a:xfrm>
            <a:off x="431640" y="3011760"/>
            <a:ext cx="2753640" cy="1991880"/>
            <a:chOff x="431640" y="3011760"/>
            <a:chExt cx="2753640" cy="1991880"/>
          </a:xfrm>
        </p:grpSpPr>
        <p:sp>
          <p:nvSpPr>
            <p:cNvPr id="121" name=""/>
            <p:cNvSpPr/>
            <p:nvPr/>
          </p:nvSpPr>
          <p:spPr>
            <a:xfrm>
              <a:off x="539640" y="3213000"/>
              <a:ext cx="2519280" cy="1297080"/>
            </a:xfrm>
            <a:prstGeom prst="ellipse">
              <a:avLst/>
            </a:prstGeom>
            <a:gradFill rotWithShape="0">
              <a:gsLst>
                <a:gs pos="0">
                  <a:srgbClr val="192a4b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431640" y="3011760"/>
              <a:ext cx="2753640" cy="1991880"/>
              <a:chOff x="431640" y="3011760"/>
              <a:chExt cx="2753640" cy="199188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431640" y="3011760"/>
                <a:ext cx="2753640" cy="1991880"/>
                <a:chOff x="431640" y="3011760"/>
                <a:chExt cx="2753640" cy="1991880"/>
              </a:xfrm>
            </p:grpSpPr>
            <p:pic>
              <p:nvPicPr>
                <p:cNvPr id="12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1640" y="3492360"/>
                  <a:ext cx="2736720" cy="151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" name=""/>
                <p:cNvSpPr/>
                <p:nvPr/>
              </p:nvSpPr>
              <p:spPr>
                <a:xfrm>
                  <a:off x="539640" y="3203640"/>
                  <a:ext cx="2519280" cy="1319040"/>
                </a:xfrm>
                <a:prstGeom prst="donut">
                  <a:avLst>
                    <a:gd name="adj" fmla="val 6050"/>
                  </a:avLst>
                </a:prstGeom>
                <a:gradFill rotWithShape="0">
                  <a:gsLst>
                    <a:gs pos="0">
                      <a:srgbClr val="686a6d"/>
                    </a:gs>
                    <a:gs pos="50000">
                      <a:srgbClr val="e2e8ee"/>
                    </a:gs>
                    <a:gs pos="100000">
                      <a:srgbClr val="686a6d"/>
                    </a:gs>
                  </a:gsLst>
                  <a:lin ang="8100000"/>
                </a:gradFill>
                <a:ln cap="rnd" w="1908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20926800">
                  <a:off x="1692000" y="4114440"/>
                  <a:ext cx="1455840" cy="52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20431200">
                  <a:off x="539640" y="3177720"/>
                  <a:ext cx="1063440" cy="38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223640" y="3671640"/>
                <a:ext cx="1155600" cy="420840"/>
                <a:chOff x="1223640" y="3671640"/>
                <a:chExt cx="1155600" cy="420840"/>
              </a:xfrm>
            </p:grpSpPr>
            <p:sp>
              <p:nvSpPr>
                <p:cNvPr id="129" name=""/>
                <p:cNvSpPr txBox="1"/>
                <p:nvPr/>
              </p:nvSpPr>
              <p:spPr>
                <a:xfrm>
                  <a:off x="1371240" y="3671640"/>
                  <a:ext cx="863640" cy="257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latin typeface="Arial Black"/>
                    </a:rPr>
                    <a:t>TEXT</a:t>
                  </a:r>
                  <a:endPara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30" name=""/>
                <p:cNvSpPr txBox="1"/>
                <p:nvPr/>
              </p:nvSpPr>
              <p:spPr>
                <a:xfrm>
                  <a:off x="1223640" y="3958920"/>
                  <a:ext cx="1155600" cy="133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latin typeface="Arial"/>
                    </a:rPr>
                    <a:t>ADD CONTENTS</a:t>
                  </a:r>
                  <a:endPara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Arial"/>
                  </a:endParaRPr>
                </a:p>
              </p:txBody>
            </p:sp>
          </p:grpSp>
        </p:grpSp>
      </p:grpSp>
      <p:grpSp>
        <p:nvGrpSpPr>
          <p:cNvPr id="131" name=""/>
          <p:cNvGrpSpPr/>
          <p:nvPr/>
        </p:nvGrpSpPr>
        <p:grpSpPr>
          <a:xfrm>
            <a:off x="3548160" y="1386720"/>
            <a:ext cx="2059920" cy="1489320"/>
            <a:chOff x="3548160" y="1386720"/>
            <a:chExt cx="2059920" cy="1489320"/>
          </a:xfrm>
        </p:grpSpPr>
        <p:sp>
          <p:nvSpPr>
            <p:cNvPr id="132" name=""/>
            <p:cNvSpPr/>
            <p:nvPr/>
          </p:nvSpPr>
          <p:spPr>
            <a:xfrm>
              <a:off x="3635280" y="1520640"/>
              <a:ext cx="1872720" cy="1008360"/>
            </a:xfrm>
            <a:prstGeom prst="ellipse">
              <a:avLst/>
            </a:prstGeom>
            <a:gradFill rotWithShape="0">
              <a:gsLst>
                <a:gs pos="0">
                  <a:srgbClr val="194b26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548160" y="1386720"/>
              <a:ext cx="2059920" cy="1489320"/>
              <a:chOff x="3548160" y="1386720"/>
              <a:chExt cx="2059920" cy="148932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3548160" y="1386720"/>
                <a:ext cx="2059920" cy="1489320"/>
                <a:chOff x="3548160" y="1386720"/>
                <a:chExt cx="2059920" cy="1489320"/>
              </a:xfrm>
            </p:grpSpPr>
            <p:pic>
              <p:nvPicPr>
                <p:cNvPr id="13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548160" y="1746000"/>
                  <a:ext cx="2047680" cy="1130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"/>
                <p:cNvSpPr/>
                <p:nvPr/>
              </p:nvSpPr>
              <p:spPr>
                <a:xfrm>
                  <a:off x="3628800" y="1530360"/>
                  <a:ext cx="1884960" cy="986400"/>
                </a:xfrm>
                <a:prstGeom prst="donut">
                  <a:avLst>
                    <a:gd name="adj" fmla="val 6050"/>
                  </a:avLst>
                </a:prstGeom>
                <a:gradFill rotWithShape="0">
                  <a:gsLst>
                    <a:gs pos="0">
                      <a:srgbClr val="686a6d"/>
                    </a:gs>
                    <a:gs pos="50000">
                      <a:srgbClr val="e2e8ee"/>
                    </a:gs>
                    <a:gs pos="100000">
                      <a:srgbClr val="686a6d"/>
                    </a:gs>
                  </a:gsLst>
                  <a:lin ang="8100000"/>
                </a:gradFill>
                <a:ln cap="rnd" w="1908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rot="20926800">
                  <a:off x="4490640" y="2211480"/>
                  <a:ext cx="1089000" cy="39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rot="20431200">
                  <a:off x="3628800" y="1510920"/>
                  <a:ext cx="795600" cy="288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4140720" y="1880280"/>
                <a:ext cx="864720" cy="314280"/>
                <a:chOff x="4140720" y="1880280"/>
                <a:chExt cx="864720" cy="314280"/>
              </a:xfrm>
            </p:grpSpPr>
            <p:sp>
              <p:nvSpPr>
                <p:cNvPr id="140" name=""/>
                <p:cNvSpPr txBox="1"/>
                <p:nvPr/>
              </p:nvSpPr>
              <p:spPr>
                <a:xfrm>
                  <a:off x="4250880" y="1880280"/>
                  <a:ext cx="646200" cy="191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latin typeface="Arial Black"/>
                    </a:rPr>
                    <a:t>TEXT</a:t>
                  </a:r>
                  <a:endPara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41" name=""/>
                <p:cNvSpPr txBox="1"/>
                <p:nvPr/>
              </p:nvSpPr>
              <p:spPr>
                <a:xfrm>
                  <a:off x="4140720" y="2094840"/>
                  <a:ext cx="864720" cy="99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latin typeface="Arial"/>
                    </a:rPr>
                    <a:t>ADD CONTENTS</a:t>
                  </a:r>
                  <a:endPara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Arial"/>
                  </a:endParaRPr>
                </a:p>
              </p:txBody>
            </p:sp>
          </p:grpSp>
        </p:grpSp>
      </p:grpSp>
      <p:grpSp>
        <p:nvGrpSpPr>
          <p:cNvPr id="142" name=""/>
          <p:cNvGrpSpPr/>
          <p:nvPr/>
        </p:nvGrpSpPr>
        <p:grpSpPr>
          <a:xfrm>
            <a:off x="5621400" y="1387080"/>
            <a:ext cx="2058480" cy="1488960"/>
            <a:chOff x="5621400" y="1387080"/>
            <a:chExt cx="2058480" cy="1488960"/>
          </a:xfrm>
        </p:grpSpPr>
        <p:sp>
          <p:nvSpPr>
            <p:cNvPr id="143" name=""/>
            <p:cNvSpPr/>
            <p:nvPr/>
          </p:nvSpPr>
          <p:spPr>
            <a:xfrm>
              <a:off x="5688000" y="1520640"/>
              <a:ext cx="1908360" cy="1008360"/>
            </a:xfrm>
            <a:prstGeom prst="ellipse">
              <a:avLst/>
            </a:prstGeom>
            <a:gradFill rotWithShape="0">
              <a:gsLst>
                <a:gs pos="0">
                  <a:srgbClr val="49471b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5621400" y="1387080"/>
              <a:ext cx="2058480" cy="1488960"/>
              <a:chOff x="5621400" y="1387080"/>
              <a:chExt cx="2058480" cy="148896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5621400" y="1387080"/>
                <a:ext cx="2058480" cy="1488960"/>
                <a:chOff x="5621400" y="1387080"/>
                <a:chExt cx="2058480" cy="1488960"/>
              </a:xfrm>
            </p:grpSpPr>
            <p:pic>
              <p:nvPicPr>
                <p:cNvPr id="14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621400" y="1746000"/>
                  <a:ext cx="2046240" cy="1130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" name=""/>
                <p:cNvSpPr/>
                <p:nvPr/>
              </p:nvSpPr>
              <p:spPr>
                <a:xfrm>
                  <a:off x="5702040" y="1530360"/>
                  <a:ext cx="1883520" cy="986400"/>
                </a:xfrm>
                <a:prstGeom prst="donut">
                  <a:avLst>
                    <a:gd name="adj" fmla="val 6050"/>
                  </a:avLst>
                </a:prstGeom>
                <a:gradFill rotWithShape="0">
                  <a:gsLst>
                    <a:gs pos="0">
                      <a:srgbClr val="686a6d"/>
                    </a:gs>
                    <a:gs pos="50000">
                      <a:srgbClr val="e2e8ee"/>
                    </a:gs>
                    <a:gs pos="100000">
                      <a:srgbClr val="686a6d"/>
                    </a:gs>
                  </a:gsLst>
                  <a:lin ang="8100000"/>
                </a:gradFill>
                <a:ln cap="rnd" w="1908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rot="20926800">
                  <a:off x="6563160" y="2211120"/>
                  <a:ext cx="1088280" cy="39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rot="20431200">
                  <a:off x="5702040" y="1510920"/>
                  <a:ext cx="794880" cy="288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6213600" y="1880280"/>
                <a:ext cx="864000" cy="314280"/>
                <a:chOff x="6213600" y="1880280"/>
                <a:chExt cx="864000" cy="314280"/>
              </a:xfrm>
            </p:grpSpPr>
            <p:sp>
              <p:nvSpPr>
                <p:cNvPr id="151" name=""/>
                <p:cNvSpPr txBox="1"/>
                <p:nvPr/>
              </p:nvSpPr>
              <p:spPr>
                <a:xfrm>
                  <a:off x="6323760" y="1880280"/>
                  <a:ext cx="645480" cy="191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latin typeface="Arial Black"/>
                    </a:rPr>
                    <a:t>TEXT</a:t>
                  </a:r>
                  <a:endPara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52" name=""/>
                <p:cNvSpPr txBox="1"/>
                <p:nvPr/>
              </p:nvSpPr>
              <p:spPr>
                <a:xfrm>
                  <a:off x="6213600" y="2094840"/>
                  <a:ext cx="864000" cy="99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latin typeface="Arial"/>
                    </a:rPr>
                    <a:t>ADD CONTENTS</a:t>
                  </a:r>
                  <a:endPara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Arial"/>
                  </a:endParaRPr>
                </a:p>
              </p:txBody>
            </p:sp>
          </p:grpSp>
        </p:grpSp>
      </p:grpSp>
      <p:grpSp>
        <p:nvGrpSpPr>
          <p:cNvPr id="153" name=""/>
          <p:cNvGrpSpPr/>
          <p:nvPr/>
        </p:nvGrpSpPr>
        <p:grpSpPr>
          <a:xfrm>
            <a:off x="1476360" y="1387080"/>
            <a:ext cx="2058480" cy="1488960"/>
            <a:chOff x="1476360" y="1387080"/>
            <a:chExt cx="2058480" cy="1488960"/>
          </a:xfrm>
        </p:grpSpPr>
        <p:sp>
          <p:nvSpPr>
            <p:cNvPr id="154" name=""/>
            <p:cNvSpPr/>
            <p:nvPr/>
          </p:nvSpPr>
          <p:spPr>
            <a:xfrm>
              <a:off x="1547640" y="1520640"/>
              <a:ext cx="1873440" cy="1008360"/>
            </a:xfrm>
            <a:prstGeom prst="ellipse">
              <a:avLst/>
            </a:prstGeom>
            <a:gradFill rotWithShape="0">
              <a:gsLst>
                <a:gs pos="0">
                  <a:srgbClr val="19434b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1476360" y="1387080"/>
              <a:ext cx="2058480" cy="1488960"/>
              <a:chOff x="1476360" y="1387080"/>
              <a:chExt cx="2058480" cy="1488960"/>
            </a:xfrm>
          </p:grpSpPr>
          <p:pic>
            <p:nvPicPr>
              <p:cNvPr id="15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476360" y="1746000"/>
                <a:ext cx="2046240" cy="113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1557000" y="1530360"/>
                <a:ext cx="1883520" cy="986400"/>
              </a:xfrm>
              <a:prstGeom prst="donut">
                <a:avLst>
                  <a:gd name="adj" fmla="val 6050"/>
                </a:avLst>
              </a:prstGeom>
              <a:gradFill rotWithShape="0">
                <a:gsLst>
                  <a:gs pos="0">
                    <a:srgbClr val="686a6d"/>
                  </a:gs>
                  <a:gs pos="50000">
                    <a:srgbClr val="e2e8ee"/>
                  </a:gs>
                  <a:gs pos="100000">
                    <a:srgbClr val="686a6d"/>
                  </a:gs>
                </a:gsLst>
                <a:lin ang="8100000"/>
              </a:gra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0926800">
                <a:off x="2418120" y="2211120"/>
                <a:ext cx="1088280" cy="39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0431200">
                <a:off x="1557000" y="1510920"/>
                <a:ext cx="794880" cy="288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068560" y="1881000"/>
              <a:ext cx="863640" cy="314280"/>
              <a:chOff x="2068560" y="1881000"/>
              <a:chExt cx="863640" cy="314280"/>
            </a:xfrm>
          </p:grpSpPr>
          <p:sp>
            <p:nvSpPr>
              <p:cNvPr id="161" name=""/>
              <p:cNvSpPr txBox="1"/>
              <p:nvPr/>
            </p:nvSpPr>
            <p:spPr>
              <a:xfrm>
                <a:off x="2178720" y="1881000"/>
                <a:ext cx="645480" cy="191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2068560" y="2095560"/>
                <a:ext cx="863640" cy="99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163" name=""/>
          <p:cNvSpPr/>
          <p:nvPr/>
        </p:nvSpPr>
        <p:spPr>
          <a:xfrm flipV="1">
            <a:off x="2592360" y="4498200"/>
            <a:ext cx="1079640" cy="576360"/>
          </a:xfrm>
          <a:custGeom>
            <a:avLst/>
            <a:gdLst>
              <a:gd name="textAreaLeft" fmla="*/ 0 w 1079640"/>
              <a:gd name="textAreaRight" fmla="*/ 1080000 w 1079640"/>
              <a:gd name="textAreaTop" fmla="*/ -360 h 576360"/>
              <a:gd name="textAreaBottom" fmla="*/ 576360 h 576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arcTo wR="-5400" hR="-5400" stAng="-10800000" swAng="-10800000"/>
                <a:lnTo>
                  <a:pt x="0" y="10800"/>
                </a:lnTo>
                <a:arcTo wR="10800" hR="10800" stAng="-10800000" swAng="10800000"/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327640" y="4498200"/>
            <a:ext cx="1079640" cy="576360"/>
          </a:xfrm>
          <a:custGeom>
            <a:avLst/>
            <a:gdLst>
              <a:gd name="textAreaLeft" fmla="*/ 0 w 1079640"/>
              <a:gd name="textAreaRight" fmla="*/ 1080000 w 1079640"/>
              <a:gd name="textAreaTop" fmla="*/ -360 h 576360"/>
              <a:gd name="textAreaBottom" fmla="*/ 576360 h 576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arcTo wR="-5400" hR="-5400" stAng="-10800000" swAng="-10800000"/>
                <a:lnTo>
                  <a:pt x="0" y="10800"/>
                </a:lnTo>
                <a:arcTo wR="10800" hR="10800" stAng="-10800000" swAng="10800000"/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292000" y="2495520"/>
            <a:ext cx="826920" cy="455760"/>
          </a:xfrm>
          <a:custGeom>
            <a:avLst/>
            <a:gdLst>
              <a:gd name="textAreaLeft" fmla="*/ -360 w 826920"/>
              <a:gd name="textAreaRight" fmla="*/ 826920 w 826920"/>
              <a:gd name="textAreaTop" fmla="*/ 360 h 455760"/>
              <a:gd name="textAreaBottom" fmla="*/ 456480 h 4557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arcTo wR="-5400" hR="-5400" stAng="-10800000" swAng="-10800000"/>
                <a:lnTo>
                  <a:pt x="0" y="10800"/>
                </a:lnTo>
                <a:arcTo wR="10800" hR="10800" stAng="-10800000" swAng="10800000"/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3202920" y="2495520"/>
            <a:ext cx="826920" cy="455760"/>
          </a:xfrm>
          <a:custGeom>
            <a:avLst/>
            <a:gdLst>
              <a:gd name="textAreaLeft" fmla="*/ -360 w 826920"/>
              <a:gd name="textAreaRight" fmla="*/ 826920 w 826920"/>
              <a:gd name="textAreaTop" fmla="*/ 360 h 455760"/>
              <a:gd name="textAreaBottom" fmla="*/ 456480 h 4557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arcTo wR="-5400" hR="-5400" stAng="-10800000" swAng="-10800000"/>
                <a:lnTo>
                  <a:pt x="0" y="10800"/>
                </a:lnTo>
                <a:arcTo wR="10800" hR="10800" stAng="-10800000" swAng="10800000"/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7" name=""/>
          <p:cNvSpPr/>
          <p:nvPr/>
        </p:nvSpPr>
        <p:spPr>
          <a:xfrm flipV="1" rot="17026200">
            <a:off x="7388280" y="2473920"/>
            <a:ext cx="534960" cy="982800"/>
          </a:xfrm>
          <a:custGeom>
            <a:avLst/>
            <a:gdLst>
              <a:gd name="textAreaLeft" fmla="*/ 0 w 534960"/>
              <a:gd name="textAreaRight" fmla="*/ 535320 w 534960"/>
              <a:gd name="textAreaTop" fmla="*/ 360 h 982800"/>
              <a:gd name="textAreaBottom" fmla="*/ 983520 h 982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arcTo wR="-5400" hR="-5400" stAng="-10800000" swAng="-6822447"/>
                <a:lnTo>
                  <a:pt x="6458" y="911"/>
                </a:lnTo>
                <a:arcTo wR="10800" hR="10800" stAng="-6822447" swAng="6822447"/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8" name=""/>
          <p:cNvSpPr/>
          <p:nvPr/>
        </p:nvSpPr>
        <p:spPr>
          <a:xfrm flipV="1" rot="9211800">
            <a:off x="791640" y="2481840"/>
            <a:ext cx="1033560" cy="544320"/>
          </a:xfrm>
          <a:custGeom>
            <a:avLst/>
            <a:gdLst>
              <a:gd name="textAreaLeft" fmla="*/ 0 w 1033560"/>
              <a:gd name="textAreaRight" fmla="*/ 1033560 w 1033560"/>
              <a:gd name="textAreaTop" fmla="*/ 360 h 544320"/>
              <a:gd name="textAreaBottom" fmla="*/ 545040 h 5443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arcTo wR="-5400" hR="-5400" stAng="-10800000" swAng="-6626776"/>
                <a:lnTo>
                  <a:pt x="7027" y="680"/>
                </a:lnTo>
                <a:arcTo wR="10800" hR="10800" stAng="-6626776" swAng="6626776"/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1280" y="1369080"/>
            <a:ext cx="723600" cy="523080"/>
            <a:chOff x="611280" y="1369080"/>
            <a:chExt cx="723600" cy="523080"/>
          </a:xfrm>
        </p:grpSpPr>
        <p:pic>
          <p:nvPicPr>
            <p:cNvPr id="170" name="" descr=""/>
            <p:cNvPicPr/>
            <p:nvPr/>
          </p:nvPicPr>
          <p:blipFill>
            <a:blip r:embed="rId7"/>
            <a:stretch/>
          </p:blipFill>
          <p:spPr>
            <a:xfrm>
              <a:off x="611280" y="1495440"/>
              <a:ext cx="71892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639360" y="1419480"/>
              <a:ext cx="662040" cy="346320"/>
            </a:xfrm>
            <a:prstGeom prst="donut">
              <a:avLst>
                <a:gd name="adj" fmla="val 6050"/>
              </a:avLst>
            </a:prstGeom>
            <a:gradFill rotWithShape="0">
              <a:gsLst>
                <a:gs pos="0">
                  <a:srgbClr val="686a6d"/>
                </a:gs>
                <a:gs pos="50000">
                  <a:srgbClr val="e2e8ee"/>
                </a:gs>
                <a:gs pos="100000">
                  <a:srgbClr val="686a6d"/>
                </a:gs>
              </a:gsLst>
              <a:lin ang="8100000"/>
            </a:gra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0926800">
              <a:off x="942480" y="1658880"/>
              <a:ext cx="382320" cy="13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20431200">
              <a:off x="639360" y="1412640"/>
              <a:ext cx="279360" cy="101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7667640" y="1045080"/>
            <a:ext cx="723960" cy="523440"/>
            <a:chOff x="7667640" y="1045080"/>
            <a:chExt cx="723960" cy="523440"/>
          </a:xfrm>
        </p:grpSpPr>
        <p:pic>
          <p:nvPicPr>
            <p:cNvPr id="175" name="" descr=""/>
            <p:cNvPicPr/>
            <p:nvPr/>
          </p:nvPicPr>
          <p:blipFill>
            <a:blip r:embed="rId8"/>
            <a:stretch/>
          </p:blipFill>
          <p:spPr>
            <a:xfrm>
              <a:off x="7667640" y="1171440"/>
              <a:ext cx="7192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7695720" y="1095480"/>
              <a:ext cx="662040" cy="346320"/>
            </a:xfrm>
            <a:prstGeom prst="donut">
              <a:avLst>
                <a:gd name="adj" fmla="val 6050"/>
              </a:avLst>
            </a:prstGeom>
            <a:gradFill rotWithShape="0">
              <a:gsLst>
                <a:gs pos="0">
                  <a:srgbClr val="686a6d"/>
                </a:gs>
                <a:gs pos="50000">
                  <a:srgbClr val="e2e8ee"/>
                </a:gs>
                <a:gs pos="100000">
                  <a:srgbClr val="686a6d"/>
                </a:gs>
              </a:gsLst>
              <a:lin ang="8100000"/>
            </a:gra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20926800">
              <a:off x="7998840" y="1334520"/>
              <a:ext cx="382680" cy="13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0431200">
              <a:off x="7695720" y="1088640"/>
              <a:ext cx="279360" cy="101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319640" y="4826520"/>
            <a:ext cx="1305000" cy="943560"/>
            <a:chOff x="4319640" y="4826520"/>
            <a:chExt cx="1305000" cy="943560"/>
          </a:xfrm>
        </p:grpSpPr>
        <p:pic>
          <p:nvPicPr>
            <p:cNvPr id="180" name="" descr=""/>
            <p:cNvPicPr/>
            <p:nvPr/>
          </p:nvPicPr>
          <p:blipFill>
            <a:blip r:embed="rId9"/>
            <a:stretch/>
          </p:blipFill>
          <p:spPr>
            <a:xfrm>
              <a:off x="4319640" y="5054040"/>
              <a:ext cx="1297080" cy="7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370760" y="4917240"/>
              <a:ext cx="1194120" cy="624960"/>
            </a:xfrm>
            <a:prstGeom prst="donut">
              <a:avLst>
                <a:gd name="adj" fmla="val 6050"/>
              </a:avLst>
            </a:prstGeom>
            <a:gradFill rotWithShape="0">
              <a:gsLst>
                <a:gs pos="0">
                  <a:srgbClr val="686a6d"/>
                </a:gs>
                <a:gs pos="50000">
                  <a:srgbClr val="e2e8ee"/>
                </a:gs>
                <a:gs pos="100000">
                  <a:srgbClr val="686a6d"/>
                </a:gs>
              </a:gsLst>
              <a:lin ang="8100000"/>
            </a:gra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0926800">
              <a:off x="4916880" y="5348880"/>
              <a:ext cx="689760" cy="25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20431200">
              <a:off x="4370400" y="4905360"/>
              <a:ext cx="504000" cy="182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7380360" y="5202000"/>
            <a:ext cx="1050480" cy="760680"/>
            <a:chOff x="7380360" y="5202000"/>
            <a:chExt cx="1050480" cy="760680"/>
          </a:xfrm>
        </p:grpSpPr>
        <p:pic>
          <p:nvPicPr>
            <p:cNvPr id="185" name="" descr=""/>
            <p:cNvPicPr/>
            <p:nvPr/>
          </p:nvPicPr>
          <p:blipFill>
            <a:blip r:embed="rId10"/>
            <a:stretch/>
          </p:blipFill>
          <p:spPr>
            <a:xfrm>
              <a:off x="7380360" y="5385600"/>
              <a:ext cx="1044360" cy="57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7421400" y="5275440"/>
              <a:ext cx="961560" cy="503640"/>
            </a:xfrm>
            <a:prstGeom prst="donut">
              <a:avLst>
                <a:gd name="adj" fmla="val 6050"/>
              </a:avLst>
            </a:prstGeom>
            <a:gradFill rotWithShape="0">
              <a:gsLst>
                <a:gs pos="0">
                  <a:srgbClr val="686a6d"/>
                </a:gs>
                <a:gs pos="50000">
                  <a:srgbClr val="e2e8ee"/>
                </a:gs>
                <a:gs pos="100000">
                  <a:srgbClr val="686a6d"/>
                </a:gs>
              </a:gsLst>
              <a:lin ang="8100000"/>
            </a:gra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20926800">
              <a:off x="7860960" y="5622840"/>
              <a:ext cx="55548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431200">
              <a:off x="7421040" y="5265360"/>
              <a:ext cx="405720" cy="147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704000" y="5384160"/>
            <a:ext cx="434880" cy="313200"/>
            <a:chOff x="7704000" y="5384160"/>
            <a:chExt cx="434880" cy="313200"/>
          </a:xfrm>
        </p:grpSpPr>
        <p:pic>
          <p:nvPicPr>
            <p:cNvPr id="190" name="" descr=""/>
            <p:cNvPicPr/>
            <p:nvPr/>
          </p:nvPicPr>
          <p:blipFill>
            <a:blip r:embed="rId11"/>
            <a:stretch/>
          </p:blipFill>
          <p:spPr>
            <a:xfrm>
              <a:off x="7704000" y="5459400"/>
              <a:ext cx="43200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7720920" y="5414040"/>
              <a:ext cx="397800" cy="207720"/>
            </a:xfrm>
            <a:prstGeom prst="donut">
              <a:avLst>
                <a:gd name="adj" fmla="val 6050"/>
              </a:avLst>
            </a:prstGeom>
            <a:gradFill rotWithShape="0">
              <a:gsLst>
                <a:gs pos="0">
                  <a:srgbClr val="686a6d"/>
                </a:gs>
                <a:gs pos="50000">
                  <a:srgbClr val="e2e8ee"/>
                </a:gs>
                <a:gs pos="100000">
                  <a:srgbClr val="686a6d"/>
                </a:gs>
              </a:gsLst>
              <a:lin ang="8100000"/>
            </a:gra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0926800">
              <a:off x="7903080" y="5556960"/>
              <a:ext cx="229680" cy="8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20431200">
              <a:off x="7720560" y="5410080"/>
              <a:ext cx="167760" cy="6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456000" y="1136160"/>
            <a:ext cx="434520" cy="313200"/>
            <a:chOff x="3456000" y="1136160"/>
            <a:chExt cx="434520" cy="313200"/>
          </a:xfrm>
        </p:grpSpPr>
        <p:pic>
          <p:nvPicPr>
            <p:cNvPr id="195" name="" descr=""/>
            <p:cNvPicPr/>
            <p:nvPr/>
          </p:nvPicPr>
          <p:blipFill>
            <a:blip r:embed="rId12"/>
            <a:stretch/>
          </p:blipFill>
          <p:spPr>
            <a:xfrm>
              <a:off x="3456000" y="1211400"/>
              <a:ext cx="43164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3472920" y="1166040"/>
              <a:ext cx="397440" cy="207720"/>
            </a:xfrm>
            <a:prstGeom prst="donut">
              <a:avLst>
                <a:gd name="adj" fmla="val 6050"/>
              </a:avLst>
            </a:prstGeom>
            <a:gradFill rotWithShape="0">
              <a:gsLst>
                <a:gs pos="0">
                  <a:srgbClr val="686a6d"/>
                </a:gs>
                <a:gs pos="50000">
                  <a:srgbClr val="e2e8ee"/>
                </a:gs>
                <a:gs pos="100000">
                  <a:srgbClr val="686a6d"/>
                </a:gs>
              </a:gsLst>
              <a:lin ang="8100000"/>
            </a:gra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20926800">
              <a:off x="3654720" y="1308960"/>
              <a:ext cx="229680" cy="8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20431200">
              <a:off x="3472560" y="1162080"/>
              <a:ext cx="167760" cy="6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079640" y="5410080"/>
            <a:ext cx="579600" cy="419040"/>
            <a:chOff x="1079640" y="5410080"/>
            <a:chExt cx="579600" cy="419040"/>
          </a:xfrm>
        </p:grpSpPr>
        <p:pic>
          <p:nvPicPr>
            <p:cNvPr id="200" name="" descr=""/>
            <p:cNvPicPr/>
            <p:nvPr/>
          </p:nvPicPr>
          <p:blipFill>
            <a:blip r:embed="rId13"/>
            <a:stretch/>
          </p:blipFill>
          <p:spPr>
            <a:xfrm>
              <a:off x="1079640" y="5510880"/>
              <a:ext cx="576000" cy="3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102320" y="5450040"/>
              <a:ext cx="530280" cy="277920"/>
            </a:xfrm>
            <a:prstGeom prst="donut">
              <a:avLst>
                <a:gd name="adj" fmla="val 6050"/>
              </a:avLst>
            </a:prstGeom>
            <a:gradFill rotWithShape="0">
              <a:gsLst>
                <a:gs pos="0">
                  <a:srgbClr val="686a6d"/>
                </a:gs>
                <a:gs pos="50000">
                  <a:srgbClr val="e2e8ee"/>
                </a:gs>
                <a:gs pos="100000">
                  <a:srgbClr val="686a6d"/>
                </a:gs>
              </a:gsLst>
              <a:lin ang="8100000"/>
            </a:gra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20926800">
              <a:off x="1344600" y="5642280"/>
              <a:ext cx="306360" cy="11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431200">
              <a:off x="1101960" y="5444640"/>
              <a:ext cx="22392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311640" y="3213000"/>
            <a:ext cx="2519280" cy="1297080"/>
          </a:xfrm>
          <a:prstGeom prst="ellipse">
            <a:avLst/>
          </a:prstGeom>
          <a:gradFill rotWithShape="0">
            <a:gsLst>
              <a:gs pos="0">
                <a:srgbClr val="47194b"/>
              </a:gs>
              <a:gs pos="100000">
                <a:srgbClr val="fefefe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5" name=""/>
          <p:cNvSpPr/>
          <p:nvPr/>
        </p:nvSpPr>
        <p:spPr>
          <a:xfrm>
            <a:off x="6084720" y="3213000"/>
            <a:ext cx="2519640" cy="1297080"/>
          </a:xfrm>
          <a:prstGeom prst="ellipse">
            <a:avLst/>
          </a:prstGeom>
          <a:gradFill rotWithShape="0">
            <a:gsLst>
              <a:gs pos="0">
                <a:srgbClr val="4b1919"/>
              </a:gs>
              <a:gs pos="100000">
                <a:srgbClr val="fefefe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6" name=""/>
          <p:cNvSpPr/>
          <p:nvPr/>
        </p:nvSpPr>
        <p:spPr>
          <a:xfrm>
            <a:off x="5688000" y="1521000"/>
            <a:ext cx="1908360" cy="1008000"/>
          </a:xfrm>
          <a:prstGeom prst="ellipse">
            <a:avLst/>
          </a:prstGeom>
          <a:gradFill rotWithShape="0">
            <a:gsLst>
              <a:gs pos="0">
                <a:srgbClr val="49471b"/>
              </a:gs>
              <a:gs pos="100000">
                <a:srgbClr val="fefefe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7" name=""/>
          <p:cNvSpPr/>
          <p:nvPr/>
        </p:nvSpPr>
        <p:spPr>
          <a:xfrm>
            <a:off x="3635280" y="1521000"/>
            <a:ext cx="1873440" cy="1008000"/>
          </a:xfrm>
          <a:prstGeom prst="ellipse">
            <a:avLst/>
          </a:prstGeom>
          <a:gradFill rotWithShape="0">
            <a:gsLst>
              <a:gs pos="0">
                <a:srgbClr val="194b26"/>
              </a:gs>
              <a:gs pos="100000">
                <a:srgbClr val="fefefe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8" name=""/>
          <p:cNvSpPr/>
          <p:nvPr/>
        </p:nvSpPr>
        <p:spPr>
          <a:xfrm>
            <a:off x="1547640" y="1521000"/>
            <a:ext cx="1873440" cy="1008000"/>
          </a:xfrm>
          <a:prstGeom prst="ellipse">
            <a:avLst/>
          </a:prstGeom>
          <a:gradFill rotWithShape="0">
            <a:gsLst>
              <a:gs pos="0">
                <a:srgbClr val="19434b"/>
              </a:gs>
              <a:gs pos="100000">
                <a:srgbClr val="fefefe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3213000"/>
            <a:ext cx="2519640" cy="1297080"/>
          </a:xfrm>
          <a:prstGeom prst="ellipse">
            <a:avLst/>
          </a:prstGeom>
          <a:gradFill rotWithShape="0">
            <a:gsLst>
              <a:gs pos="0">
                <a:srgbClr val="192a4b"/>
              </a:gs>
              <a:gs pos="100000">
                <a:srgbClr val="fefefe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31640" y="3011760"/>
            <a:ext cx="8297280" cy="1991880"/>
            <a:chOff x="431640" y="3011760"/>
            <a:chExt cx="8297280" cy="1991880"/>
          </a:xfrm>
        </p:grpSpPr>
        <p:grpSp>
          <p:nvGrpSpPr>
            <p:cNvPr id="211" name=""/>
            <p:cNvGrpSpPr/>
            <p:nvPr/>
          </p:nvGrpSpPr>
          <p:grpSpPr>
            <a:xfrm>
              <a:off x="3203280" y="3011760"/>
              <a:ext cx="2753640" cy="1991880"/>
              <a:chOff x="3203280" y="3011760"/>
              <a:chExt cx="2753640" cy="199188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3203280" y="3011760"/>
                <a:ext cx="2753640" cy="1991880"/>
                <a:chOff x="3203280" y="3011760"/>
                <a:chExt cx="2753640" cy="1991880"/>
              </a:xfrm>
            </p:grpSpPr>
            <p:pic>
              <p:nvPicPr>
                <p:cNvPr id="21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203280" y="3492360"/>
                  <a:ext cx="2736720" cy="151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"/>
                <p:cNvSpPr/>
                <p:nvPr/>
              </p:nvSpPr>
              <p:spPr>
                <a:xfrm>
                  <a:off x="3311280" y="3203640"/>
                  <a:ext cx="2519280" cy="1319040"/>
                </a:xfrm>
                <a:prstGeom prst="donut">
                  <a:avLst>
                    <a:gd name="adj" fmla="val 6050"/>
                  </a:avLst>
                </a:prstGeom>
                <a:gradFill rotWithShape="0">
                  <a:gsLst>
                    <a:gs pos="0">
                      <a:srgbClr val="686a6d"/>
                    </a:gs>
                    <a:gs pos="50000">
                      <a:srgbClr val="e2e8ee"/>
                    </a:gs>
                    <a:gs pos="100000">
                      <a:srgbClr val="686a6d"/>
                    </a:gs>
                  </a:gsLst>
                  <a:lin ang="8100000"/>
                </a:gradFill>
                <a:ln cap="rnd" w="1908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20926800">
                  <a:off x="4463640" y="4114440"/>
                  <a:ext cx="1455840" cy="52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20431200">
                  <a:off x="3311280" y="3177720"/>
                  <a:ext cx="1063440" cy="38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3995280" y="3671640"/>
                <a:ext cx="1155600" cy="420840"/>
                <a:chOff x="3995280" y="3671640"/>
                <a:chExt cx="1155600" cy="420840"/>
              </a:xfrm>
            </p:grpSpPr>
            <p:sp>
              <p:nvSpPr>
                <p:cNvPr id="218" name=""/>
                <p:cNvSpPr txBox="1"/>
                <p:nvPr/>
              </p:nvSpPr>
              <p:spPr>
                <a:xfrm>
                  <a:off x="4142880" y="3671640"/>
                  <a:ext cx="863640" cy="257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latin typeface="Arial Black"/>
                    </a:rPr>
                    <a:t>TEXT</a:t>
                  </a:r>
                  <a:endPara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19" name=""/>
                <p:cNvSpPr txBox="1"/>
                <p:nvPr/>
              </p:nvSpPr>
              <p:spPr>
                <a:xfrm>
                  <a:off x="3995280" y="3958920"/>
                  <a:ext cx="1155600" cy="133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latin typeface="Arial"/>
                    </a:rPr>
                    <a:t>ADD CONTENTS</a:t>
                  </a:r>
                  <a:endPara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Arial"/>
                  </a:endParaRPr>
                </a:p>
              </p:txBody>
            </p:sp>
          </p:grpSp>
        </p:grpSp>
        <p:grpSp>
          <p:nvGrpSpPr>
            <p:cNvPr id="220" name=""/>
            <p:cNvGrpSpPr/>
            <p:nvPr/>
          </p:nvGrpSpPr>
          <p:grpSpPr>
            <a:xfrm>
              <a:off x="5975280" y="3011760"/>
              <a:ext cx="2753640" cy="1991880"/>
              <a:chOff x="5975280" y="3011760"/>
              <a:chExt cx="2753640" cy="199188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5975280" y="3011760"/>
                <a:ext cx="2753640" cy="1991880"/>
                <a:chOff x="5975280" y="3011760"/>
                <a:chExt cx="2753640" cy="1991880"/>
              </a:xfrm>
            </p:grpSpPr>
            <p:pic>
              <p:nvPicPr>
                <p:cNvPr id="22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975280" y="3492360"/>
                  <a:ext cx="2736720" cy="151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"/>
                <p:cNvSpPr/>
                <p:nvPr/>
              </p:nvSpPr>
              <p:spPr>
                <a:xfrm>
                  <a:off x="6083280" y="3203640"/>
                  <a:ext cx="2519280" cy="1319040"/>
                </a:xfrm>
                <a:prstGeom prst="donut">
                  <a:avLst>
                    <a:gd name="adj" fmla="val 6050"/>
                  </a:avLst>
                </a:prstGeom>
                <a:gradFill rotWithShape="0">
                  <a:gsLst>
                    <a:gs pos="0">
                      <a:srgbClr val="686a6d"/>
                    </a:gs>
                    <a:gs pos="50000">
                      <a:srgbClr val="e2e8ee"/>
                    </a:gs>
                    <a:gs pos="100000">
                      <a:srgbClr val="686a6d"/>
                    </a:gs>
                  </a:gsLst>
                  <a:lin ang="8100000"/>
                </a:gradFill>
                <a:ln cap="rnd" w="1908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rot="20926800">
                  <a:off x="7235640" y="4114440"/>
                  <a:ext cx="1455840" cy="52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rot="20431200">
                  <a:off x="6083280" y="3177720"/>
                  <a:ext cx="1063440" cy="38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6767280" y="3671640"/>
                <a:ext cx="1155600" cy="420840"/>
                <a:chOff x="6767280" y="3671640"/>
                <a:chExt cx="1155600" cy="420840"/>
              </a:xfrm>
            </p:grpSpPr>
            <p:sp>
              <p:nvSpPr>
                <p:cNvPr id="227" name=""/>
                <p:cNvSpPr txBox="1"/>
                <p:nvPr/>
              </p:nvSpPr>
              <p:spPr>
                <a:xfrm>
                  <a:off x="6914880" y="3671640"/>
                  <a:ext cx="863640" cy="257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latin typeface="Arial Black"/>
                    </a:rPr>
                    <a:t>TEXT</a:t>
                  </a:r>
                  <a:endPara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28" name=""/>
                <p:cNvSpPr txBox="1"/>
                <p:nvPr/>
              </p:nvSpPr>
              <p:spPr>
                <a:xfrm>
                  <a:off x="6767280" y="3958920"/>
                  <a:ext cx="1155600" cy="133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latin typeface="Arial"/>
                    </a:rPr>
                    <a:t>ADD CONTENTS</a:t>
                  </a:r>
                  <a:endPara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431640" y="3011760"/>
              <a:ext cx="2753640" cy="1991880"/>
              <a:chOff x="431640" y="3011760"/>
              <a:chExt cx="2753640" cy="199188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431640" y="3011760"/>
                <a:ext cx="2753640" cy="1991880"/>
                <a:chOff x="431640" y="3011760"/>
                <a:chExt cx="2753640" cy="1991880"/>
              </a:xfrm>
            </p:grpSpPr>
            <p:pic>
              <p:nvPicPr>
                <p:cNvPr id="23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1640" y="3492360"/>
                  <a:ext cx="2736720" cy="151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2" name=""/>
                <p:cNvSpPr/>
                <p:nvPr/>
              </p:nvSpPr>
              <p:spPr>
                <a:xfrm>
                  <a:off x="539640" y="3203640"/>
                  <a:ext cx="2519280" cy="1319040"/>
                </a:xfrm>
                <a:prstGeom prst="donut">
                  <a:avLst>
                    <a:gd name="adj" fmla="val 6050"/>
                  </a:avLst>
                </a:prstGeom>
                <a:gradFill rotWithShape="0">
                  <a:gsLst>
                    <a:gs pos="0">
                      <a:srgbClr val="686a6d"/>
                    </a:gs>
                    <a:gs pos="50000">
                      <a:srgbClr val="e2e8ee"/>
                    </a:gs>
                    <a:gs pos="100000">
                      <a:srgbClr val="686a6d"/>
                    </a:gs>
                  </a:gsLst>
                  <a:lin ang="8100000"/>
                </a:gradFill>
                <a:ln cap="rnd" w="1908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0926800">
                  <a:off x="1692000" y="4114440"/>
                  <a:ext cx="1455840" cy="52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rot="20431200">
                  <a:off x="539640" y="3177720"/>
                  <a:ext cx="1063440" cy="38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1223640" y="3671640"/>
                <a:ext cx="1155600" cy="420840"/>
                <a:chOff x="1223640" y="3671640"/>
                <a:chExt cx="1155600" cy="420840"/>
              </a:xfrm>
            </p:grpSpPr>
            <p:sp>
              <p:nvSpPr>
                <p:cNvPr id="236" name=""/>
                <p:cNvSpPr txBox="1"/>
                <p:nvPr/>
              </p:nvSpPr>
              <p:spPr>
                <a:xfrm>
                  <a:off x="1371240" y="3671640"/>
                  <a:ext cx="863640" cy="257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latin typeface="Arial Black"/>
                    </a:rPr>
                    <a:t>TEXT</a:t>
                  </a:r>
                  <a:endPara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37" name=""/>
                <p:cNvSpPr txBox="1"/>
                <p:nvPr/>
              </p:nvSpPr>
              <p:spPr>
                <a:xfrm>
                  <a:off x="1223640" y="3958920"/>
                  <a:ext cx="1155600" cy="133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latin typeface="Arial"/>
                    </a:rPr>
                    <a:t>ADD CONTENTS</a:t>
                  </a:r>
                  <a:endPara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Arial"/>
                  </a:endParaRPr>
                </a:p>
              </p:txBody>
            </p:sp>
          </p:grpSp>
        </p:grpSp>
      </p:grpSp>
      <p:grpSp>
        <p:nvGrpSpPr>
          <p:cNvPr id="238" name=""/>
          <p:cNvGrpSpPr/>
          <p:nvPr/>
        </p:nvGrpSpPr>
        <p:grpSpPr>
          <a:xfrm>
            <a:off x="1476360" y="1387080"/>
            <a:ext cx="6203520" cy="1488960"/>
            <a:chOff x="1476360" y="1387080"/>
            <a:chExt cx="6203520" cy="1488960"/>
          </a:xfrm>
        </p:grpSpPr>
        <p:grpSp>
          <p:nvGrpSpPr>
            <p:cNvPr id="239" name=""/>
            <p:cNvGrpSpPr/>
            <p:nvPr/>
          </p:nvGrpSpPr>
          <p:grpSpPr>
            <a:xfrm>
              <a:off x="3548520" y="1387080"/>
              <a:ext cx="2058480" cy="1488960"/>
              <a:chOff x="3548520" y="1387080"/>
              <a:chExt cx="2058480" cy="1488960"/>
            </a:xfrm>
          </p:grpSpPr>
          <p:grpSp>
            <p:nvGrpSpPr>
              <p:cNvPr id="240" name=""/>
              <p:cNvGrpSpPr/>
              <p:nvPr/>
            </p:nvGrpSpPr>
            <p:grpSpPr>
              <a:xfrm>
                <a:off x="3548520" y="1387080"/>
                <a:ext cx="2058480" cy="1488960"/>
                <a:chOff x="3548520" y="1387080"/>
                <a:chExt cx="2058480" cy="1488960"/>
              </a:xfrm>
            </p:grpSpPr>
            <p:pic>
              <p:nvPicPr>
                <p:cNvPr id="24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548520" y="1746000"/>
                  <a:ext cx="2046240" cy="1130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2" name=""/>
                <p:cNvSpPr/>
                <p:nvPr/>
              </p:nvSpPr>
              <p:spPr>
                <a:xfrm>
                  <a:off x="3629160" y="1530360"/>
                  <a:ext cx="1883520" cy="986400"/>
                </a:xfrm>
                <a:prstGeom prst="donut">
                  <a:avLst>
                    <a:gd name="adj" fmla="val 6050"/>
                  </a:avLst>
                </a:prstGeom>
                <a:gradFill rotWithShape="0">
                  <a:gsLst>
                    <a:gs pos="0">
                      <a:srgbClr val="686a6d"/>
                    </a:gs>
                    <a:gs pos="50000">
                      <a:srgbClr val="e2e8ee"/>
                    </a:gs>
                    <a:gs pos="100000">
                      <a:srgbClr val="686a6d"/>
                    </a:gs>
                  </a:gsLst>
                  <a:lin ang="8100000"/>
                </a:gradFill>
                <a:ln cap="rnd" w="1908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20926800">
                  <a:off x="4490280" y="2211120"/>
                  <a:ext cx="1088280" cy="39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20431200">
                  <a:off x="3629160" y="1510920"/>
                  <a:ext cx="794880" cy="288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140720" y="1880280"/>
                <a:ext cx="864000" cy="314280"/>
                <a:chOff x="4140720" y="1880280"/>
                <a:chExt cx="864000" cy="314280"/>
              </a:xfrm>
            </p:grpSpPr>
            <p:sp>
              <p:nvSpPr>
                <p:cNvPr id="246" name=""/>
                <p:cNvSpPr txBox="1"/>
                <p:nvPr/>
              </p:nvSpPr>
              <p:spPr>
                <a:xfrm>
                  <a:off x="4250880" y="1880280"/>
                  <a:ext cx="645480" cy="191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latin typeface="Arial Black"/>
                    </a:rPr>
                    <a:t>TEXT</a:t>
                  </a:r>
                  <a:endPara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47" name=""/>
                <p:cNvSpPr txBox="1"/>
                <p:nvPr/>
              </p:nvSpPr>
              <p:spPr>
                <a:xfrm>
                  <a:off x="4140720" y="2094840"/>
                  <a:ext cx="864000" cy="99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latin typeface="Arial"/>
                    </a:rPr>
                    <a:t>ADD CONTENTS</a:t>
                  </a:r>
                  <a:endPara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Arial"/>
                  </a:endParaRPr>
                </a:p>
              </p:txBody>
            </p:sp>
          </p:grpSp>
        </p:grpSp>
        <p:grpSp>
          <p:nvGrpSpPr>
            <p:cNvPr id="248" name=""/>
            <p:cNvGrpSpPr/>
            <p:nvPr/>
          </p:nvGrpSpPr>
          <p:grpSpPr>
            <a:xfrm>
              <a:off x="5621400" y="1387080"/>
              <a:ext cx="2058480" cy="1488960"/>
              <a:chOff x="5621400" y="1387080"/>
              <a:chExt cx="2058480" cy="148896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5621400" y="1387080"/>
                <a:ext cx="2058480" cy="1488960"/>
                <a:chOff x="5621400" y="1387080"/>
                <a:chExt cx="2058480" cy="1488960"/>
              </a:xfrm>
            </p:grpSpPr>
            <p:pic>
              <p:nvPicPr>
                <p:cNvPr id="25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621400" y="1746000"/>
                  <a:ext cx="2046240" cy="1130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1" name=""/>
                <p:cNvSpPr/>
                <p:nvPr/>
              </p:nvSpPr>
              <p:spPr>
                <a:xfrm>
                  <a:off x="5702040" y="1530360"/>
                  <a:ext cx="1883520" cy="986400"/>
                </a:xfrm>
                <a:prstGeom prst="donut">
                  <a:avLst>
                    <a:gd name="adj" fmla="val 6050"/>
                  </a:avLst>
                </a:prstGeom>
                <a:gradFill rotWithShape="0">
                  <a:gsLst>
                    <a:gs pos="0">
                      <a:srgbClr val="686a6d"/>
                    </a:gs>
                    <a:gs pos="50000">
                      <a:srgbClr val="e2e8ee"/>
                    </a:gs>
                    <a:gs pos="100000">
                      <a:srgbClr val="686a6d"/>
                    </a:gs>
                  </a:gsLst>
                  <a:lin ang="8100000"/>
                </a:gradFill>
                <a:ln cap="rnd" w="1908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20926800">
                  <a:off x="6563160" y="2211120"/>
                  <a:ext cx="1088280" cy="39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rot="20431200">
                  <a:off x="5702040" y="1510920"/>
                  <a:ext cx="794880" cy="288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213600" y="1880280"/>
                <a:ext cx="864000" cy="314280"/>
                <a:chOff x="6213600" y="1880280"/>
                <a:chExt cx="864000" cy="314280"/>
              </a:xfrm>
            </p:grpSpPr>
            <p:sp>
              <p:nvSpPr>
                <p:cNvPr id="255" name=""/>
                <p:cNvSpPr txBox="1"/>
                <p:nvPr/>
              </p:nvSpPr>
              <p:spPr>
                <a:xfrm>
                  <a:off x="6323760" y="1880280"/>
                  <a:ext cx="645480" cy="191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latin typeface="Arial Black"/>
                    </a:rPr>
                    <a:t>TEXT</a:t>
                  </a:r>
                  <a:endPara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56" name=""/>
                <p:cNvSpPr txBox="1"/>
                <p:nvPr/>
              </p:nvSpPr>
              <p:spPr>
                <a:xfrm>
                  <a:off x="6213600" y="2094840"/>
                  <a:ext cx="864000" cy="99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latin typeface="Arial"/>
                    </a:rPr>
                    <a:t>ADD CONTENTS</a:t>
                  </a:r>
                  <a:endPara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Arial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1476360" y="1387080"/>
              <a:ext cx="2058480" cy="1488960"/>
              <a:chOff x="1476360" y="1387080"/>
              <a:chExt cx="2058480" cy="148896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1476360" y="1387080"/>
                <a:ext cx="2058480" cy="1488960"/>
                <a:chOff x="1476360" y="1387080"/>
                <a:chExt cx="2058480" cy="1488960"/>
              </a:xfrm>
            </p:grpSpPr>
            <p:pic>
              <p:nvPicPr>
                <p:cNvPr id="25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476360" y="1746000"/>
                  <a:ext cx="2046240" cy="1130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0" name=""/>
                <p:cNvSpPr/>
                <p:nvPr/>
              </p:nvSpPr>
              <p:spPr>
                <a:xfrm>
                  <a:off x="1557000" y="1530360"/>
                  <a:ext cx="1883520" cy="986400"/>
                </a:xfrm>
                <a:prstGeom prst="donut">
                  <a:avLst>
                    <a:gd name="adj" fmla="val 6050"/>
                  </a:avLst>
                </a:prstGeom>
                <a:gradFill rotWithShape="0">
                  <a:gsLst>
                    <a:gs pos="0">
                      <a:srgbClr val="686a6d"/>
                    </a:gs>
                    <a:gs pos="50000">
                      <a:srgbClr val="e2e8ee"/>
                    </a:gs>
                    <a:gs pos="100000">
                      <a:srgbClr val="686a6d"/>
                    </a:gs>
                  </a:gsLst>
                  <a:lin ang="8100000"/>
                </a:gradFill>
                <a:ln cap="rnd" w="1908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20926800">
                  <a:off x="2418120" y="2211120"/>
                  <a:ext cx="1088280" cy="39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rot="20431200">
                  <a:off x="1557000" y="1510920"/>
                  <a:ext cx="794880" cy="288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068560" y="1880280"/>
                <a:ext cx="864000" cy="314280"/>
                <a:chOff x="2068560" y="1880280"/>
                <a:chExt cx="864000" cy="314280"/>
              </a:xfrm>
            </p:grpSpPr>
            <p:sp>
              <p:nvSpPr>
                <p:cNvPr id="264" name=""/>
                <p:cNvSpPr txBox="1"/>
                <p:nvPr/>
              </p:nvSpPr>
              <p:spPr>
                <a:xfrm>
                  <a:off x="2178720" y="1880280"/>
                  <a:ext cx="645480" cy="191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latin typeface="Arial Black"/>
                    </a:rPr>
                    <a:t>TEXT</a:t>
                  </a:r>
                  <a:endPara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65" name=""/>
                <p:cNvSpPr txBox="1"/>
                <p:nvPr/>
              </p:nvSpPr>
              <p:spPr>
                <a:xfrm>
                  <a:off x="2068560" y="2094840"/>
                  <a:ext cx="864000" cy="99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latin typeface="Arial"/>
                    </a:rPr>
                    <a:t>ADD CONTENTS</a:t>
                  </a:r>
                  <a:endPara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Arial"/>
                  </a:endParaRPr>
                </a:p>
              </p:txBody>
            </p:sp>
          </p:grpSp>
        </p:grpSp>
      </p:grpSp>
      <p:sp>
        <p:nvSpPr>
          <p:cNvPr id="266" name=""/>
          <p:cNvSpPr/>
          <p:nvPr/>
        </p:nvSpPr>
        <p:spPr>
          <a:xfrm flipV="1">
            <a:off x="2592360" y="4498200"/>
            <a:ext cx="1079640" cy="576360"/>
          </a:xfrm>
          <a:custGeom>
            <a:avLst/>
            <a:gdLst>
              <a:gd name="textAreaLeft" fmla="*/ 0 w 1079640"/>
              <a:gd name="textAreaRight" fmla="*/ 1080000 w 1079640"/>
              <a:gd name="textAreaTop" fmla="*/ -360 h 576360"/>
              <a:gd name="textAreaBottom" fmla="*/ 576360 h 576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arcTo wR="-5400" hR="-5400" stAng="-10800000" swAng="-10800000"/>
                <a:lnTo>
                  <a:pt x="0" y="10800"/>
                </a:lnTo>
                <a:arcTo wR="10800" hR="10800" stAng="-10800000" swAng="10800000"/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5327640" y="4498200"/>
            <a:ext cx="1079640" cy="576360"/>
          </a:xfrm>
          <a:custGeom>
            <a:avLst/>
            <a:gdLst>
              <a:gd name="textAreaLeft" fmla="*/ 0 w 1079640"/>
              <a:gd name="textAreaRight" fmla="*/ 1080000 w 1079640"/>
              <a:gd name="textAreaTop" fmla="*/ -360 h 576360"/>
              <a:gd name="textAreaBottom" fmla="*/ 576360 h 576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arcTo wR="-5400" hR="-5400" stAng="-10800000" swAng="-10800000"/>
                <a:lnTo>
                  <a:pt x="0" y="10800"/>
                </a:lnTo>
                <a:arcTo wR="10800" hR="10800" stAng="-10800000" swAng="10800000"/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5292000" y="2495520"/>
            <a:ext cx="826920" cy="455760"/>
          </a:xfrm>
          <a:custGeom>
            <a:avLst/>
            <a:gdLst>
              <a:gd name="textAreaLeft" fmla="*/ -360 w 826920"/>
              <a:gd name="textAreaRight" fmla="*/ 826920 w 826920"/>
              <a:gd name="textAreaTop" fmla="*/ 360 h 455760"/>
              <a:gd name="textAreaBottom" fmla="*/ 456480 h 4557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arcTo wR="-5400" hR="-5400" stAng="-10800000" swAng="-10800000"/>
                <a:lnTo>
                  <a:pt x="0" y="10800"/>
                </a:lnTo>
                <a:arcTo wR="10800" hR="10800" stAng="-10800000" swAng="10800000"/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3202920" y="2495520"/>
            <a:ext cx="826920" cy="455760"/>
          </a:xfrm>
          <a:custGeom>
            <a:avLst/>
            <a:gdLst>
              <a:gd name="textAreaLeft" fmla="*/ -360 w 826920"/>
              <a:gd name="textAreaRight" fmla="*/ 826920 w 826920"/>
              <a:gd name="textAreaTop" fmla="*/ 360 h 455760"/>
              <a:gd name="textAreaBottom" fmla="*/ 456480 h 4557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arcTo wR="-5400" hR="-5400" stAng="-10800000" swAng="-10800000"/>
                <a:lnTo>
                  <a:pt x="0" y="10800"/>
                </a:lnTo>
                <a:arcTo wR="10800" hR="10800" stAng="-10800000" swAng="10800000"/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0" name=""/>
          <p:cNvSpPr/>
          <p:nvPr/>
        </p:nvSpPr>
        <p:spPr>
          <a:xfrm flipV="1" rot="17026200">
            <a:off x="7388280" y="2473920"/>
            <a:ext cx="534960" cy="982800"/>
          </a:xfrm>
          <a:custGeom>
            <a:avLst/>
            <a:gdLst>
              <a:gd name="textAreaLeft" fmla="*/ 0 w 534960"/>
              <a:gd name="textAreaRight" fmla="*/ 535320 w 534960"/>
              <a:gd name="textAreaTop" fmla="*/ 360 h 982800"/>
              <a:gd name="textAreaBottom" fmla="*/ 983520 h 982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arcTo wR="-5400" hR="-5400" stAng="-10800000" swAng="-6822447"/>
                <a:lnTo>
                  <a:pt x="6458" y="911"/>
                </a:lnTo>
                <a:arcTo wR="10800" hR="10800" stAng="-6822447" swAng="6822447"/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1" name=""/>
          <p:cNvSpPr/>
          <p:nvPr/>
        </p:nvSpPr>
        <p:spPr>
          <a:xfrm flipV="1" rot="9211800">
            <a:off x="791640" y="2481840"/>
            <a:ext cx="1033560" cy="544320"/>
          </a:xfrm>
          <a:custGeom>
            <a:avLst/>
            <a:gdLst>
              <a:gd name="textAreaLeft" fmla="*/ 0 w 1033560"/>
              <a:gd name="textAreaRight" fmla="*/ 1033560 w 1033560"/>
              <a:gd name="textAreaTop" fmla="*/ 360 h 544320"/>
              <a:gd name="textAreaBottom" fmla="*/ 545040 h 5443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arcTo wR="-5400" hR="-5400" stAng="-10800000" swAng="-6626776"/>
                <a:lnTo>
                  <a:pt x="7027" y="680"/>
                </a:lnTo>
                <a:arcTo wR="10800" hR="10800" stAng="-6626776" swAng="6626776"/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836720" y="115920"/>
            <a:ext cx="5472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Times New Roman"/>
              </a:rPr>
              <a:t>CLICK TO EDIT TITLE STYL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3" name="未知"/>
          <p:cNvSpPr/>
          <p:nvPr/>
        </p:nvSpPr>
        <p:spPr>
          <a:xfrm flipH="1">
            <a:off x="862920" y="115920"/>
            <a:ext cx="863640" cy="287280"/>
          </a:xfrm>
          <a:custGeom>
            <a:avLst/>
            <a:gdLst/>
            <a:ahLst/>
            <a:rect l="l" t="t" r="r" b="b"/>
            <a:pathLst>
              <a:path w="2754" h="964">
                <a:moveTo>
                  <a:pt x="0" y="842"/>
                </a:moveTo>
                <a:lnTo>
                  <a:pt x="0" y="842"/>
                </a:lnTo>
                <a:lnTo>
                  <a:pt x="36" y="854"/>
                </a:lnTo>
                <a:lnTo>
                  <a:pt x="76" y="866"/>
                </a:lnTo>
                <a:lnTo>
                  <a:pt x="132" y="880"/>
                </a:lnTo>
                <a:lnTo>
                  <a:pt x="198" y="890"/>
                </a:lnTo>
                <a:lnTo>
                  <a:pt x="234" y="896"/>
                </a:lnTo>
                <a:lnTo>
                  <a:pt x="274" y="898"/>
                </a:lnTo>
                <a:lnTo>
                  <a:pt x="314" y="900"/>
                </a:lnTo>
                <a:lnTo>
                  <a:pt x="356" y="900"/>
                </a:lnTo>
                <a:lnTo>
                  <a:pt x="400" y="898"/>
                </a:lnTo>
                <a:lnTo>
                  <a:pt x="446" y="894"/>
                </a:lnTo>
                <a:lnTo>
                  <a:pt x="446" y="894"/>
                </a:lnTo>
                <a:lnTo>
                  <a:pt x="490" y="888"/>
                </a:lnTo>
                <a:lnTo>
                  <a:pt x="534" y="880"/>
                </a:lnTo>
                <a:lnTo>
                  <a:pt x="574" y="870"/>
                </a:lnTo>
                <a:lnTo>
                  <a:pt x="612" y="860"/>
                </a:lnTo>
                <a:lnTo>
                  <a:pt x="646" y="848"/>
                </a:lnTo>
                <a:lnTo>
                  <a:pt x="680" y="834"/>
                </a:lnTo>
                <a:lnTo>
                  <a:pt x="710" y="820"/>
                </a:lnTo>
                <a:lnTo>
                  <a:pt x="738" y="806"/>
                </a:lnTo>
                <a:lnTo>
                  <a:pt x="764" y="790"/>
                </a:lnTo>
                <a:lnTo>
                  <a:pt x="788" y="774"/>
                </a:lnTo>
                <a:lnTo>
                  <a:pt x="808" y="756"/>
                </a:lnTo>
                <a:lnTo>
                  <a:pt x="826" y="738"/>
                </a:lnTo>
                <a:lnTo>
                  <a:pt x="840" y="720"/>
                </a:lnTo>
                <a:lnTo>
                  <a:pt x="852" y="702"/>
                </a:lnTo>
                <a:lnTo>
                  <a:pt x="862" y="682"/>
                </a:lnTo>
                <a:lnTo>
                  <a:pt x="868" y="664"/>
                </a:lnTo>
                <a:lnTo>
                  <a:pt x="868" y="664"/>
                </a:lnTo>
                <a:lnTo>
                  <a:pt x="874" y="636"/>
                </a:lnTo>
                <a:lnTo>
                  <a:pt x="874" y="610"/>
                </a:lnTo>
                <a:lnTo>
                  <a:pt x="870" y="590"/>
                </a:lnTo>
                <a:lnTo>
                  <a:pt x="862" y="572"/>
                </a:lnTo>
                <a:lnTo>
                  <a:pt x="852" y="558"/>
                </a:lnTo>
                <a:lnTo>
                  <a:pt x="840" y="546"/>
                </a:lnTo>
                <a:lnTo>
                  <a:pt x="826" y="538"/>
                </a:lnTo>
                <a:lnTo>
                  <a:pt x="812" y="534"/>
                </a:lnTo>
                <a:lnTo>
                  <a:pt x="812" y="534"/>
                </a:lnTo>
                <a:lnTo>
                  <a:pt x="796" y="532"/>
                </a:lnTo>
                <a:lnTo>
                  <a:pt x="778" y="534"/>
                </a:lnTo>
                <a:lnTo>
                  <a:pt x="762" y="538"/>
                </a:lnTo>
                <a:lnTo>
                  <a:pt x="748" y="542"/>
                </a:lnTo>
                <a:lnTo>
                  <a:pt x="726" y="552"/>
                </a:lnTo>
                <a:lnTo>
                  <a:pt x="718" y="558"/>
                </a:lnTo>
                <a:lnTo>
                  <a:pt x="718" y="558"/>
                </a:lnTo>
                <a:lnTo>
                  <a:pt x="722" y="546"/>
                </a:lnTo>
                <a:lnTo>
                  <a:pt x="728" y="532"/>
                </a:lnTo>
                <a:lnTo>
                  <a:pt x="736" y="518"/>
                </a:lnTo>
                <a:lnTo>
                  <a:pt x="748" y="502"/>
                </a:lnTo>
                <a:lnTo>
                  <a:pt x="764" y="488"/>
                </a:lnTo>
                <a:lnTo>
                  <a:pt x="774" y="484"/>
                </a:lnTo>
                <a:lnTo>
                  <a:pt x="784" y="478"/>
                </a:lnTo>
                <a:lnTo>
                  <a:pt x="796" y="476"/>
                </a:lnTo>
                <a:lnTo>
                  <a:pt x="808" y="474"/>
                </a:lnTo>
                <a:lnTo>
                  <a:pt x="808" y="474"/>
                </a:lnTo>
                <a:lnTo>
                  <a:pt x="824" y="474"/>
                </a:lnTo>
                <a:lnTo>
                  <a:pt x="838" y="476"/>
                </a:lnTo>
                <a:lnTo>
                  <a:pt x="848" y="480"/>
                </a:lnTo>
                <a:lnTo>
                  <a:pt x="858" y="482"/>
                </a:lnTo>
                <a:lnTo>
                  <a:pt x="870" y="490"/>
                </a:lnTo>
                <a:lnTo>
                  <a:pt x="874" y="494"/>
                </a:lnTo>
                <a:lnTo>
                  <a:pt x="874" y="494"/>
                </a:lnTo>
                <a:lnTo>
                  <a:pt x="872" y="484"/>
                </a:lnTo>
                <a:lnTo>
                  <a:pt x="870" y="474"/>
                </a:lnTo>
                <a:lnTo>
                  <a:pt x="866" y="462"/>
                </a:lnTo>
                <a:lnTo>
                  <a:pt x="858" y="450"/>
                </a:lnTo>
                <a:lnTo>
                  <a:pt x="848" y="438"/>
                </a:lnTo>
                <a:lnTo>
                  <a:pt x="834" y="426"/>
                </a:lnTo>
                <a:lnTo>
                  <a:pt x="826" y="422"/>
                </a:lnTo>
                <a:lnTo>
                  <a:pt x="816" y="420"/>
                </a:lnTo>
                <a:lnTo>
                  <a:pt x="816" y="420"/>
                </a:lnTo>
                <a:lnTo>
                  <a:pt x="796" y="416"/>
                </a:lnTo>
                <a:lnTo>
                  <a:pt x="774" y="416"/>
                </a:lnTo>
                <a:lnTo>
                  <a:pt x="756" y="418"/>
                </a:lnTo>
                <a:lnTo>
                  <a:pt x="738" y="420"/>
                </a:lnTo>
                <a:lnTo>
                  <a:pt x="712" y="428"/>
                </a:lnTo>
                <a:lnTo>
                  <a:pt x="702" y="432"/>
                </a:lnTo>
                <a:lnTo>
                  <a:pt x="702" y="432"/>
                </a:lnTo>
                <a:lnTo>
                  <a:pt x="710" y="420"/>
                </a:lnTo>
                <a:lnTo>
                  <a:pt x="720" y="408"/>
                </a:lnTo>
                <a:lnTo>
                  <a:pt x="734" y="394"/>
                </a:lnTo>
                <a:lnTo>
                  <a:pt x="752" y="380"/>
                </a:lnTo>
                <a:lnTo>
                  <a:pt x="764" y="374"/>
                </a:lnTo>
                <a:lnTo>
                  <a:pt x="776" y="368"/>
                </a:lnTo>
                <a:lnTo>
                  <a:pt x="788" y="364"/>
                </a:lnTo>
                <a:lnTo>
                  <a:pt x="804" y="362"/>
                </a:lnTo>
                <a:lnTo>
                  <a:pt x="820" y="360"/>
                </a:lnTo>
                <a:lnTo>
                  <a:pt x="836" y="362"/>
                </a:lnTo>
                <a:lnTo>
                  <a:pt x="836" y="362"/>
                </a:lnTo>
                <a:lnTo>
                  <a:pt x="852" y="364"/>
                </a:lnTo>
                <a:lnTo>
                  <a:pt x="868" y="368"/>
                </a:lnTo>
                <a:lnTo>
                  <a:pt x="882" y="374"/>
                </a:lnTo>
                <a:lnTo>
                  <a:pt x="894" y="378"/>
                </a:lnTo>
                <a:lnTo>
                  <a:pt x="916" y="392"/>
                </a:lnTo>
                <a:lnTo>
                  <a:pt x="932" y="406"/>
                </a:lnTo>
                <a:lnTo>
                  <a:pt x="944" y="420"/>
                </a:lnTo>
                <a:lnTo>
                  <a:pt x="952" y="432"/>
                </a:lnTo>
                <a:lnTo>
                  <a:pt x="958" y="444"/>
                </a:lnTo>
                <a:lnTo>
                  <a:pt x="958" y="444"/>
                </a:lnTo>
                <a:lnTo>
                  <a:pt x="962" y="434"/>
                </a:lnTo>
                <a:lnTo>
                  <a:pt x="964" y="422"/>
                </a:lnTo>
                <a:lnTo>
                  <a:pt x="966" y="406"/>
                </a:lnTo>
                <a:lnTo>
                  <a:pt x="966" y="406"/>
                </a:lnTo>
                <a:lnTo>
                  <a:pt x="964" y="388"/>
                </a:lnTo>
                <a:lnTo>
                  <a:pt x="960" y="374"/>
                </a:lnTo>
                <a:lnTo>
                  <a:pt x="954" y="360"/>
                </a:lnTo>
                <a:lnTo>
                  <a:pt x="954" y="360"/>
                </a:lnTo>
                <a:lnTo>
                  <a:pt x="964" y="372"/>
                </a:lnTo>
                <a:lnTo>
                  <a:pt x="974" y="388"/>
                </a:lnTo>
                <a:lnTo>
                  <a:pt x="984" y="410"/>
                </a:lnTo>
                <a:lnTo>
                  <a:pt x="988" y="422"/>
                </a:lnTo>
                <a:lnTo>
                  <a:pt x="990" y="438"/>
                </a:lnTo>
                <a:lnTo>
                  <a:pt x="994" y="454"/>
                </a:lnTo>
                <a:lnTo>
                  <a:pt x="994" y="472"/>
                </a:lnTo>
                <a:lnTo>
                  <a:pt x="994" y="490"/>
                </a:lnTo>
                <a:lnTo>
                  <a:pt x="992" y="512"/>
                </a:lnTo>
                <a:lnTo>
                  <a:pt x="988" y="534"/>
                </a:lnTo>
                <a:lnTo>
                  <a:pt x="982" y="558"/>
                </a:lnTo>
                <a:lnTo>
                  <a:pt x="982" y="558"/>
                </a:lnTo>
                <a:lnTo>
                  <a:pt x="968" y="596"/>
                </a:lnTo>
                <a:lnTo>
                  <a:pt x="954" y="632"/>
                </a:lnTo>
                <a:lnTo>
                  <a:pt x="938" y="662"/>
                </a:lnTo>
                <a:lnTo>
                  <a:pt x="924" y="690"/>
                </a:lnTo>
                <a:lnTo>
                  <a:pt x="898" y="732"/>
                </a:lnTo>
                <a:lnTo>
                  <a:pt x="888" y="746"/>
                </a:lnTo>
                <a:lnTo>
                  <a:pt x="888" y="746"/>
                </a:lnTo>
                <a:lnTo>
                  <a:pt x="906" y="740"/>
                </a:lnTo>
                <a:lnTo>
                  <a:pt x="924" y="730"/>
                </a:lnTo>
                <a:lnTo>
                  <a:pt x="948" y="718"/>
                </a:lnTo>
                <a:lnTo>
                  <a:pt x="960" y="708"/>
                </a:lnTo>
                <a:lnTo>
                  <a:pt x="972" y="698"/>
                </a:lnTo>
                <a:lnTo>
                  <a:pt x="984" y="684"/>
                </a:lnTo>
                <a:lnTo>
                  <a:pt x="996" y="670"/>
                </a:lnTo>
                <a:lnTo>
                  <a:pt x="1006" y="654"/>
                </a:lnTo>
                <a:lnTo>
                  <a:pt x="1018" y="636"/>
                </a:lnTo>
                <a:lnTo>
                  <a:pt x="1026" y="614"/>
                </a:lnTo>
                <a:lnTo>
                  <a:pt x="1034" y="592"/>
                </a:lnTo>
                <a:lnTo>
                  <a:pt x="1034" y="592"/>
                </a:lnTo>
                <a:lnTo>
                  <a:pt x="1042" y="564"/>
                </a:lnTo>
                <a:lnTo>
                  <a:pt x="1046" y="538"/>
                </a:lnTo>
                <a:lnTo>
                  <a:pt x="1048" y="514"/>
                </a:lnTo>
                <a:lnTo>
                  <a:pt x="1050" y="492"/>
                </a:lnTo>
                <a:lnTo>
                  <a:pt x="1050" y="470"/>
                </a:lnTo>
                <a:lnTo>
                  <a:pt x="1048" y="452"/>
                </a:lnTo>
                <a:lnTo>
                  <a:pt x="1042" y="418"/>
                </a:lnTo>
                <a:lnTo>
                  <a:pt x="1034" y="394"/>
                </a:lnTo>
                <a:lnTo>
                  <a:pt x="1026" y="374"/>
                </a:lnTo>
                <a:lnTo>
                  <a:pt x="1016" y="360"/>
                </a:lnTo>
                <a:lnTo>
                  <a:pt x="1016" y="360"/>
                </a:lnTo>
                <a:lnTo>
                  <a:pt x="1028" y="368"/>
                </a:lnTo>
                <a:lnTo>
                  <a:pt x="1040" y="378"/>
                </a:lnTo>
                <a:lnTo>
                  <a:pt x="1052" y="392"/>
                </a:lnTo>
                <a:lnTo>
                  <a:pt x="1066" y="410"/>
                </a:lnTo>
                <a:lnTo>
                  <a:pt x="1080" y="432"/>
                </a:lnTo>
                <a:lnTo>
                  <a:pt x="1084" y="444"/>
                </a:lnTo>
                <a:lnTo>
                  <a:pt x="1088" y="458"/>
                </a:lnTo>
                <a:lnTo>
                  <a:pt x="1092" y="472"/>
                </a:lnTo>
                <a:lnTo>
                  <a:pt x="1094" y="488"/>
                </a:lnTo>
                <a:lnTo>
                  <a:pt x="1094" y="488"/>
                </a:lnTo>
                <a:lnTo>
                  <a:pt x="1096" y="518"/>
                </a:lnTo>
                <a:lnTo>
                  <a:pt x="1094" y="546"/>
                </a:lnTo>
                <a:lnTo>
                  <a:pt x="1092" y="570"/>
                </a:lnTo>
                <a:lnTo>
                  <a:pt x="1090" y="590"/>
                </a:lnTo>
                <a:lnTo>
                  <a:pt x="1084" y="618"/>
                </a:lnTo>
                <a:lnTo>
                  <a:pt x="1080" y="628"/>
                </a:lnTo>
                <a:lnTo>
                  <a:pt x="1080" y="628"/>
                </a:lnTo>
                <a:lnTo>
                  <a:pt x="1090" y="618"/>
                </a:lnTo>
                <a:lnTo>
                  <a:pt x="1100" y="602"/>
                </a:lnTo>
                <a:lnTo>
                  <a:pt x="1112" y="582"/>
                </a:lnTo>
                <a:lnTo>
                  <a:pt x="1126" y="552"/>
                </a:lnTo>
                <a:lnTo>
                  <a:pt x="1138" y="514"/>
                </a:lnTo>
                <a:lnTo>
                  <a:pt x="1150" y="468"/>
                </a:lnTo>
                <a:lnTo>
                  <a:pt x="1154" y="442"/>
                </a:lnTo>
                <a:lnTo>
                  <a:pt x="1158" y="412"/>
                </a:lnTo>
                <a:lnTo>
                  <a:pt x="1158" y="412"/>
                </a:lnTo>
                <a:lnTo>
                  <a:pt x="1160" y="382"/>
                </a:lnTo>
                <a:lnTo>
                  <a:pt x="1158" y="352"/>
                </a:lnTo>
                <a:lnTo>
                  <a:pt x="1154" y="324"/>
                </a:lnTo>
                <a:lnTo>
                  <a:pt x="1146" y="298"/>
                </a:lnTo>
                <a:lnTo>
                  <a:pt x="1136" y="272"/>
                </a:lnTo>
                <a:lnTo>
                  <a:pt x="1122" y="248"/>
                </a:lnTo>
                <a:lnTo>
                  <a:pt x="1108" y="226"/>
                </a:lnTo>
                <a:lnTo>
                  <a:pt x="1092" y="204"/>
                </a:lnTo>
                <a:lnTo>
                  <a:pt x="1072" y="186"/>
                </a:lnTo>
                <a:lnTo>
                  <a:pt x="1052" y="168"/>
                </a:lnTo>
                <a:lnTo>
                  <a:pt x="1032" y="152"/>
                </a:lnTo>
                <a:lnTo>
                  <a:pt x="1010" y="138"/>
                </a:lnTo>
                <a:lnTo>
                  <a:pt x="986" y="124"/>
                </a:lnTo>
                <a:lnTo>
                  <a:pt x="964" y="114"/>
                </a:lnTo>
                <a:lnTo>
                  <a:pt x="940" y="106"/>
                </a:lnTo>
                <a:lnTo>
                  <a:pt x="916" y="100"/>
                </a:lnTo>
                <a:lnTo>
                  <a:pt x="916" y="100"/>
                </a:lnTo>
                <a:lnTo>
                  <a:pt x="892" y="96"/>
                </a:lnTo>
                <a:lnTo>
                  <a:pt x="868" y="94"/>
                </a:lnTo>
                <a:lnTo>
                  <a:pt x="844" y="92"/>
                </a:lnTo>
                <a:lnTo>
                  <a:pt x="820" y="94"/>
                </a:lnTo>
                <a:lnTo>
                  <a:pt x="798" y="98"/>
                </a:lnTo>
                <a:lnTo>
                  <a:pt x="774" y="102"/>
                </a:lnTo>
                <a:lnTo>
                  <a:pt x="754" y="108"/>
                </a:lnTo>
                <a:lnTo>
                  <a:pt x="734" y="116"/>
                </a:lnTo>
                <a:lnTo>
                  <a:pt x="716" y="126"/>
                </a:lnTo>
                <a:lnTo>
                  <a:pt x="698" y="136"/>
                </a:lnTo>
                <a:lnTo>
                  <a:pt x="684" y="148"/>
                </a:lnTo>
                <a:lnTo>
                  <a:pt x="674" y="160"/>
                </a:lnTo>
                <a:lnTo>
                  <a:pt x="664" y="176"/>
                </a:lnTo>
                <a:lnTo>
                  <a:pt x="658" y="190"/>
                </a:lnTo>
                <a:lnTo>
                  <a:pt x="656" y="206"/>
                </a:lnTo>
                <a:lnTo>
                  <a:pt x="656" y="224"/>
                </a:lnTo>
                <a:lnTo>
                  <a:pt x="656" y="224"/>
                </a:lnTo>
                <a:lnTo>
                  <a:pt x="662" y="254"/>
                </a:lnTo>
                <a:lnTo>
                  <a:pt x="668" y="278"/>
                </a:lnTo>
                <a:lnTo>
                  <a:pt x="674" y="294"/>
                </a:lnTo>
                <a:lnTo>
                  <a:pt x="680" y="306"/>
                </a:lnTo>
                <a:lnTo>
                  <a:pt x="686" y="312"/>
                </a:lnTo>
                <a:lnTo>
                  <a:pt x="690" y="316"/>
                </a:lnTo>
                <a:lnTo>
                  <a:pt x="694" y="318"/>
                </a:lnTo>
                <a:lnTo>
                  <a:pt x="694" y="318"/>
                </a:lnTo>
                <a:lnTo>
                  <a:pt x="686" y="318"/>
                </a:lnTo>
                <a:lnTo>
                  <a:pt x="666" y="314"/>
                </a:lnTo>
                <a:lnTo>
                  <a:pt x="652" y="310"/>
                </a:lnTo>
                <a:lnTo>
                  <a:pt x="638" y="304"/>
                </a:lnTo>
                <a:lnTo>
                  <a:pt x="622" y="296"/>
                </a:lnTo>
                <a:lnTo>
                  <a:pt x="608" y="286"/>
                </a:lnTo>
                <a:lnTo>
                  <a:pt x="608" y="286"/>
                </a:lnTo>
                <a:lnTo>
                  <a:pt x="596" y="274"/>
                </a:lnTo>
                <a:lnTo>
                  <a:pt x="586" y="262"/>
                </a:lnTo>
                <a:lnTo>
                  <a:pt x="580" y="252"/>
                </a:lnTo>
                <a:lnTo>
                  <a:pt x="574" y="244"/>
                </a:lnTo>
                <a:lnTo>
                  <a:pt x="570" y="230"/>
                </a:lnTo>
                <a:lnTo>
                  <a:pt x="570" y="226"/>
                </a:lnTo>
                <a:lnTo>
                  <a:pt x="570" y="226"/>
                </a:lnTo>
                <a:lnTo>
                  <a:pt x="562" y="242"/>
                </a:lnTo>
                <a:lnTo>
                  <a:pt x="554" y="258"/>
                </a:lnTo>
                <a:lnTo>
                  <a:pt x="546" y="282"/>
                </a:lnTo>
                <a:lnTo>
                  <a:pt x="540" y="308"/>
                </a:lnTo>
                <a:lnTo>
                  <a:pt x="538" y="338"/>
                </a:lnTo>
                <a:lnTo>
                  <a:pt x="538" y="352"/>
                </a:lnTo>
                <a:lnTo>
                  <a:pt x="538" y="368"/>
                </a:lnTo>
                <a:lnTo>
                  <a:pt x="542" y="384"/>
                </a:lnTo>
                <a:lnTo>
                  <a:pt x="546" y="400"/>
                </a:lnTo>
                <a:lnTo>
                  <a:pt x="546" y="400"/>
                </a:lnTo>
                <a:lnTo>
                  <a:pt x="558" y="428"/>
                </a:lnTo>
                <a:lnTo>
                  <a:pt x="572" y="450"/>
                </a:lnTo>
                <a:lnTo>
                  <a:pt x="586" y="468"/>
                </a:lnTo>
                <a:lnTo>
                  <a:pt x="600" y="482"/>
                </a:lnTo>
                <a:lnTo>
                  <a:pt x="612" y="490"/>
                </a:lnTo>
                <a:lnTo>
                  <a:pt x="622" y="496"/>
                </a:lnTo>
                <a:lnTo>
                  <a:pt x="630" y="500"/>
                </a:lnTo>
                <a:lnTo>
                  <a:pt x="630" y="500"/>
                </a:lnTo>
                <a:lnTo>
                  <a:pt x="612" y="496"/>
                </a:lnTo>
                <a:lnTo>
                  <a:pt x="592" y="490"/>
                </a:lnTo>
                <a:lnTo>
                  <a:pt x="568" y="480"/>
                </a:lnTo>
                <a:lnTo>
                  <a:pt x="554" y="472"/>
                </a:lnTo>
                <a:lnTo>
                  <a:pt x="542" y="462"/>
                </a:lnTo>
                <a:lnTo>
                  <a:pt x="530" y="452"/>
                </a:lnTo>
                <a:lnTo>
                  <a:pt x="518" y="438"/>
                </a:lnTo>
                <a:lnTo>
                  <a:pt x="506" y="422"/>
                </a:lnTo>
                <a:lnTo>
                  <a:pt x="496" y="404"/>
                </a:lnTo>
                <a:lnTo>
                  <a:pt x="488" y="384"/>
                </a:lnTo>
                <a:lnTo>
                  <a:pt x="480" y="360"/>
                </a:lnTo>
                <a:lnTo>
                  <a:pt x="480" y="360"/>
                </a:lnTo>
                <a:lnTo>
                  <a:pt x="474" y="336"/>
                </a:lnTo>
                <a:lnTo>
                  <a:pt x="472" y="314"/>
                </a:lnTo>
                <a:lnTo>
                  <a:pt x="470" y="292"/>
                </a:lnTo>
                <a:lnTo>
                  <a:pt x="470" y="274"/>
                </a:lnTo>
                <a:lnTo>
                  <a:pt x="472" y="240"/>
                </a:lnTo>
                <a:lnTo>
                  <a:pt x="478" y="212"/>
                </a:lnTo>
                <a:lnTo>
                  <a:pt x="484" y="192"/>
                </a:lnTo>
                <a:lnTo>
                  <a:pt x="490" y="176"/>
                </a:lnTo>
                <a:lnTo>
                  <a:pt x="498" y="164"/>
                </a:lnTo>
                <a:lnTo>
                  <a:pt x="498" y="164"/>
                </a:lnTo>
                <a:lnTo>
                  <a:pt x="486" y="166"/>
                </a:lnTo>
                <a:lnTo>
                  <a:pt x="474" y="166"/>
                </a:lnTo>
                <a:lnTo>
                  <a:pt x="456" y="166"/>
                </a:lnTo>
                <a:lnTo>
                  <a:pt x="438" y="164"/>
                </a:lnTo>
                <a:lnTo>
                  <a:pt x="418" y="160"/>
                </a:lnTo>
                <a:lnTo>
                  <a:pt x="398" y="154"/>
                </a:lnTo>
                <a:lnTo>
                  <a:pt x="378" y="142"/>
                </a:lnTo>
                <a:lnTo>
                  <a:pt x="378" y="142"/>
                </a:lnTo>
                <a:lnTo>
                  <a:pt x="362" y="128"/>
                </a:lnTo>
                <a:lnTo>
                  <a:pt x="348" y="116"/>
                </a:lnTo>
                <a:lnTo>
                  <a:pt x="340" y="104"/>
                </a:lnTo>
                <a:lnTo>
                  <a:pt x="334" y="92"/>
                </a:lnTo>
                <a:lnTo>
                  <a:pt x="328" y="76"/>
                </a:lnTo>
                <a:lnTo>
                  <a:pt x="326" y="70"/>
                </a:lnTo>
                <a:lnTo>
                  <a:pt x="326" y="70"/>
                </a:lnTo>
                <a:lnTo>
                  <a:pt x="332" y="74"/>
                </a:lnTo>
                <a:lnTo>
                  <a:pt x="352" y="86"/>
                </a:lnTo>
                <a:lnTo>
                  <a:pt x="366" y="92"/>
                </a:lnTo>
                <a:lnTo>
                  <a:pt x="382" y="96"/>
                </a:lnTo>
                <a:lnTo>
                  <a:pt x="402" y="100"/>
                </a:lnTo>
                <a:lnTo>
                  <a:pt x="426" y="102"/>
                </a:lnTo>
                <a:lnTo>
                  <a:pt x="426" y="102"/>
                </a:lnTo>
                <a:lnTo>
                  <a:pt x="450" y="100"/>
                </a:lnTo>
                <a:lnTo>
                  <a:pt x="474" y="96"/>
                </a:lnTo>
                <a:lnTo>
                  <a:pt x="498" y="90"/>
                </a:lnTo>
                <a:lnTo>
                  <a:pt x="520" y="82"/>
                </a:lnTo>
                <a:lnTo>
                  <a:pt x="568" y="62"/>
                </a:lnTo>
                <a:lnTo>
                  <a:pt x="618" y="42"/>
                </a:lnTo>
                <a:lnTo>
                  <a:pt x="644" y="30"/>
                </a:lnTo>
                <a:lnTo>
                  <a:pt x="670" y="22"/>
                </a:lnTo>
                <a:lnTo>
                  <a:pt x="700" y="14"/>
                </a:lnTo>
                <a:lnTo>
                  <a:pt x="728" y="6"/>
                </a:lnTo>
                <a:lnTo>
                  <a:pt x="760" y="2"/>
                </a:lnTo>
                <a:lnTo>
                  <a:pt x="792" y="0"/>
                </a:lnTo>
                <a:lnTo>
                  <a:pt x="828" y="2"/>
                </a:lnTo>
                <a:lnTo>
                  <a:pt x="864" y="6"/>
                </a:lnTo>
                <a:lnTo>
                  <a:pt x="864" y="6"/>
                </a:lnTo>
                <a:lnTo>
                  <a:pt x="900" y="12"/>
                </a:lnTo>
                <a:lnTo>
                  <a:pt x="934" y="20"/>
                </a:lnTo>
                <a:lnTo>
                  <a:pt x="964" y="30"/>
                </a:lnTo>
                <a:lnTo>
                  <a:pt x="992" y="40"/>
                </a:lnTo>
                <a:lnTo>
                  <a:pt x="1018" y="52"/>
                </a:lnTo>
                <a:lnTo>
                  <a:pt x="1042" y="64"/>
                </a:lnTo>
                <a:lnTo>
                  <a:pt x="1064" y="76"/>
                </a:lnTo>
                <a:lnTo>
                  <a:pt x="1084" y="90"/>
                </a:lnTo>
                <a:lnTo>
                  <a:pt x="1102" y="106"/>
                </a:lnTo>
                <a:lnTo>
                  <a:pt x="1120" y="120"/>
                </a:lnTo>
                <a:lnTo>
                  <a:pt x="1134" y="138"/>
                </a:lnTo>
                <a:lnTo>
                  <a:pt x="1150" y="154"/>
                </a:lnTo>
                <a:lnTo>
                  <a:pt x="1176" y="190"/>
                </a:lnTo>
                <a:lnTo>
                  <a:pt x="1200" y="228"/>
                </a:lnTo>
                <a:lnTo>
                  <a:pt x="1200" y="228"/>
                </a:lnTo>
                <a:lnTo>
                  <a:pt x="1208" y="242"/>
                </a:lnTo>
                <a:lnTo>
                  <a:pt x="1216" y="258"/>
                </a:lnTo>
                <a:lnTo>
                  <a:pt x="1226" y="290"/>
                </a:lnTo>
                <a:lnTo>
                  <a:pt x="1232" y="322"/>
                </a:lnTo>
                <a:lnTo>
                  <a:pt x="1234" y="356"/>
                </a:lnTo>
                <a:lnTo>
                  <a:pt x="1234" y="390"/>
                </a:lnTo>
                <a:lnTo>
                  <a:pt x="1232" y="424"/>
                </a:lnTo>
                <a:lnTo>
                  <a:pt x="1226" y="456"/>
                </a:lnTo>
                <a:lnTo>
                  <a:pt x="1220" y="488"/>
                </a:lnTo>
                <a:lnTo>
                  <a:pt x="1212" y="518"/>
                </a:lnTo>
                <a:lnTo>
                  <a:pt x="1202" y="544"/>
                </a:lnTo>
                <a:lnTo>
                  <a:pt x="1186" y="590"/>
                </a:lnTo>
                <a:lnTo>
                  <a:pt x="1174" y="620"/>
                </a:lnTo>
                <a:lnTo>
                  <a:pt x="1168" y="632"/>
                </a:lnTo>
                <a:lnTo>
                  <a:pt x="1168" y="632"/>
                </a:lnTo>
                <a:lnTo>
                  <a:pt x="1242" y="584"/>
                </a:lnTo>
                <a:lnTo>
                  <a:pt x="1424" y="472"/>
                </a:lnTo>
                <a:lnTo>
                  <a:pt x="1536" y="404"/>
                </a:lnTo>
                <a:lnTo>
                  <a:pt x="1652" y="338"/>
                </a:lnTo>
                <a:lnTo>
                  <a:pt x="1762" y="276"/>
                </a:lnTo>
                <a:lnTo>
                  <a:pt x="1814" y="250"/>
                </a:lnTo>
                <a:lnTo>
                  <a:pt x="1862" y="226"/>
                </a:lnTo>
                <a:lnTo>
                  <a:pt x="1862" y="226"/>
                </a:lnTo>
                <a:lnTo>
                  <a:pt x="1910" y="206"/>
                </a:lnTo>
                <a:lnTo>
                  <a:pt x="1960" y="190"/>
                </a:lnTo>
                <a:lnTo>
                  <a:pt x="2012" y="176"/>
                </a:lnTo>
                <a:lnTo>
                  <a:pt x="2066" y="164"/>
                </a:lnTo>
                <a:lnTo>
                  <a:pt x="2120" y="156"/>
                </a:lnTo>
                <a:lnTo>
                  <a:pt x="2176" y="152"/>
                </a:lnTo>
                <a:lnTo>
                  <a:pt x="2232" y="152"/>
                </a:lnTo>
                <a:lnTo>
                  <a:pt x="2288" y="154"/>
                </a:lnTo>
                <a:lnTo>
                  <a:pt x="2342" y="158"/>
                </a:lnTo>
                <a:lnTo>
                  <a:pt x="2396" y="168"/>
                </a:lnTo>
                <a:lnTo>
                  <a:pt x="2446" y="180"/>
                </a:lnTo>
                <a:lnTo>
                  <a:pt x="2494" y="194"/>
                </a:lnTo>
                <a:lnTo>
                  <a:pt x="2538" y="214"/>
                </a:lnTo>
                <a:lnTo>
                  <a:pt x="2558" y="224"/>
                </a:lnTo>
                <a:lnTo>
                  <a:pt x="2578" y="236"/>
                </a:lnTo>
                <a:lnTo>
                  <a:pt x="2596" y="248"/>
                </a:lnTo>
                <a:lnTo>
                  <a:pt x="2614" y="262"/>
                </a:lnTo>
                <a:lnTo>
                  <a:pt x="2630" y="276"/>
                </a:lnTo>
                <a:lnTo>
                  <a:pt x="2644" y="292"/>
                </a:lnTo>
                <a:lnTo>
                  <a:pt x="2644" y="292"/>
                </a:lnTo>
                <a:lnTo>
                  <a:pt x="2664" y="316"/>
                </a:lnTo>
                <a:lnTo>
                  <a:pt x="2680" y="340"/>
                </a:lnTo>
                <a:lnTo>
                  <a:pt x="2696" y="364"/>
                </a:lnTo>
                <a:lnTo>
                  <a:pt x="2708" y="386"/>
                </a:lnTo>
                <a:lnTo>
                  <a:pt x="2718" y="410"/>
                </a:lnTo>
                <a:lnTo>
                  <a:pt x="2726" y="432"/>
                </a:lnTo>
                <a:lnTo>
                  <a:pt x="2730" y="454"/>
                </a:lnTo>
                <a:lnTo>
                  <a:pt x="2734" y="476"/>
                </a:lnTo>
                <a:lnTo>
                  <a:pt x="2736" y="498"/>
                </a:lnTo>
                <a:lnTo>
                  <a:pt x="2738" y="518"/>
                </a:lnTo>
                <a:lnTo>
                  <a:pt x="2736" y="540"/>
                </a:lnTo>
                <a:lnTo>
                  <a:pt x="2734" y="560"/>
                </a:lnTo>
                <a:lnTo>
                  <a:pt x="2730" y="578"/>
                </a:lnTo>
                <a:lnTo>
                  <a:pt x="2726" y="598"/>
                </a:lnTo>
                <a:lnTo>
                  <a:pt x="2714" y="632"/>
                </a:lnTo>
                <a:lnTo>
                  <a:pt x="2700" y="666"/>
                </a:lnTo>
                <a:lnTo>
                  <a:pt x="2684" y="694"/>
                </a:lnTo>
                <a:lnTo>
                  <a:pt x="2666" y="720"/>
                </a:lnTo>
                <a:lnTo>
                  <a:pt x="2650" y="742"/>
                </a:lnTo>
                <a:lnTo>
                  <a:pt x="2624" y="772"/>
                </a:lnTo>
                <a:lnTo>
                  <a:pt x="2614" y="782"/>
                </a:lnTo>
                <a:lnTo>
                  <a:pt x="2614" y="782"/>
                </a:lnTo>
                <a:lnTo>
                  <a:pt x="2612" y="800"/>
                </a:lnTo>
                <a:lnTo>
                  <a:pt x="2610" y="818"/>
                </a:lnTo>
                <a:lnTo>
                  <a:pt x="2610" y="840"/>
                </a:lnTo>
                <a:lnTo>
                  <a:pt x="2614" y="862"/>
                </a:lnTo>
                <a:lnTo>
                  <a:pt x="2618" y="872"/>
                </a:lnTo>
                <a:lnTo>
                  <a:pt x="2622" y="882"/>
                </a:lnTo>
                <a:lnTo>
                  <a:pt x="2628" y="890"/>
                </a:lnTo>
                <a:lnTo>
                  <a:pt x="2636" y="896"/>
                </a:lnTo>
                <a:lnTo>
                  <a:pt x="2646" y="900"/>
                </a:lnTo>
                <a:lnTo>
                  <a:pt x="2658" y="902"/>
                </a:lnTo>
                <a:lnTo>
                  <a:pt x="2658" y="902"/>
                </a:lnTo>
                <a:lnTo>
                  <a:pt x="2670" y="902"/>
                </a:lnTo>
                <a:lnTo>
                  <a:pt x="2678" y="900"/>
                </a:lnTo>
                <a:lnTo>
                  <a:pt x="2686" y="898"/>
                </a:lnTo>
                <a:lnTo>
                  <a:pt x="2692" y="894"/>
                </a:lnTo>
                <a:lnTo>
                  <a:pt x="2696" y="890"/>
                </a:lnTo>
                <a:lnTo>
                  <a:pt x="2698" y="886"/>
                </a:lnTo>
                <a:lnTo>
                  <a:pt x="2700" y="874"/>
                </a:lnTo>
                <a:lnTo>
                  <a:pt x="2700" y="864"/>
                </a:lnTo>
                <a:lnTo>
                  <a:pt x="2696" y="854"/>
                </a:lnTo>
                <a:lnTo>
                  <a:pt x="2692" y="844"/>
                </a:lnTo>
                <a:lnTo>
                  <a:pt x="2692" y="844"/>
                </a:lnTo>
                <a:lnTo>
                  <a:pt x="2704" y="844"/>
                </a:lnTo>
                <a:lnTo>
                  <a:pt x="2714" y="846"/>
                </a:lnTo>
                <a:lnTo>
                  <a:pt x="2728" y="850"/>
                </a:lnTo>
                <a:lnTo>
                  <a:pt x="2740" y="858"/>
                </a:lnTo>
                <a:lnTo>
                  <a:pt x="2744" y="864"/>
                </a:lnTo>
                <a:lnTo>
                  <a:pt x="2748" y="870"/>
                </a:lnTo>
                <a:lnTo>
                  <a:pt x="2752" y="878"/>
                </a:lnTo>
                <a:lnTo>
                  <a:pt x="2754" y="888"/>
                </a:lnTo>
                <a:lnTo>
                  <a:pt x="2754" y="900"/>
                </a:lnTo>
                <a:lnTo>
                  <a:pt x="2752" y="912"/>
                </a:lnTo>
                <a:lnTo>
                  <a:pt x="2752" y="912"/>
                </a:lnTo>
                <a:lnTo>
                  <a:pt x="2748" y="924"/>
                </a:lnTo>
                <a:lnTo>
                  <a:pt x="2742" y="936"/>
                </a:lnTo>
                <a:lnTo>
                  <a:pt x="2736" y="944"/>
                </a:lnTo>
                <a:lnTo>
                  <a:pt x="2726" y="952"/>
                </a:lnTo>
                <a:lnTo>
                  <a:pt x="2716" y="958"/>
                </a:lnTo>
                <a:lnTo>
                  <a:pt x="2706" y="962"/>
                </a:lnTo>
                <a:lnTo>
                  <a:pt x="2694" y="964"/>
                </a:lnTo>
                <a:lnTo>
                  <a:pt x="2682" y="964"/>
                </a:lnTo>
                <a:lnTo>
                  <a:pt x="2670" y="964"/>
                </a:lnTo>
                <a:lnTo>
                  <a:pt x="2658" y="962"/>
                </a:lnTo>
                <a:lnTo>
                  <a:pt x="2646" y="958"/>
                </a:lnTo>
                <a:lnTo>
                  <a:pt x="2636" y="952"/>
                </a:lnTo>
                <a:lnTo>
                  <a:pt x="2626" y="946"/>
                </a:lnTo>
                <a:lnTo>
                  <a:pt x="2616" y="938"/>
                </a:lnTo>
                <a:lnTo>
                  <a:pt x="2610" y="928"/>
                </a:lnTo>
                <a:lnTo>
                  <a:pt x="2604" y="918"/>
                </a:lnTo>
                <a:lnTo>
                  <a:pt x="2604" y="918"/>
                </a:lnTo>
                <a:lnTo>
                  <a:pt x="2596" y="896"/>
                </a:lnTo>
                <a:lnTo>
                  <a:pt x="2592" y="874"/>
                </a:lnTo>
                <a:lnTo>
                  <a:pt x="2588" y="852"/>
                </a:lnTo>
                <a:lnTo>
                  <a:pt x="2588" y="834"/>
                </a:lnTo>
                <a:lnTo>
                  <a:pt x="2588" y="804"/>
                </a:lnTo>
                <a:lnTo>
                  <a:pt x="2588" y="794"/>
                </a:lnTo>
                <a:lnTo>
                  <a:pt x="2588" y="794"/>
                </a:lnTo>
                <a:lnTo>
                  <a:pt x="2582" y="796"/>
                </a:lnTo>
                <a:lnTo>
                  <a:pt x="2564" y="804"/>
                </a:lnTo>
                <a:lnTo>
                  <a:pt x="2534" y="812"/>
                </a:lnTo>
                <a:lnTo>
                  <a:pt x="2516" y="816"/>
                </a:lnTo>
                <a:lnTo>
                  <a:pt x="2496" y="820"/>
                </a:lnTo>
                <a:lnTo>
                  <a:pt x="2474" y="820"/>
                </a:lnTo>
                <a:lnTo>
                  <a:pt x="2450" y="822"/>
                </a:lnTo>
                <a:lnTo>
                  <a:pt x="2424" y="820"/>
                </a:lnTo>
                <a:lnTo>
                  <a:pt x="2396" y="816"/>
                </a:lnTo>
                <a:lnTo>
                  <a:pt x="2366" y="810"/>
                </a:lnTo>
                <a:lnTo>
                  <a:pt x="2336" y="802"/>
                </a:lnTo>
                <a:lnTo>
                  <a:pt x="2304" y="790"/>
                </a:lnTo>
                <a:lnTo>
                  <a:pt x="2270" y="774"/>
                </a:lnTo>
                <a:lnTo>
                  <a:pt x="2270" y="774"/>
                </a:lnTo>
                <a:lnTo>
                  <a:pt x="2254" y="764"/>
                </a:lnTo>
                <a:lnTo>
                  <a:pt x="2238" y="754"/>
                </a:lnTo>
                <a:lnTo>
                  <a:pt x="2224" y="742"/>
                </a:lnTo>
                <a:lnTo>
                  <a:pt x="2210" y="728"/>
                </a:lnTo>
                <a:lnTo>
                  <a:pt x="2198" y="716"/>
                </a:lnTo>
                <a:lnTo>
                  <a:pt x="2186" y="700"/>
                </a:lnTo>
                <a:lnTo>
                  <a:pt x="2176" y="684"/>
                </a:lnTo>
                <a:lnTo>
                  <a:pt x="2168" y="668"/>
                </a:lnTo>
                <a:lnTo>
                  <a:pt x="2152" y="634"/>
                </a:lnTo>
                <a:lnTo>
                  <a:pt x="2140" y="600"/>
                </a:lnTo>
                <a:lnTo>
                  <a:pt x="2134" y="562"/>
                </a:lnTo>
                <a:lnTo>
                  <a:pt x="2130" y="526"/>
                </a:lnTo>
                <a:lnTo>
                  <a:pt x="2132" y="490"/>
                </a:lnTo>
                <a:lnTo>
                  <a:pt x="2136" y="456"/>
                </a:lnTo>
                <a:lnTo>
                  <a:pt x="2140" y="440"/>
                </a:lnTo>
                <a:lnTo>
                  <a:pt x="2146" y="424"/>
                </a:lnTo>
                <a:lnTo>
                  <a:pt x="2152" y="408"/>
                </a:lnTo>
                <a:lnTo>
                  <a:pt x="2160" y="394"/>
                </a:lnTo>
                <a:lnTo>
                  <a:pt x="2168" y="380"/>
                </a:lnTo>
                <a:lnTo>
                  <a:pt x="2178" y="368"/>
                </a:lnTo>
                <a:lnTo>
                  <a:pt x="2190" y="356"/>
                </a:lnTo>
                <a:lnTo>
                  <a:pt x="2202" y="346"/>
                </a:lnTo>
                <a:lnTo>
                  <a:pt x="2214" y="336"/>
                </a:lnTo>
                <a:lnTo>
                  <a:pt x="2228" y="328"/>
                </a:lnTo>
                <a:lnTo>
                  <a:pt x="2244" y="322"/>
                </a:lnTo>
                <a:lnTo>
                  <a:pt x="2260" y="318"/>
                </a:lnTo>
                <a:lnTo>
                  <a:pt x="2260" y="318"/>
                </a:lnTo>
                <a:lnTo>
                  <a:pt x="2292" y="312"/>
                </a:lnTo>
                <a:lnTo>
                  <a:pt x="2322" y="312"/>
                </a:lnTo>
                <a:lnTo>
                  <a:pt x="2348" y="316"/>
                </a:lnTo>
                <a:lnTo>
                  <a:pt x="2370" y="324"/>
                </a:lnTo>
                <a:lnTo>
                  <a:pt x="2392" y="334"/>
                </a:lnTo>
                <a:lnTo>
                  <a:pt x="2410" y="348"/>
                </a:lnTo>
                <a:lnTo>
                  <a:pt x="2426" y="364"/>
                </a:lnTo>
                <a:lnTo>
                  <a:pt x="2440" y="380"/>
                </a:lnTo>
                <a:lnTo>
                  <a:pt x="2450" y="398"/>
                </a:lnTo>
                <a:lnTo>
                  <a:pt x="2460" y="416"/>
                </a:lnTo>
                <a:lnTo>
                  <a:pt x="2468" y="432"/>
                </a:lnTo>
                <a:lnTo>
                  <a:pt x="2474" y="448"/>
                </a:lnTo>
                <a:lnTo>
                  <a:pt x="2480" y="474"/>
                </a:lnTo>
                <a:lnTo>
                  <a:pt x="2482" y="488"/>
                </a:lnTo>
                <a:lnTo>
                  <a:pt x="2482" y="488"/>
                </a:lnTo>
                <a:lnTo>
                  <a:pt x="2480" y="506"/>
                </a:lnTo>
                <a:lnTo>
                  <a:pt x="2480" y="518"/>
                </a:lnTo>
                <a:lnTo>
                  <a:pt x="2480" y="530"/>
                </a:lnTo>
                <a:lnTo>
                  <a:pt x="2484" y="542"/>
                </a:lnTo>
                <a:lnTo>
                  <a:pt x="2490" y="552"/>
                </a:lnTo>
                <a:lnTo>
                  <a:pt x="2500" y="560"/>
                </a:lnTo>
                <a:lnTo>
                  <a:pt x="2506" y="564"/>
                </a:lnTo>
                <a:lnTo>
                  <a:pt x="2514" y="566"/>
                </a:lnTo>
                <a:lnTo>
                  <a:pt x="2514" y="566"/>
                </a:lnTo>
                <a:lnTo>
                  <a:pt x="2524" y="568"/>
                </a:lnTo>
                <a:lnTo>
                  <a:pt x="2532" y="568"/>
                </a:lnTo>
                <a:lnTo>
                  <a:pt x="2540" y="566"/>
                </a:lnTo>
                <a:lnTo>
                  <a:pt x="2548" y="564"/>
                </a:lnTo>
                <a:lnTo>
                  <a:pt x="2558" y="558"/>
                </a:lnTo>
                <a:lnTo>
                  <a:pt x="2568" y="550"/>
                </a:lnTo>
                <a:lnTo>
                  <a:pt x="2572" y="540"/>
                </a:lnTo>
                <a:lnTo>
                  <a:pt x="2576" y="532"/>
                </a:lnTo>
                <a:lnTo>
                  <a:pt x="2578" y="524"/>
                </a:lnTo>
                <a:lnTo>
                  <a:pt x="2578" y="524"/>
                </a:lnTo>
                <a:lnTo>
                  <a:pt x="2580" y="532"/>
                </a:lnTo>
                <a:lnTo>
                  <a:pt x="2582" y="542"/>
                </a:lnTo>
                <a:lnTo>
                  <a:pt x="2584" y="552"/>
                </a:lnTo>
                <a:lnTo>
                  <a:pt x="2582" y="566"/>
                </a:lnTo>
                <a:lnTo>
                  <a:pt x="2578" y="578"/>
                </a:lnTo>
                <a:lnTo>
                  <a:pt x="2572" y="590"/>
                </a:lnTo>
                <a:lnTo>
                  <a:pt x="2566" y="596"/>
                </a:lnTo>
                <a:lnTo>
                  <a:pt x="2558" y="600"/>
                </a:lnTo>
                <a:lnTo>
                  <a:pt x="2558" y="600"/>
                </a:lnTo>
                <a:lnTo>
                  <a:pt x="2548" y="604"/>
                </a:lnTo>
                <a:lnTo>
                  <a:pt x="2538" y="608"/>
                </a:lnTo>
                <a:lnTo>
                  <a:pt x="2528" y="610"/>
                </a:lnTo>
                <a:lnTo>
                  <a:pt x="2518" y="610"/>
                </a:lnTo>
                <a:lnTo>
                  <a:pt x="2500" y="610"/>
                </a:lnTo>
                <a:lnTo>
                  <a:pt x="2484" y="606"/>
                </a:lnTo>
                <a:lnTo>
                  <a:pt x="2470" y="600"/>
                </a:lnTo>
                <a:lnTo>
                  <a:pt x="2460" y="594"/>
                </a:lnTo>
                <a:lnTo>
                  <a:pt x="2450" y="588"/>
                </a:lnTo>
                <a:lnTo>
                  <a:pt x="2450" y="588"/>
                </a:lnTo>
                <a:lnTo>
                  <a:pt x="2446" y="596"/>
                </a:lnTo>
                <a:lnTo>
                  <a:pt x="2444" y="604"/>
                </a:lnTo>
                <a:lnTo>
                  <a:pt x="2440" y="616"/>
                </a:lnTo>
                <a:lnTo>
                  <a:pt x="2440" y="626"/>
                </a:lnTo>
                <a:lnTo>
                  <a:pt x="2440" y="638"/>
                </a:lnTo>
                <a:lnTo>
                  <a:pt x="2444" y="650"/>
                </a:lnTo>
                <a:lnTo>
                  <a:pt x="2448" y="654"/>
                </a:lnTo>
                <a:lnTo>
                  <a:pt x="2454" y="658"/>
                </a:lnTo>
                <a:lnTo>
                  <a:pt x="2454" y="658"/>
                </a:lnTo>
                <a:lnTo>
                  <a:pt x="2470" y="666"/>
                </a:lnTo>
                <a:lnTo>
                  <a:pt x="2486" y="670"/>
                </a:lnTo>
                <a:lnTo>
                  <a:pt x="2500" y="668"/>
                </a:lnTo>
                <a:lnTo>
                  <a:pt x="2512" y="666"/>
                </a:lnTo>
                <a:lnTo>
                  <a:pt x="2520" y="660"/>
                </a:lnTo>
                <a:lnTo>
                  <a:pt x="2528" y="656"/>
                </a:lnTo>
                <a:lnTo>
                  <a:pt x="2534" y="650"/>
                </a:lnTo>
                <a:lnTo>
                  <a:pt x="2534" y="650"/>
                </a:lnTo>
                <a:lnTo>
                  <a:pt x="2532" y="658"/>
                </a:lnTo>
                <a:lnTo>
                  <a:pt x="2530" y="668"/>
                </a:lnTo>
                <a:lnTo>
                  <a:pt x="2524" y="678"/>
                </a:lnTo>
                <a:lnTo>
                  <a:pt x="2516" y="690"/>
                </a:lnTo>
                <a:lnTo>
                  <a:pt x="2502" y="698"/>
                </a:lnTo>
                <a:lnTo>
                  <a:pt x="2494" y="702"/>
                </a:lnTo>
                <a:lnTo>
                  <a:pt x="2486" y="704"/>
                </a:lnTo>
                <a:lnTo>
                  <a:pt x="2474" y="706"/>
                </a:lnTo>
                <a:lnTo>
                  <a:pt x="2462" y="706"/>
                </a:lnTo>
                <a:lnTo>
                  <a:pt x="2462" y="706"/>
                </a:lnTo>
                <a:lnTo>
                  <a:pt x="2444" y="704"/>
                </a:lnTo>
                <a:lnTo>
                  <a:pt x="2430" y="698"/>
                </a:lnTo>
                <a:lnTo>
                  <a:pt x="2418" y="692"/>
                </a:lnTo>
                <a:lnTo>
                  <a:pt x="2406" y="682"/>
                </a:lnTo>
                <a:lnTo>
                  <a:pt x="2398" y="672"/>
                </a:lnTo>
                <a:lnTo>
                  <a:pt x="2392" y="660"/>
                </a:lnTo>
                <a:lnTo>
                  <a:pt x="2386" y="648"/>
                </a:lnTo>
                <a:lnTo>
                  <a:pt x="2382" y="634"/>
                </a:lnTo>
                <a:lnTo>
                  <a:pt x="2376" y="610"/>
                </a:lnTo>
                <a:lnTo>
                  <a:pt x="2374" y="588"/>
                </a:lnTo>
                <a:lnTo>
                  <a:pt x="2374" y="566"/>
                </a:lnTo>
                <a:lnTo>
                  <a:pt x="2374" y="566"/>
                </a:lnTo>
                <a:lnTo>
                  <a:pt x="2368" y="566"/>
                </a:lnTo>
                <a:lnTo>
                  <a:pt x="2352" y="564"/>
                </a:lnTo>
                <a:lnTo>
                  <a:pt x="2342" y="560"/>
                </a:lnTo>
                <a:lnTo>
                  <a:pt x="2330" y="554"/>
                </a:lnTo>
                <a:lnTo>
                  <a:pt x="2318" y="546"/>
                </a:lnTo>
                <a:lnTo>
                  <a:pt x="2306" y="534"/>
                </a:lnTo>
                <a:lnTo>
                  <a:pt x="2306" y="534"/>
                </a:lnTo>
                <a:lnTo>
                  <a:pt x="2296" y="520"/>
                </a:lnTo>
                <a:lnTo>
                  <a:pt x="2290" y="504"/>
                </a:lnTo>
                <a:lnTo>
                  <a:pt x="2288" y="490"/>
                </a:lnTo>
                <a:lnTo>
                  <a:pt x="2290" y="476"/>
                </a:lnTo>
                <a:lnTo>
                  <a:pt x="2290" y="462"/>
                </a:lnTo>
                <a:lnTo>
                  <a:pt x="2294" y="452"/>
                </a:lnTo>
                <a:lnTo>
                  <a:pt x="2296" y="444"/>
                </a:lnTo>
                <a:lnTo>
                  <a:pt x="2296" y="444"/>
                </a:lnTo>
                <a:lnTo>
                  <a:pt x="2298" y="454"/>
                </a:lnTo>
                <a:lnTo>
                  <a:pt x="2302" y="464"/>
                </a:lnTo>
                <a:lnTo>
                  <a:pt x="2308" y="476"/>
                </a:lnTo>
                <a:lnTo>
                  <a:pt x="2316" y="486"/>
                </a:lnTo>
                <a:lnTo>
                  <a:pt x="2322" y="490"/>
                </a:lnTo>
                <a:lnTo>
                  <a:pt x="2328" y="494"/>
                </a:lnTo>
                <a:lnTo>
                  <a:pt x="2336" y="498"/>
                </a:lnTo>
                <a:lnTo>
                  <a:pt x="2344" y="498"/>
                </a:lnTo>
                <a:lnTo>
                  <a:pt x="2354" y="500"/>
                </a:lnTo>
                <a:lnTo>
                  <a:pt x="2366" y="498"/>
                </a:lnTo>
                <a:lnTo>
                  <a:pt x="2366" y="498"/>
                </a:lnTo>
                <a:lnTo>
                  <a:pt x="2376" y="494"/>
                </a:lnTo>
                <a:lnTo>
                  <a:pt x="2386" y="490"/>
                </a:lnTo>
                <a:lnTo>
                  <a:pt x="2392" y="484"/>
                </a:lnTo>
                <a:lnTo>
                  <a:pt x="2398" y="478"/>
                </a:lnTo>
                <a:lnTo>
                  <a:pt x="2402" y="470"/>
                </a:lnTo>
                <a:lnTo>
                  <a:pt x="2402" y="460"/>
                </a:lnTo>
                <a:lnTo>
                  <a:pt x="2402" y="452"/>
                </a:lnTo>
                <a:lnTo>
                  <a:pt x="2402" y="442"/>
                </a:lnTo>
                <a:lnTo>
                  <a:pt x="2398" y="432"/>
                </a:lnTo>
                <a:lnTo>
                  <a:pt x="2394" y="422"/>
                </a:lnTo>
                <a:lnTo>
                  <a:pt x="2382" y="404"/>
                </a:lnTo>
                <a:lnTo>
                  <a:pt x="2366" y="386"/>
                </a:lnTo>
                <a:lnTo>
                  <a:pt x="2358" y="380"/>
                </a:lnTo>
                <a:lnTo>
                  <a:pt x="2348" y="374"/>
                </a:lnTo>
                <a:lnTo>
                  <a:pt x="2348" y="374"/>
                </a:lnTo>
                <a:lnTo>
                  <a:pt x="2338" y="370"/>
                </a:lnTo>
                <a:lnTo>
                  <a:pt x="2324" y="366"/>
                </a:lnTo>
                <a:lnTo>
                  <a:pt x="2312" y="364"/>
                </a:lnTo>
                <a:lnTo>
                  <a:pt x="2296" y="366"/>
                </a:lnTo>
                <a:lnTo>
                  <a:pt x="2282" y="368"/>
                </a:lnTo>
                <a:lnTo>
                  <a:pt x="2266" y="372"/>
                </a:lnTo>
                <a:lnTo>
                  <a:pt x="2252" y="376"/>
                </a:lnTo>
                <a:lnTo>
                  <a:pt x="2236" y="384"/>
                </a:lnTo>
                <a:lnTo>
                  <a:pt x="2222" y="394"/>
                </a:lnTo>
                <a:lnTo>
                  <a:pt x="2210" y="406"/>
                </a:lnTo>
                <a:lnTo>
                  <a:pt x="2198" y="420"/>
                </a:lnTo>
                <a:lnTo>
                  <a:pt x="2188" y="436"/>
                </a:lnTo>
                <a:lnTo>
                  <a:pt x="2180" y="456"/>
                </a:lnTo>
                <a:lnTo>
                  <a:pt x="2174" y="476"/>
                </a:lnTo>
                <a:lnTo>
                  <a:pt x="2170" y="500"/>
                </a:lnTo>
                <a:lnTo>
                  <a:pt x="2170" y="526"/>
                </a:lnTo>
                <a:lnTo>
                  <a:pt x="2170" y="526"/>
                </a:lnTo>
                <a:lnTo>
                  <a:pt x="2172" y="552"/>
                </a:lnTo>
                <a:lnTo>
                  <a:pt x="2176" y="578"/>
                </a:lnTo>
                <a:lnTo>
                  <a:pt x="2184" y="604"/>
                </a:lnTo>
                <a:lnTo>
                  <a:pt x="2192" y="628"/>
                </a:lnTo>
                <a:lnTo>
                  <a:pt x="2202" y="650"/>
                </a:lnTo>
                <a:lnTo>
                  <a:pt x="2214" y="670"/>
                </a:lnTo>
                <a:lnTo>
                  <a:pt x="2228" y="690"/>
                </a:lnTo>
                <a:lnTo>
                  <a:pt x="2244" y="708"/>
                </a:lnTo>
                <a:lnTo>
                  <a:pt x="2262" y="724"/>
                </a:lnTo>
                <a:lnTo>
                  <a:pt x="2282" y="738"/>
                </a:lnTo>
                <a:lnTo>
                  <a:pt x="2302" y="750"/>
                </a:lnTo>
                <a:lnTo>
                  <a:pt x="2324" y="760"/>
                </a:lnTo>
                <a:lnTo>
                  <a:pt x="2348" y="768"/>
                </a:lnTo>
                <a:lnTo>
                  <a:pt x="2372" y="774"/>
                </a:lnTo>
                <a:lnTo>
                  <a:pt x="2398" y="776"/>
                </a:lnTo>
                <a:lnTo>
                  <a:pt x="2426" y="778"/>
                </a:lnTo>
                <a:lnTo>
                  <a:pt x="2426" y="778"/>
                </a:lnTo>
                <a:lnTo>
                  <a:pt x="2452" y="776"/>
                </a:lnTo>
                <a:lnTo>
                  <a:pt x="2478" y="774"/>
                </a:lnTo>
                <a:lnTo>
                  <a:pt x="2502" y="770"/>
                </a:lnTo>
                <a:lnTo>
                  <a:pt x="2524" y="766"/>
                </a:lnTo>
                <a:lnTo>
                  <a:pt x="2546" y="760"/>
                </a:lnTo>
                <a:lnTo>
                  <a:pt x="2566" y="752"/>
                </a:lnTo>
                <a:lnTo>
                  <a:pt x="2584" y="742"/>
                </a:lnTo>
                <a:lnTo>
                  <a:pt x="2600" y="732"/>
                </a:lnTo>
                <a:lnTo>
                  <a:pt x="2614" y="720"/>
                </a:lnTo>
                <a:lnTo>
                  <a:pt x="2628" y="708"/>
                </a:lnTo>
                <a:lnTo>
                  <a:pt x="2640" y="692"/>
                </a:lnTo>
                <a:lnTo>
                  <a:pt x="2652" y="678"/>
                </a:lnTo>
                <a:lnTo>
                  <a:pt x="2660" y="660"/>
                </a:lnTo>
                <a:lnTo>
                  <a:pt x="2668" y="642"/>
                </a:lnTo>
                <a:lnTo>
                  <a:pt x="2674" y="622"/>
                </a:lnTo>
                <a:lnTo>
                  <a:pt x="2680" y="602"/>
                </a:lnTo>
                <a:lnTo>
                  <a:pt x="2680" y="602"/>
                </a:lnTo>
                <a:lnTo>
                  <a:pt x="2684" y="580"/>
                </a:lnTo>
                <a:lnTo>
                  <a:pt x="2686" y="554"/>
                </a:lnTo>
                <a:lnTo>
                  <a:pt x="2684" y="528"/>
                </a:lnTo>
                <a:lnTo>
                  <a:pt x="2682" y="498"/>
                </a:lnTo>
                <a:lnTo>
                  <a:pt x="2676" y="470"/>
                </a:lnTo>
                <a:lnTo>
                  <a:pt x="2666" y="440"/>
                </a:lnTo>
                <a:lnTo>
                  <a:pt x="2652" y="410"/>
                </a:lnTo>
                <a:lnTo>
                  <a:pt x="2634" y="380"/>
                </a:lnTo>
                <a:lnTo>
                  <a:pt x="2612" y="352"/>
                </a:lnTo>
                <a:lnTo>
                  <a:pt x="2586" y="324"/>
                </a:lnTo>
                <a:lnTo>
                  <a:pt x="2570" y="312"/>
                </a:lnTo>
                <a:lnTo>
                  <a:pt x="2554" y="300"/>
                </a:lnTo>
                <a:lnTo>
                  <a:pt x="2536" y="288"/>
                </a:lnTo>
                <a:lnTo>
                  <a:pt x="2518" y="276"/>
                </a:lnTo>
                <a:lnTo>
                  <a:pt x="2496" y="266"/>
                </a:lnTo>
                <a:lnTo>
                  <a:pt x="2474" y="256"/>
                </a:lnTo>
                <a:lnTo>
                  <a:pt x="2450" y="246"/>
                </a:lnTo>
                <a:lnTo>
                  <a:pt x="2424" y="238"/>
                </a:lnTo>
                <a:lnTo>
                  <a:pt x="2398" y="232"/>
                </a:lnTo>
                <a:lnTo>
                  <a:pt x="2368" y="226"/>
                </a:lnTo>
                <a:lnTo>
                  <a:pt x="2338" y="220"/>
                </a:lnTo>
                <a:lnTo>
                  <a:pt x="2306" y="216"/>
                </a:lnTo>
                <a:lnTo>
                  <a:pt x="2306" y="216"/>
                </a:lnTo>
                <a:lnTo>
                  <a:pt x="2270" y="212"/>
                </a:lnTo>
                <a:lnTo>
                  <a:pt x="2236" y="212"/>
                </a:lnTo>
                <a:lnTo>
                  <a:pt x="2202" y="212"/>
                </a:lnTo>
                <a:lnTo>
                  <a:pt x="2168" y="214"/>
                </a:lnTo>
                <a:lnTo>
                  <a:pt x="2134" y="218"/>
                </a:lnTo>
                <a:lnTo>
                  <a:pt x="2102" y="224"/>
                </a:lnTo>
                <a:lnTo>
                  <a:pt x="2070" y="230"/>
                </a:lnTo>
                <a:lnTo>
                  <a:pt x="2038" y="236"/>
                </a:lnTo>
                <a:lnTo>
                  <a:pt x="1976" y="254"/>
                </a:lnTo>
                <a:lnTo>
                  <a:pt x="1918" y="274"/>
                </a:lnTo>
                <a:lnTo>
                  <a:pt x="1864" y="296"/>
                </a:lnTo>
                <a:lnTo>
                  <a:pt x="1814" y="320"/>
                </a:lnTo>
                <a:lnTo>
                  <a:pt x="1766" y="346"/>
                </a:lnTo>
                <a:lnTo>
                  <a:pt x="1726" y="370"/>
                </a:lnTo>
                <a:lnTo>
                  <a:pt x="1690" y="392"/>
                </a:lnTo>
                <a:lnTo>
                  <a:pt x="1660" y="412"/>
                </a:lnTo>
                <a:lnTo>
                  <a:pt x="1616" y="444"/>
                </a:lnTo>
                <a:lnTo>
                  <a:pt x="1602" y="456"/>
                </a:lnTo>
                <a:lnTo>
                  <a:pt x="1602" y="456"/>
                </a:lnTo>
                <a:lnTo>
                  <a:pt x="1616" y="456"/>
                </a:lnTo>
                <a:lnTo>
                  <a:pt x="1630" y="456"/>
                </a:lnTo>
                <a:lnTo>
                  <a:pt x="1646" y="458"/>
                </a:lnTo>
                <a:lnTo>
                  <a:pt x="1664" y="462"/>
                </a:lnTo>
                <a:lnTo>
                  <a:pt x="1684" y="468"/>
                </a:lnTo>
                <a:lnTo>
                  <a:pt x="1702" y="476"/>
                </a:lnTo>
                <a:lnTo>
                  <a:pt x="1710" y="482"/>
                </a:lnTo>
                <a:lnTo>
                  <a:pt x="1716" y="490"/>
                </a:lnTo>
                <a:lnTo>
                  <a:pt x="1716" y="490"/>
                </a:lnTo>
                <a:lnTo>
                  <a:pt x="1728" y="504"/>
                </a:lnTo>
                <a:lnTo>
                  <a:pt x="1740" y="516"/>
                </a:lnTo>
                <a:lnTo>
                  <a:pt x="1752" y="526"/>
                </a:lnTo>
                <a:lnTo>
                  <a:pt x="1766" y="534"/>
                </a:lnTo>
                <a:lnTo>
                  <a:pt x="1778" y="540"/>
                </a:lnTo>
                <a:lnTo>
                  <a:pt x="1794" y="546"/>
                </a:lnTo>
                <a:lnTo>
                  <a:pt x="1810" y="550"/>
                </a:lnTo>
                <a:lnTo>
                  <a:pt x="1828" y="552"/>
                </a:lnTo>
                <a:lnTo>
                  <a:pt x="1828" y="552"/>
                </a:lnTo>
                <a:lnTo>
                  <a:pt x="1848" y="554"/>
                </a:lnTo>
                <a:lnTo>
                  <a:pt x="1866" y="554"/>
                </a:lnTo>
                <a:lnTo>
                  <a:pt x="1882" y="552"/>
                </a:lnTo>
                <a:lnTo>
                  <a:pt x="1898" y="548"/>
                </a:lnTo>
                <a:lnTo>
                  <a:pt x="1910" y="542"/>
                </a:lnTo>
                <a:lnTo>
                  <a:pt x="1920" y="534"/>
                </a:lnTo>
                <a:lnTo>
                  <a:pt x="1924" y="528"/>
                </a:lnTo>
                <a:lnTo>
                  <a:pt x="1926" y="522"/>
                </a:lnTo>
                <a:lnTo>
                  <a:pt x="1928" y="506"/>
                </a:lnTo>
                <a:lnTo>
                  <a:pt x="1928" y="506"/>
                </a:lnTo>
                <a:lnTo>
                  <a:pt x="1928" y="498"/>
                </a:lnTo>
                <a:lnTo>
                  <a:pt x="1926" y="492"/>
                </a:lnTo>
                <a:lnTo>
                  <a:pt x="1922" y="486"/>
                </a:lnTo>
                <a:lnTo>
                  <a:pt x="1918" y="480"/>
                </a:lnTo>
                <a:lnTo>
                  <a:pt x="1910" y="474"/>
                </a:lnTo>
                <a:lnTo>
                  <a:pt x="1900" y="470"/>
                </a:lnTo>
                <a:lnTo>
                  <a:pt x="1888" y="470"/>
                </a:lnTo>
                <a:lnTo>
                  <a:pt x="1880" y="468"/>
                </a:lnTo>
                <a:lnTo>
                  <a:pt x="1870" y="470"/>
                </a:lnTo>
                <a:lnTo>
                  <a:pt x="1870" y="470"/>
                </a:lnTo>
                <a:lnTo>
                  <a:pt x="1880" y="466"/>
                </a:lnTo>
                <a:lnTo>
                  <a:pt x="1892" y="464"/>
                </a:lnTo>
                <a:lnTo>
                  <a:pt x="1904" y="462"/>
                </a:lnTo>
                <a:lnTo>
                  <a:pt x="1920" y="462"/>
                </a:lnTo>
                <a:lnTo>
                  <a:pt x="1934" y="464"/>
                </a:lnTo>
                <a:lnTo>
                  <a:pt x="1940" y="468"/>
                </a:lnTo>
                <a:lnTo>
                  <a:pt x="1946" y="472"/>
                </a:lnTo>
                <a:lnTo>
                  <a:pt x="1952" y="478"/>
                </a:lnTo>
                <a:lnTo>
                  <a:pt x="1956" y="484"/>
                </a:lnTo>
                <a:lnTo>
                  <a:pt x="1956" y="484"/>
                </a:lnTo>
                <a:lnTo>
                  <a:pt x="1960" y="492"/>
                </a:lnTo>
                <a:lnTo>
                  <a:pt x="1962" y="500"/>
                </a:lnTo>
                <a:lnTo>
                  <a:pt x="1964" y="516"/>
                </a:lnTo>
                <a:lnTo>
                  <a:pt x="1960" y="534"/>
                </a:lnTo>
                <a:lnTo>
                  <a:pt x="1954" y="552"/>
                </a:lnTo>
                <a:lnTo>
                  <a:pt x="1942" y="570"/>
                </a:lnTo>
                <a:lnTo>
                  <a:pt x="1928" y="584"/>
                </a:lnTo>
                <a:lnTo>
                  <a:pt x="1908" y="598"/>
                </a:lnTo>
                <a:lnTo>
                  <a:pt x="1886" y="608"/>
                </a:lnTo>
                <a:lnTo>
                  <a:pt x="1886" y="608"/>
                </a:lnTo>
                <a:lnTo>
                  <a:pt x="1864" y="614"/>
                </a:lnTo>
                <a:lnTo>
                  <a:pt x="1844" y="618"/>
                </a:lnTo>
                <a:lnTo>
                  <a:pt x="1828" y="618"/>
                </a:lnTo>
                <a:lnTo>
                  <a:pt x="1816" y="616"/>
                </a:lnTo>
                <a:lnTo>
                  <a:pt x="1806" y="614"/>
                </a:lnTo>
                <a:lnTo>
                  <a:pt x="1800" y="610"/>
                </a:lnTo>
                <a:lnTo>
                  <a:pt x="1794" y="608"/>
                </a:lnTo>
                <a:lnTo>
                  <a:pt x="1794" y="608"/>
                </a:lnTo>
                <a:lnTo>
                  <a:pt x="1796" y="634"/>
                </a:lnTo>
                <a:lnTo>
                  <a:pt x="1796" y="664"/>
                </a:lnTo>
                <a:lnTo>
                  <a:pt x="1792" y="700"/>
                </a:lnTo>
                <a:lnTo>
                  <a:pt x="1788" y="720"/>
                </a:lnTo>
                <a:lnTo>
                  <a:pt x="1784" y="742"/>
                </a:lnTo>
                <a:lnTo>
                  <a:pt x="1778" y="762"/>
                </a:lnTo>
                <a:lnTo>
                  <a:pt x="1770" y="784"/>
                </a:lnTo>
                <a:lnTo>
                  <a:pt x="1760" y="806"/>
                </a:lnTo>
                <a:lnTo>
                  <a:pt x="1748" y="826"/>
                </a:lnTo>
                <a:lnTo>
                  <a:pt x="1734" y="846"/>
                </a:lnTo>
                <a:lnTo>
                  <a:pt x="1718" y="866"/>
                </a:lnTo>
                <a:lnTo>
                  <a:pt x="1718" y="866"/>
                </a:lnTo>
                <a:lnTo>
                  <a:pt x="1700" y="882"/>
                </a:lnTo>
                <a:lnTo>
                  <a:pt x="1682" y="896"/>
                </a:lnTo>
                <a:lnTo>
                  <a:pt x="1664" y="906"/>
                </a:lnTo>
                <a:lnTo>
                  <a:pt x="1646" y="916"/>
                </a:lnTo>
                <a:lnTo>
                  <a:pt x="1630" y="922"/>
                </a:lnTo>
                <a:lnTo>
                  <a:pt x="1614" y="926"/>
                </a:lnTo>
                <a:lnTo>
                  <a:pt x="1598" y="928"/>
                </a:lnTo>
                <a:lnTo>
                  <a:pt x="1584" y="928"/>
                </a:lnTo>
                <a:lnTo>
                  <a:pt x="1558" y="928"/>
                </a:lnTo>
                <a:lnTo>
                  <a:pt x="1540" y="924"/>
                </a:lnTo>
                <a:lnTo>
                  <a:pt x="1522" y="918"/>
                </a:lnTo>
                <a:lnTo>
                  <a:pt x="1522" y="918"/>
                </a:lnTo>
                <a:lnTo>
                  <a:pt x="1544" y="916"/>
                </a:lnTo>
                <a:lnTo>
                  <a:pt x="1566" y="914"/>
                </a:lnTo>
                <a:lnTo>
                  <a:pt x="1594" y="906"/>
                </a:lnTo>
                <a:lnTo>
                  <a:pt x="1608" y="902"/>
                </a:lnTo>
                <a:lnTo>
                  <a:pt x="1622" y="896"/>
                </a:lnTo>
                <a:lnTo>
                  <a:pt x="1638" y="888"/>
                </a:lnTo>
                <a:lnTo>
                  <a:pt x="1652" y="878"/>
                </a:lnTo>
                <a:lnTo>
                  <a:pt x="1664" y="868"/>
                </a:lnTo>
                <a:lnTo>
                  <a:pt x="1676" y="856"/>
                </a:lnTo>
                <a:lnTo>
                  <a:pt x="1686" y="840"/>
                </a:lnTo>
                <a:lnTo>
                  <a:pt x="1694" y="824"/>
                </a:lnTo>
                <a:lnTo>
                  <a:pt x="1694" y="824"/>
                </a:lnTo>
                <a:lnTo>
                  <a:pt x="1700" y="806"/>
                </a:lnTo>
                <a:lnTo>
                  <a:pt x="1706" y="788"/>
                </a:lnTo>
                <a:lnTo>
                  <a:pt x="1710" y="754"/>
                </a:lnTo>
                <a:lnTo>
                  <a:pt x="1712" y="722"/>
                </a:lnTo>
                <a:lnTo>
                  <a:pt x="1712" y="694"/>
                </a:lnTo>
                <a:lnTo>
                  <a:pt x="1708" y="670"/>
                </a:lnTo>
                <a:lnTo>
                  <a:pt x="1704" y="652"/>
                </a:lnTo>
                <a:lnTo>
                  <a:pt x="1700" y="636"/>
                </a:lnTo>
                <a:lnTo>
                  <a:pt x="1700" y="636"/>
                </a:lnTo>
                <a:lnTo>
                  <a:pt x="1690" y="646"/>
                </a:lnTo>
                <a:lnTo>
                  <a:pt x="1678" y="658"/>
                </a:lnTo>
                <a:lnTo>
                  <a:pt x="1664" y="670"/>
                </a:lnTo>
                <a:lnTo>
                  <a:pt x="1642" y="682"/>
                </a:lnTo>
                <a:lnTo>
                  <a:pt x="1620" y="692"/>
                </a:lnTo>
                <a:lnTo>
                  <a:pt x="1606" y="694"/>
                </a:lnTo>
                <a:lnTo>
                  <a:pt x="1592" y="696"/>
                </a:lnTo>
                <a:lnTo>
                  <a:pt x="1576" y="698"/>
                </a:lnTo>
                <a:lnTo>
                  <a:pt x="1560" y="696"/>
                </a:lnTo>
                <a:lnTo>
                  <a:pt x="1560" y="696"/>
                </a:lnTo>
                <a:lnTo>
                  <a:pt x="1546" y="692"/>
                </a:lnTo>
                <a:lnTo>
                  <a:pt x="1532" y="688"/>
                </a:lnTo>
                <a:lnTo>
                  <a:pt x="1524" y="684"/>
                </a:lnTo>
                <a:lnTo>
                  <a:pt x="1516" y="678"/>
                </a:lnTo>
                <a:lnTo>
                  <a:pt x="1510" y="670"/>
                </a:lnTo>
                <a:lnTo>
                  <a:pt x="1508" y="664"/>
                </a:lnTo>
                <a:lnTo>
                  <a:pt x="1506" y="656"/>
                </a:lnTo>
                <a:lnTo>
                  <a:pt x="1506" y="648"/>
                </a:lnTo>
                <a:lnTo>
                  <a:pt x="1506" y="634"/>
                </a:lnTo>
                <a:lnTo>
                  <a:pt x="1510" y="622"/>
                </a:lnTo>
                <a:lnTo>
                  <a:pt x="1516" y="610"/>
                </a:lnTo>
                <a:lnTo>
                  <a:pt x="1516" y="610"/>
                </a:lnTo>
                <a:lnTo>
                  <a:pt x="1516" y="618"/>
                </a:lnTo>
                <a:lnTo>
                  <a:pt x="1518" y="628"/>
                </a:lnTo>
                <a:lnTo>
                  <a:pt x="1520" y="640"/>
                </a:lnTo>
                <a:lnTo>
                  <a:pt x="1526" y="650"/>
                </a:lnTo>
                <a:lnTo>
                  <a:pt x="1536" y="660"/>
                </a:lnTo>
                <a:lnTo>
                  <a:pt x="1542" y="664"/>
                </a:lnTo>
                <a:lnTo>
                  <a:pt x="1548" y="668"/>
                </a:lnTo>
                <a:lnTo>
                  <a:pt x="1556" y="670"/>
                </a:lnTo>
                <a:lnTo>
                  <a:pt x="1566" y="672"/>
                </a:lnTo>
                <a:lnTo>
                  <a:pt x="1566" y="672"/>
                </a:lnTo>
                <a:lnTo>
                  <a:pt x="1576" y="672"/>
                </a:lnTo>
                <a:lnTo>
                  <a:pt x="1586" y="670"/>
                </a:lnTo>
                <a:lnTo>
                  <a:pt x="1596" y="668"/>
                </a:lnTo>
                <a:lnTo>
                  <a:pt x="1604" y="664"/>
                </a:lnTo>
                <a:lnTo>
                  <a:pt x="1612" y="658"/>
                </a:lnTo>
                <a:lnTo>
                  <a:pt x="1620" y="652"/>
                </a:lnTo>
                <a:lnTo>
                  <a:pt x="1626" y="646"/>
                </a:lnTo>
                <a:lnTo>
                  <a:pt x="1632" y="638"/>
                </a:lnTo>
                <a:lnTo>
                  <a:pt x="1638" y="628"/>
                </a:lnTo>
                <a:lnTo>
                  <a:pt x="1642" y="618"/>
                </a:lnTo>
                <a:lnTo>
                  <a:pt x="1644" y="608"/>
                </a:lnTo>
                <a:lnTo>
                  <a:pt x="1646" y="596"/>
                </a:lnTo>
                <a:lnTo>
                  <a:pt x="1646" y="584"/>
                </a:lnTo>
                <a:lnTo>
                  <a:pt x="1646" y="572"/>
                </a:lnTo>
                <a:lnTo>
                  <a:pt x="1642" y="560"/>
                </a:lnTo>
                <a:lnTo>
                  <a:pt x="1638" y="546"/>
                </a:lnTo>
                <a:lnTo>
                  <a:pt x="1638" y="546"/>
                </a:lnTo>
                <a:lnTo>
                  <a:pt x="1632" y="534"/>
                </a:lnTo>
                <a:lnTo>
                  <a:pt x="1624" y="524"/>
                </a:lnTo>
                <a:lnTo>
                  <a:pt x="1616" y="516"/>
                </a:lnTo>
                <a:lnTo>
                  <a:pt x="1606" y="510"/>
                </a:lnTo>
                <a:lnTo>
                  <a:pt x="1596" y="506"/>
                </a:lnTo>
                <a:lnTo>
                  <a:pt x="1586" y="502"/>
                </a:lnTo>
                <a:lnTo>
                  <a:pt x="1564" y="500"/>
                </a:lnTo>
                <a:lnTo>
                  <a:pt x="1544" y="502"/>
                </a:lnTo>
                <a:lnTo>
                  <a:pt x="1526" y="506"/>
                </a:lnTo>
                <a:lnTo>
                  <a:pt x="1510" y="510"/>
                </a:lnTo>
                <a:lnTo>
                  <a:pt x="1510" y="510"/>
                </a:lnTo>
                <a:lnTo>
                  <a:pt x="1468" y="536"/>
                </a:lnTo>
                <a:lnTo>
                  <a:pt x="1418" y="568"/>
                </a:lnTo>
                <a:lnTo>
                  <a:pt x="1352" y="606"/>
                </a:lnTo>
                <a:lnTo>
                  <a:pt x="1270" y="652"/>
                </a:lnTo>
                <a:lnTo>
                  <a:pt x="1174" y="702"/>
                </a:lnTo>
                <a:lnTo>
                  <a:pt x="1066" y="754"/>
                </a:lnTo>
                <a:lnTo>
                  <a:pt x="1008" y="780"/>
                </a:lnTo>
                <a:lnTo>
                  <a:pt x="948" y="806"/>
                </a:lnTo>
                <a:lnTo>
                  <a:pt x="948" y="806"/>
                </a:lnTo>
                <a:lnTo>
                  <a:pt x="888" y="830"/>
                </a:lnTo>
                <a:lnTo>
                  <a:pt x="832" y="850"/>
                </a:lnTo>
                <a:lnTo>
                  <a:pt x="778" y="868"/>
                </a:lnTo>
                <a:lnTo>
                  <a:pt x="728" y="884"/>
                </a:lnTo>
                <a:lnTo>
                  <a:pt x="680" y="896"/>
                </a:lnTo>
                <a:lnTo>
                  <a:pt x="634" y="906"/>
                </a:lnTo>
                <a:lnTo>
                  <a:pt x="590" y="914"/>
                </a:lnTo>
                <a:lnTo>
                  <a:pt x="550" y="920"/>
                </a:lnTo>
                <a:lnTo>
                  <a:pt x="508" y="922"/>
                </a:lnTo>
                <a:lnTo>
                  <a:pt x="470" y="926"/>
                </a:lnTo>
                <a:lnTo>
                  <a:pt x="396" y="926"/>
                </a:lnTo>
                <a:lnTo>
                  <a:pt x="324" y="924"/>
                </a:lnTo>
                <a:lnTo>
                  <a:pt x="252" y="920"/>
                </a:lnTo>
                <a:lnTo>
                  <a:pt x="252" y="920"/>
                </a:lnTo>
                <a:lnTo>
                  <a:pt x="218" y="916"/>
                </a:lnTo>
                <a:lnTo>
                  <a:pt x="186" y="912"/>
                </a:lnTo>
                <a:lnTo>
                  <a:pt x="158" y="908"/>
                </a:lnTo>
                <a:lnTo>
                  <a:pt x="132" y="902"/>
                </a:lnTo>
                <a:lnTo>
                  <a:pt x="88" y="890"/>
                </a:lnTo>
                <a:lnTo>
                  <a:pt x="54" y="876"/>
                </a:lnTo>
                <a:lnTo>
                  <a:pt x="30" y="864"/>
                </a:lnTo>
                <a:lnTo>
                  <a:pt x="12" y="852"/>
                </a:lnTo>
                <a:lnTo>
                  <a:pt x="0" y="842"/>
                </a:lnTo>
                <a:lnTo>
                  <a:pt x="0" y="8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4" name="未知"/>
          <p:cNvSpPr/>
          <p:nvPr/>
        </p:nvSpPr>
        <p:spPr>
          <a:xfrm>
            <a:off x="7416720" y="115920"/>
            <a:ext cx="863640" cy="287280"/>
          </a:xfrm>
          <a:custGeom>
            <a:avLst/>
            <a:gdLst/>
            <a:ahLst/>
            <a:rect l="l" t="t" r="r" b="b"/>
            <a:pathLst>
              <a:path w="2754" h="964">
                <a:moveTo>
                  <a:pt x="0" y="842"/>
                </a:moveTo>
                <a:lnTo>
                  <a:pt x="0" y="842"/>
                </a:lnTo>
                <a:lnTo>
                  <a:pt x="36" y="854"/>
                </a:lnTo>
                <a:lnTo>
                  <a:pt x="76" y="866"/>
                </a:lnTo>
                <a:lnTo>
                  <a:pt x="132" y="880"/>
                </a:lnTo>
                <a:lnTo>
                  <a:pt x="198" y="890"/>
                </a:lnTo>
                <a:lnTo>
                  <a:pt x="234" y="896"/>
                </a:lnTo>
                <a:lnTo>
                  <a:pt x="274" y="898"/>
                </a:lnTo>
                <a:lnTo>
                  <a:pt x="314" y="900"/>
                </a:lnTo>
                <a:lnTo>
                  <a:pt x="356" y="900"/>
                </a:lnTo>
                <a:lnTo>
                  <a:pt x="400" y="898"/>
                </a:lnTo>
                <a:lnTo>
                  <a:pt x="446" y="894"/>
                </a:lnTo>
                <a:lnTo>
                  <a:pt x="446" y="894"/>
                </a:lnTo>
                <a:lnTo>
                  <a:pt x="490" y="888"/>
                </a:lnTo>
                <a:lnTo>
                  <a:pt x="534" y="880"/>
                </a:lnTo>
                <a:lnTo>
                  <a:pt x="574" y="870"/>
                </a:lnTo>
                <a:lnTo>
                  <a:pt x="612" y="860"/>
                </a:lnTo>
                <a:lnTo>
                  <a:pt x="646" y="848"/>
                </a:lnTo>
                <a:lnTo>
                  <a:pt x="680" y="834"/>
                </a:lnTo>
                <a:lnTo>
                  <a:pt x="710" y="820"/>
                </a:lnTo>
                <a:lnTo>
                  <a:pt x="738" y="806"/>
                </a:lnTo>
                <a:lnTo>
                  <a:pt x="764" y="790"/>
                </a:lnTo>
                <a:lnTo>
                  <a:pt x="788" y="774"/>
                </a:lnTo>
                <a:lnTo>
                  <a:pt x="808" y="756"/>
                </a:lnTo>
                <a:lnTo>
                  <a:pt x="826" y="738"/>
                </a:lnTo>
                <a:lnTo>
                  <a:pt x="840" y="720"/>
                </a:lnTo>
                <a:lnTo>
                  <a:pt x="852" y="702"/>
                </a:lnTo>
                <a:lnTo>
                  <a:pt x="862" y="682"/>
                </a:lnTo>
                <a:lnTo>
                  <a:pt x="868" y="664"/>
                </a:lnTo>
                <a:lnTo>
                  <a:pt x="868" y="664"/>
                </a:lnTo>
                <a:lnTo>
                  <a:pt x="874" y="636"/>
                </a:lnTo>
                <a:lnTo>
                  <a:pt x="874" y="610"/>
                </a:lnTo>
                <a:lnTo>
                  <a:pt x="870" y="590"/>
                </a:lnTo>
                <a:lnTo>
                  <a:pt x="862" y="572"/>
                </a:lnTo>
                <a:lnTo>
                  <a:pt x="852" y="558"/>
                </a:lnTo>
                <a:lnTo>
                  <a:pt x="840" y="546"/>
                </a:lnTo>
                <a:lnTo>
                  <a:pt x="826" y="538"/>
                </a:lnTo>
                <a:lnTo>
                  <a:pt x="812" y="534"/>
                </a:lnTo>
                <a:lnTo>
                  <a:pt x="812" y="534"/>
                </a:lnTo>
                <a:lnTo>
                  <a:pt x="796" y="532"/>
                </a:lnTo>
                <a:lnTo>
                  <a:pt x="778" y="534"/>
                </a:lnTo>
                <a:lnTo>
                  <a:pt x="762" y="538"/>
                </a:lnTo>
                <a:lnTo>
                  <a:pt x="748" y="542"/>
                </a:lnTo>
                <a:lnTo>
                  <a:pt x="726" y="552"/>
                </a:lnTo>
                <a:lnTo>
                  <a:pt x="718" y="558"/>
                </a:lnTo>
                <a:lnTo>
                  <a:pt x="718" y="558"/>
                </a:lnTo>
                <a:lnTo>
                  <a:pt x="722" y="546"/>
                </a:lnTo>
                <a:lnTo>
                  <a:pt x="728" y="532"/>
                </a:lnTo>
                <a:lnTo>
                  <a:pt x="736" y="518"/>
                </a:lnTo>
                <a:lnTo>
                  <a:pt x="748" y="502"/>
                </a:lnTo>
                <a:lnTo>
                  <a:pt x="764" y="488"/>
                </a:lnTo>
                <a:lnTo>
                  <a:pt x="774" y="484"/>
                </a:lnTo>
                <a:lnTo>
                  <a:pt x="784" y="478"/>
                </a:lnTo>
                <a:lnTo>
                  <a:pt x="796" y="476"/>
                </a:lnTo>
                <a:lnTo>
                  <a:pt x="808" y="474"/>
                </a:lnTo>
                <a:lnTo>
                  <a:pt x="808" y="474"/>
                </a:lnTo>
                <a:lnTo>
                  <a:pt x="824" y="474"/>
                </a:lnTo>
                <a:lnTo>
                  <a:pt x="838" y="476"/>
                </a:lnTo>
                <a:lnTo>
                  <a:pt x="848" y="480"/>
                </a:lnTo>
                <a:lnTo>
                  <a:pt x="858" y="482"/>
                </a:lnTo>
                <a:lnTo>
                  <a:pt x="870" y="490"/>
                </a:lnTo>
                <a:lnTo>
                  <a:pt x="874" y="494"/>
                </a:lnTo>
                <a:lnTo>
                  <a:pt x="874" y="494"/>
                </a:lnTo>
                <a:lnTo>
                  <a:pt x="872" y="484"/>
                </a:lnTo>
                <a:lnTo>
                  <a:pt x="870" y="474"/>
                </a:lnTo>
                <a:lnTo>
                  <a:pt x="866" y="462"/>
                </a:lnTo>
                <a:lnTo>
                  <a:pt x="858" y="450"/>
                </a:lnTo>
                <a:lnTo>
                  <a:pt x="848" y="438"/>
                </a:lnTo>
                <a:lnTo>
                  <a:pt x="834" y="426"/>
                </a:lnTo>
                <a:lnTo>
                  <a:pt x="826" y="422"/>
                </a:lnTo>
                <a:lnTo>
                  <a:pt x="816" y="420"/>
                </a:lnTo>
                <a:lnTo>
                  <a:pt x="816" y="420"/>
                </a:lnTo>
                <a:lnTo>
                  <a:pt x="796" y="416"/>
                </a:lnTo>
                <a:lnTo>
                  <a:pt x="774" y="416"/>
                </a:lnTo>
                <a:lnTo>
                  <a:pt x="756" y="418"/>
                </a:lnTo>
                <a:lnTo>
                  <a:pt x="738" y="420"/>
                </a:lnTo>
                <a:lnTo>
                  <a:pt x="712" y="428"/>
                </a:lnTo>
                <a:lnTo>
                  <a:pt x="702" y="432"/>
                </a:lnTo>
                <a:lnTo>
                  <a:pt x="702" y="432"/>
                </a:lnTo>
                <a:lnTo>
                  <a:pt x="710" y="420"/>
                </a:lnTo>
                <a:lnTo>
                  <a:pt x="720" y="408"/>
                </a:lnTo>
                <a:lnTo>
                  <a:pt x="734" y="394"/>
                </a:lnTo>
                <a:lnTo>
                  <a:pt x="752" y="380"/>
                </a:lnTo>
                <a:lnTo>
                  <a:pt x="764" y="374"/>
                </a:lnTo>
                <a:lnTo>
                  <a:pt x="776" y="368"/>
                </a:lnTo>
                <a:lnTo>
                  <a:pt x="788" y="364"/>
                </a:lnTo>
                <a:lnTo>
                  <a:pt x="804" y="362"/>
                </a:lnTo>
                <a:lnTo>
                  <a:pt x="820" y="360"/>
                </a:lnTo>
                <a:lnTo>
                  <a:pt x="836" y="362"/>
                </a:lnTo>
                <a:lnTo>
                  <a:pt x="836" y="362"/>
                </a:lnTo>
                <a:lnTo>
                  <a:pt x="852" y="364"/>
                </a:lnTo>
                <a:lnTo>
                  <a:pt x="868" y="368"/>
                </a:lnTo>
                <a:lnTo>
                  <a:pt x="882" y="374"/>
                </a:lnTo>
                <a:lnTo>
                  <a:pt x="894" y="378"/>
                </a:lnTo>
                <a:lnTo>
                  <a:pt x="916" y="392"/>
                </a:lnTo>
                <a:lnTo>
                  <a:pt x="932" y="406"/>
                </a:lnTo>
                <a:lnTo>
                  <a:pt x="944" y="420"/>
                </a:lnTo>
                <a:lnTo>
                  <a:pt x="952" y="432"/>
                </a:lnTo>
                <a:lnTo>
                  <a:pt x="958" y="444"/>
                </a:lnTo>
                <a:lnTo>
                  <a:pt x="958" y="444"/>
                </a:lnTo>
                <a:lnTo>
                  <a:pt x="962" y="434"/>
                </a:lnTo>
                <a:lnTo>
                  <a:pt x="964" y="422"/>
                </a:lnTo>
                <a:lnTo>
                  <a:pt x="966" y="406"/>
                </a:lnTo>
                <a:lnTo>
                  <a:pt x="966" y="406"/>
                </a:lnTo>
                <a:lnTo>
                  <a:pt x="964" y="388"/>
                </a:lnTo>
                <a:lnTo>
                  <a:pt x="960" y="374"/>
                </a:lnTo>
                <a:lnTo>
                  <a:pt x="954" y="360"/>
                </a:lnTo>
                <a:lnTo>
                  <a:pt x="954" y="360"/>
                </a:lnTo>
                <a:lnTo>
                  <a:pt x="964" y="372"/>
                </a:lnTo>
                <a:lnTo>
                  <a:pt x="974" y="388"/>
                </a:lnTo>
                <a:lnTo>
                  <a:pt x="984" y="410"/>
                </a:lnTo>
                <a:lnTo>
                  <a:pt x="988" y="422"/>
                </a:lnTo>
                <a:lnTo>
                  <a:pt x="990" y="438"/>
                </a:lnTo>
                <a:lnTo>
                  <a:pt x="994" y="454"/>
                </a:lnTo>
                <a:lnTo>
                  <a:pt x="994" y="472"/>
                </a:lnTo>
                <a:lnTo>
                  <a:pt x="994" y="490"/>
                </a:lnTo>
                <a:lnTo>
                  <a:pt x="992" y="512"/>
                </a:lnTo>
                <a:lnTo>
                  <a:pt x="988" y="534"/>
                </a:lnTo>
                <a:lnTo>
                  <a:pt x="982" y="558"/>
                </a:lnTo>
                <a:lnTo>
                  <a:pt x="982" y="558"/>
                </a:lnTo>
                <a:lnTo>
                  <a:pt x="968" y="596"/>
                </a:lnTo>
                <a:lnTo>
                  <a:pt x="954" y="632"/>
                </a:lnTo>
                <a:lnTo>
                  <a:pt x="938" y="662"/>
                </a:lnTo>
                <a:lnTo>
                  <a:pt x="924" y="690"/>
                </a:lnTo>
                <a:lnTo>
                  <a:pt x="898" y="732"/>
                </a:lnTo>
                <a:lnTo>
                  <a:pt x="888" y="746"/>
                </a:lnTo>
                <a:lnTo>
                  <a:pt x="888" y="746"/>
                </a:lnTo>
                <a:lnTo>
                  <a:pt x="906" y="740"/>
                </a:lnTo>
                <a:lnTo>
                  <a:pt x="924" y="730"/>
                </a:lnTo>
                <a:lnTo>
                  <a:pt x="948" y="718"/>
                </a:lnTo>
                <a:lnTo>
                  <a:pt x="960" y="708"/>
                </a:lnTo>
                <a:lnTo>
                  <a:pt x="972" y="698"/>
                </a:lnTo>
                <a:lnTo>
                  <a:pt x="984" y="684"/>
                </a:lnTo>
                <a:lnTo>
                  <a:pt x="996" y="670"/>
                </a:lnTo>
                <a:lnTo>
                  <a:pt x="1006" y="654"/>
                </a:lnTo>
                <a:lnTo>
                  <a:pt x="1018" y="636"/>
                </a:lnTo>
                <a:lnTo>
                  <a:pt x="1026" y="614"/>
                </a:lnTo>
                <a:lnTo>
                  <a:pt x="1034" y="592"/>
                </a:lnTo>
                <a:lnTo>
                  <a:pt x="1034" y="592"/>
                </a:lnTo>
                <a:lnTo>
                  <a:pt x="1042" y="564"/>
                </a:lnTo>
                <a:lnTo>
                  <a:pt x="1046" y="538"/>
                </a:lnTo>
                <a:lnTo>
                  <a:pt x="1048" y="514"/>
                </a:lnTo>
                <a:lnTo>
                  <a:pt x="1050" y="492"/>
                </a:lnTo>
                <a:lnTo>
                  <a:pt x="1050" y="470"/>
                </a:lnTo>
                <a:lnTo>
                  <a:pt x="1048" y="452"/>
                </a:lnTo>
                <a:lnTo>
                  <a:pt x="1042" y="418"/>
                </a:lnTo>
                <a:lnTo>
                  <a:pt x="1034" y="394"/>
                </a:lnTo>
                <a:lnTo>
                  <a:pt x="1026" y="374"/>
                </a:lnTo>
                <a:lnTo>
                  <a:pt x="1016" y="360"/>
                </a:lnTo>
                <a:lnTo>
                  <a:pt x="1016" y="360"/>
                </a:lnTo>
                <a:lnTo>
                  <a:pt x="1028" y="368"/>
                </a:lnTo>
                <a:lnTo>
                  <a:pt x="1040" y="378"/>
                </a:lnTo>
                <a:lnTo>
                  <a:pt x="1052" y="392"/>
                </a:lnTo>
                <a:lnTo>
                  <a:pt x="1066" y="410"/>
                </a:lnTo>
                <a:lnTo>
                  <a:pt x="1080" y="432"/>
                </a:lnTo>
                <a:lnTo>
                  <a:pt x="1084" y="444"/>
                </a:lnTo>
                <a:lnTo>
                  <a:pt x="1088" y="458"/>
                </a:lnTo>
                <a:lnTo>
                  <a:pt x="1092" y="472"/>
                </a:lnTo>
                <a:lnTo>
                  <a:pt x="1094" y="488"/>
                </a:lnTo>
                <a:lnTo>
                  <a:pt x="1094" y="488"/>
                </a:lnTo>
                <a:lnTo>
                  <a:pt x="1096" y="518"/>
                </a:lnTo>
                <a:lnTo>
                  <a:pt x="1094" y="546"/>
                </a:lnTo>
                <a:lnTo>
                  <a:pt x="1092" y="570"/>
                </a:lnTo>
                <a:lnTo>
                  <a:pt x="1090" y="590"/>
                </a:lnTo>
                <a:lnTo>
                  <a:pt x="1084" y="618"/>
                </a:lnTo>
                <a:lnTo>
                  <a:pt x="1080" y="628"/>
                </a:lnTo>
                <a:lnTo>
                  <a:pt x="1080" y="628"/>
                </a:lnTo>
                <a:lnTo>
                  <a:pt x="1090" y="618"/>
                </a:lnTo>
                <a:lnTo>
                  <a:pt x="1100" y="602"/>
                </a:lnTo>
                <a:lnTo>
                  <a:pt x="1112" y="582"/>
                </a:lnTo>
                <a:lnTo>
                  <a:pt x="1126" y="552"/>
                </a:lnTo>
                <a:lnTo>
                  <a:pt x="1138" y="514"/>
                </a:lnTo>
                <a:lnTo>
                  <a:pt x="1150" y="468"/>
                </a:lnTo>
                <a:lnTo>
                  <a:pt x="1154" y="442"/>
                </a:lnTo>
                <a:lnTo>
                  <a:pt x="1158" y="412"/>
                </a:lnTo>
                <a:lnTo>
                  <a:pt x="1158" y="412"/>
                </a:lnTo>
                <a:lnTo>
                  <a:pt x="1160" y="382"/>
                </a:lnTo>
                <a:lnTo>
                  <a:pt x="1158" y="352"/>
                </a:lnTo>
                <a:lnTo>
                  <a:pt x="1154" y="324"/>
                </a:lnTo>
                <a:lnTo>
                  <a:pt x="1146" y="298"/>
                </a:lnTo>
                <a:lnTo>
                  <a:pt x="1136" y="272"/>
                </a:lnTo>
                <a:lnTo>
                  <a:pt x="1122" y="248"/>
                </a:lnTo>
                <a:lnTo>
                  <a:pt x="1108" y="226"/>
                </a:lnTo>
                <a:lnTo>
                  <a:pt x="1092" y="204"/>
                </a:lnTo>
                <a:lnTo>
                  <a:pt x="1072" y="186"/>
                </a:lnTo>
                <a:lnTo>
                  <a:pt x="1052" y="168"/>
                </a:lnTo>
                <a:lnTo>
                  <a:pt x="1032" y="152"/>
                </a:lnTo>
                <a:lnTo>
                  <a:pt x="1010" y="138"/>
                </a:lnTo>
                <a:lnTo>
                  <a:pt x="986" y="124"/>
                </a:lnTo>
                <a:lnTo>
                  <a:pt x="964" y="114"/>
                </a:lnTo>
                <a:lnTo>
                  <a:pt x="940" y="106"/>
                </a:lnTo>
                <a:lnTo>
                  <a:pt x="916" y="100"/>
                </a:lnTo>
                <a:lnTo>
                  <a:pt x="916" y="100"/>
                </a:lnTo>
                <a:lnTo>
                  <a:pt x="892" y="96"/>
                </a:lnTo>
                <a:lnTo>
                  <a:pt x="868" y="94"/>
                </a:lnTo>
                <a:lnTo>
                  <a:pt x="844" y="92"/>
                </a:lnTo>
                <a:lnTo>
                  <a:pt x="820" y="94"/>
                </a:lnTo>
                <a:lnTo>
                  <a:pt x="798" y="98"/>
                </a:lnTo>
                <a:lnTo>
                  <a:pt x="774" y="102"/>
                </a:lnTo>
                <a:lnTo>
                  <a:pt x="754" y="108"/>
                </a:lnTo>
                <a:lnTo>
                  <a:pt x="734" y="116"/>
                </a:lnTo>
                <a:lnTo>
                  <a:pt x="716" y="126"/>
                </a:lnTo>
                <a:lnTo>
                  <a:pt x="698" y="136"/>
                </a:lnTo>
                <a:lnTo>
                  <a:pt x="684" y="148"/>
                </a:lnTo>
                <a:lnTo>
                  <a:pt x="674" y="160"/>
                </a:lnTo>
                <a:lnTo>
                  <a:pt x="664" y="176"/>
                </a:lnTo>
                <a:lnTo>
                  <a:pt x="658" y="190"/>
                </a:lnTo>
                <a:lnTo>
                  <a:pt x="656" y="206"/>
                </a:lnTo>
                <a:lnTo>
                  <a:pt x="656" y="224"/>
                </a:lnTo>
                <a:lnTo>
                  <a:pt x="656" y="224"/>
                </a:lnTo>
                <a:lnTo>
                  <a:pt x="662" y="254"/>
                </a:lnTo>
                <a:lnTo>
                  <a:pt x="668" y="278"/>
                </a:lnTo>
                <a:lnTo>
                  <a:pt x="674" y="294"/>
                </a:lnTo>
                <a:lnTo>
                  <a:pt x="680" y="306"/>
                </a:lnTo>
                <a:lnTo>
                  <a:pt x="686" y="312"/>
                </a:lnTo>
                <a:lnTo>
                  <a:pt x="690" y="316"/>
                </a:lnTo>
                <a:lnTo>
                  <a:pt x="694" y="318"/>
                </a:lnTo>
                <a:lnTo>
                  <a:pt x="694" y="318"/>
                </a:lnTo>
                <a:lnTo>
                  <a:pt x="686" y="318"/>
                </a:lnTo>
                <a:lnTo>
                  <a:pt x="666" y="314"/>
                </a:lnTo>
                <a:lnTo>
                  <a:pt x="652" y="310"/>
                </a:lnTo>
                <a:lnTo>
                  <a:pt x="638" y="304"/>
                </a:lnTo>
                <a:lnTo>
                  <a:pt x="622" y="296"/>
                </a:lnTo>
                <a:lnTo>
                  <a:pt x="608" y="286"/>
                </a:lnTo>
                <a:lnTo>
                  <a:pt x="608" y="286"/>
                </a:lnTo>
                <a:lnTo>
                  <a:pt x="596" y="274"/>
                </a:lnTo>
                <a:lnTo>
                  <a:pt x="586" y="262"/>
                </a:lnTo>
                <a:lnTo>
                  <a:pt x="580" y="252"/>
                </a:lnTo>
                <a:lnTo>
                  <a:pt x="574" y="244"/>
                </a:lnTo>
                <a:lnTo>
                  <a:pt x="570" y="230"/>
                </a:lnTo>
                <a:lnTo>
                  <a:pt x="570" y="226"/>
                </a:lnTo>
                <a:lnTo>
                  <a:pt x="570" y="226"/>
                </a:lnTo>
                <a:lnTo>
                  <a:pt x="562" y="242"/>
                </a:lnTo>
                <a:lnTo>
                  <a:pt x="554" y="258"/>
                </a:lnTo>
                <a:lnTo>
                  <a:pt x="546" y="282"/>
                </a:lnTo>
                <a:lnTo>
                  <a:pt x="540" y="308"/>
                </a:lnTo>
                <a:lnTo>
                  <a:pt x="538" y="338"/>
                </a:lnTo>
                <a:lnTo>
                  <a:pt x="538" y="352"/>
                </a:lnTo>
                <a:lnTo>
                  <a:pt x="538" y="368"/>
                </a:lnTo>
                <a:lnTo>
                  <a:pt x="542" y="384"/>
                </a:lnTo>
                <a:lnTo>
                  <a:pt x="546" y="400"/>
                </a:lnTo>
                <a:lnTo>
                  <a:pt x="546" y="400"/>
                </a:lnTo>
                <a:lnTo>
                  <a:pt x="558" y="428"/>
                </a:lnTo>
                <a:lnTo>
                  <a:pt x="572" y="450"/>
                </a:lnTo>
                <a:lnTo>
                  <a:pt x="586" y="468"/>
                </a:lnTo>
                <a:lnTo>
                  <a:pt x="600" y="482"/>
                </a:lnTo>
                <a:lnTo>
                  <a:pt x="612" y="490"/>
                </a:lnTo>
                <a:lnTo>
                  <a:pt x="622" y="496"/>
                </a:lnTo>
                <a:lnTo>
                  <a:pt x="630" y="500"/>
                </a:lnTo>
                <a:lnTo>
                  <a:pt x="630" y="500"/>
                </a:lnTo>
                <a:lnTo>
                  <a:pt x="612" y="496"/>
                </a:lnTo>
                <a:lnTo>
                  <a:pt x="592" y="490"/>
                </a:lnTo>
                <a:lnTo>
                  <a:pt x="568" y="480"/>
                </a:lnTo>
                <a:lnTo>
                  <a:pt x="554" y="472"/>
                </a:lnTo>
                <a:lnTo>
                  <a:pt x="542" y="462"/>
                </a:lnTo>
                <a:lnTo>
                  <a:pt x="530" y="452"/>
                </a:lnTo>
                <a:lnTo>
                  <a:pt x="518" y="438"/>
                </a:lnTo>
                <a:lnTo>
                  <a:pt x="506" y="422"/>
                </a:lnTo>
                <a:lnTo>
                  <a:pt x="496" y="404"/>
                </a:lnTo>
                <a:lnTo>
                  <a:pt x="488" y="384"/>
                </a:lnTo>
                <a:lnTo>
                  <a:pt x="480" y="360"/>
                </a:lnTo>
                <a:lnTo>
                  <a:pt x="480" y="360"/>
                </a:lnTo>
                <a:lnTo>
                  <a:pt x="474" y="336"/>
                </a:lnTo>
                <a:lnTo>
                  <a:pt x="472" y="314"/>
                </a:lnTo>
                <a:lnTo>
                  <a:pt x="470" y="292"/>
                </a:lnTo>
                <a:lnTo>
                  <a:pt x="470" y="274"/>
                </a:lnTo>
                <a:lnTo>
                  <a:pt x="472" y="240"/>
                </a:lnTo>
                <a:lnTo>
                  <a:pt x="478" y="212"/>
                </a:lnTo>
                <a:lnTo>
                  <a:pt x="484" y="192"/>
                </a:lnTo>
                <a:lnTo>
                  <a:pt x="490" y="176"/>
                </a:lnTo>
                <a:lnTo>
                  <a:pt x="498" y="164"/>
                </a:lnTo>
                <a:lnTo>
                  <a:pt x="498" y="164"/>
                </a:lnTo>
                <a:lnTo>
                  <a:pt x="486" y="166"/>
                </a:lnTo>
                <a:lnTo>
                  <a:pt x="474" y="166"/>
                </a:lnTo>
                <a:lnTo>
                  <a:pt x="456" y="166"/>
                </a:lnTo>
                <a:lnTo>
                  <a:pt x="438" y="164"/>
                </a:lnTo>
                <a:lnTo>
                  <a:pt x="418" y="160"/>
                </a:lnTo>
                <a:lnTo>
                  <a:pt x="398" y="154"/>
                </a:lnTo>
                <a:lnTo>
                  <a:pt x="378" y="142"/>
                </a:lnTo>
                <a:lnTo>
                  <a:pt x="378" y="142"/>
                </a:lnTo>
                <a:lnTo>
                  <a:pt x="362" y="128"/>
                </a:lnTo>
                <a:lnTo>
                  <a:pt x="348" y="116"/>
                </a:lnTo>
                <a:lnTo>
                  <a:pt x="340" y="104"/>
                </a:lnTo>
                <a:lnTo>
                  <a:pt x="334" y="92"/>
                </a:lnTo>
                <a:lnTo>
                  <a:pt x="328" y="76"/>
                </a:lnTo>
                <a:lnTo>
                  <a:pt x="326" y="70"/>
                </a:lnTo>
                <a:lnTo>
                  <a:pt x="326" y="70"/>
                </a:lnTo>
                <a:lnTo>
                  <a:pt x="332" y="74"/>
                </a:lnTo>
                <a:lnTo>
                  <a:pt x="352" y="86"/>
                </a:lnTo>
                <a:lnTo>
                  <a:pt x="366" y="92"/>
                </a:lnTo>
                <a:lnTo>
                  <a:pt x="382" y="96"/>
                </a:lnTo>
                <a:lnTo>
                  <a:pt x="402" y="100"/>
                </a:lnTo>
                <a:lnTo>
                  <a:pt x="426" y="102"/>
                </a:lnTo>
                <a:lnTo>
                  <a:pt x="426" y="102"/>
                </a:lnTo>
                <a:lnTo>
                  <a:pt x="450" y="100"/>
                </a:lnTo>
                <a:lnTo>
                  <a:pt x="474" y="96"/>
                </a:lnTo>
                <a:lnTo>
                  <a:pt x="498" y="90"/>
                </a:lnTo>
                <a:lnTo>
                  <a:pt x="520" y="82"/>
                </a:lnTo>
                <a:lnTo>
                  <a:pt x="568" y="62"/>
                </a:lnTo>
                <a:lnTo>
                  <a:pt x="618" y="42"/>
                </a:lnTo>
                <a:lnTo>
                  <a:pt x="644" y="30"/>
                </a:lnTo>
                <a:lnTo>
                  <a:pt x="670" y="22"/>
                </a:lnTo>
                <a:lnTo>
                  <a:pt x="700" y="14"/>
                </a:lnTo>
                <a:lnTo>
                  <a:pt x="728" y="6"/>
                </a:lnTo>
                <a:lnTo>
                  <a:pt x="760" y="2"/>
                </a:lnTo>
                <a:lnTo>
                  <a:pt x="792" y="0"/>
                </a:lnTo>
                <a:lnTo>
                  <a:pt x="828" y="2"/>
                </a:lnTo>
                <a:lnTo>
                  <a:pt x="864" y="6"/>
                </a:lnTo>
                <a:lnTo>
                  <a:pt x="864" y="6"/>
                </a:lnTo>
                <a:lnTo>
                  <a:pt x="900" y="12"/>
                </a:lnTo>
                <a:lnTo>
                  <a:pt x="934" y="20"/>
                </a:lnTo>
                <a:lnTo>
                  <a:pt x="964" y="30"/>
                </a:lnTo>
                <a:lnTo>
                  <a:pt x="992" y="40"/>
                </a:lnTo>
                <a:lnTo>
                  <a:pt x="1018" y="52"/>
                </a:lnTo>
                <a:lnTo>
                  <a:pt x="1042" y="64"/>
                </a:lnTo>
                <a:lnTo>
                  <a:pt x="1064" y="76"/>
                </a:lnTo>
                <a:lnTo>
                  <a:pt x="1084" y="90"/>
                </a:lnTo>
                <a:lnTo>
                  <a:pt x="1102" y="106"/>
                </a:lnTo>
                <a:lnTo>
                  <a:pt x="1120" y="120"/>
                </a:lnTo>
                <a:lnTo>
                  <a:pt x="1134" y="138"/>
                </a:lnTo>
                <a:lnTo>
                  <a:pt x="1150" y="154"/>
                </a:lnTo>
                <a:lnTo>
                  <a:pt x="1176" y="190"/>
                </a:lnTo>
                <a:lnTo>
                  <a:pt x="1200" y="228"/>
                </a:lnTo>
                <a:lnTo>
                  <a:pt x="1200" y="228"/>
                </a:lnTo>
                <a:lnTo>
                  <a:pt x="1208" y="242"/>
                </a:lnTo>
                <a:lnTo>
                  <a:pt x="1216" y="258"/>
                </a:lnTo>
                <a:lnTo>
                  <a:pt x="1226" y="290"/>
                </a:lnTo>
                <a:lnTo>
                  <a:pt x="1232" y="322"/>
                </a:lnTo>
                <a:lnTo>
                  <a:pt x="1234" y="356"/>
                </a:lnTo>
                <a:lnTo>
                  <a:pt x="1234" y="390"/>
                </a:lnTo>
                <a:lnTo>
                  <a:pt x="1232" y="424"/>
                </a:lnTo>
                <a:lnTo>
                  <a:pt x="1226" y="456"/>
                </a:lnTo>
                <a:lnTo>
                  <a:pt x="1220" y="488"/>
                </a:lnTo>
                <a:lnTo>
                  <a:pt x="1212" y="518"/>
                </a:lnTo>
                <a:lnTo>
                  <a:pt x="1202" y="544"/>
                </a:lnTo>
                <a:lnTo>
                  <a:pt x="1186" y="590"/>
                </a:lnTo>
                <a:lnTo>
                  <a:pt x="1174" y="620"/>
                </a:lnTo>
                <a:lnTo>
                  <a:pt x="1168" y="632"/>
                </a:lnTo>
                <a:lnTo>
                  <a:pt x="1168" y="632"/>
                </a:lnTo>
                <a:lnTo>
                  <a:pt x="1242" y="584"/>
                </a:lnTo>
                <a:lnTo>
                  <a:pt x="1424" y="472"/>
                </a:lnTo>
                <a:lnTo>
                  <a:pt x="1536" y="404"/>
                </a:lnTo>
                <a:lnTo>
                  <a:pt x="1652" y="338"/>
                </a:lnTo>
                <a:lnTo>
                  <a:pt x="1762" y="276"/>
                </a:lnTo>
                <a:lnTo>
                  <a:pt x="1814" y="250"/>
                </a:lnTo>
                <a:lnTo>
                  <a:pt x="1862" y="226"/>
                </a:lnTo>
                <a:lnTo>
                  <a:pt x="1862" y="226"/>
                </a:lnTo>
                <a:lnTo>
                  <a:pt x="1910" y="206"/>
                </a:lnTo>
                <a:lnTo>
                  <a:pt x="1960" y="190"/>
                </a:lnTo>
                <a:lnTo>
                  <a:pt x="2012" y="176"/>
                </a:lnTo>
                <a:lnTo>
                  <a:pt x="2066" y="164"/>
                </a:lnTo>
                <a:lnTo>
                  <a:pt x="2120" y="156"/>
                </a:lnTo>
                <a:lnTo>
                  <a:pt x="2176" y="152"/>
                </a:lnTo>
                <a:lnTo>
                  <a:pt x="2232" y="152"/>
                </a:lnTo>
                <a:lnTo>
                  <a:pt x="2288" y="154"/>
                </a:lnTo>
                <a:lnTo>
                  <a:pt x="2342" y="158"/>
                </a:lnTo>
                <a:lnTo>
                  <a:pt x="2396" y="168"/>
                </a:lnTo>
                <a:lnTo>
                  <a:pt x="2446" y="180"/>
                </a:lnTo>
                <a:lnTo>
                  <a:pt x="2494" y="194"/>
                </a:lnTo>
                <a:lnTo>
                  <a:pt x="2538" y="214"/>
                </a:lnTo>
                <a:lnTo>
                  <a:pt x="2558" y="224"/>
                </a:lnTo>
                <a:lnTo>
                  <a:pt x="2578" y="236"/>
                </a:lnTo>
                <a:lnTo>
                  <a:pt x="2596" y="248"/>
                </a:lnTo>
                <a:lnTo>
                  <a:pt x="2614" y="262"/>
                </a:lnTo>
                <a:lnTo>
                  <a:pt x="2630" y="276"/>
                </a:lnTo>
                <a:lnTo>
                  <a:pt x="2644" y="292"/>
                </a:lnTo>
                <a:lnTo>
                  <a:pt x="2644" y="292"/>
                </a:lnTo>
                <a:lnTo>
                  <a:pt x="2664" y="316"/>
                </a:lnTo>
                <a:lnTo>
                  <a:pt x="2680" y="340"/>
                </a:lnTo>
                <a:lnTo>
                  <a:pt x="2696" y="364"/>
                </a:lnTo>
                <a:lnTo>
                  <a:pt x="2708" y="386"/>
                </a:lnTo>
                <a:lnTo>
                  <a:pt x="2718" y="410"/>
                </a:lnTo>
                <a:lnTo>
                  <a:pt x="2726" y="432"/>
                </a:lnTo>
                <a:lnTo>
                  <a:pt x="2730" y="454"/>
                </a:lnTo>
                <a:lnTo>
                  <a:pt x="2734" y="476"/>
                </a:lnTo>
                <a:lnTo>
                  <a:pt x="2736" y="498"/>
                </a:lnTo>
                <a:lnTo>
                  <a:pt x="2738" y="518"/>
                </a:lnTo>
                <a:lnTo>
                  <a:pt x="2736" y="540"/>
                </a:lnTo>
                <a:lnTo>
                  <a:pt x="2734" y="560"/>
                </a:lnTo>
                <a:lnTo>
                  <a:pt x="2730" y="578"/>
                </a:lnTo>
                <a:lnTo>
                  <a:pt x="2726" y="598"/>
                </a:lnTo>
                <a:lnTo>
                  <a:pt x="2714" y="632"/>
                </a:lnTo>
                <a:lnTo>
                  <a:pt x="2700" y="666"/>
                </a:lnTo>
                <a:lnTo>
                  <a:pt x="2684" y="694"/>
                </a:lnTo>
                <a:lnTo>
                  <a:pt x="2666" y="720"/>
                </a:lnTo>
                <a:lnTo>
                  <a:pt x="2650" y="742"/>
                </a:lnTo>
                <a:lnTo>
                  <a:pt x="2624" y="772"/>
                </a:lnTo>
                <a:lnTo>
                  <a:pt x="2614" y="782"/>
                </a:lnTo>
                <a:lnTo>
                  <a:pt x="2614" y="782"/>
                </a:lnTo>
                <a:lnTo>
                  <a:pt x="2612" y="800"/>
                </a:lnTo>
                <a:lnTo>
                  <a:pt x="2610" y="818"/>
                </a:lnTo>
                <a:lnTo>
                  <a:pt x="2610" y="840"/>
                </a:lnTo>
                <a:lnTo>
                  <a:pt x="2614" y="862"/>
                </a:lnTo>
                <a:lnTo>
                  <a:pt x="2618" y="872"/>
                </a:lnTo>
                <a:lnTo>
                  <a:pt x="2622" y="882"/>
                </a:lnTo>
                <a:lnTo>
                  <a:pt x="2628" y="890"/>
                </a:lnTo>
                <a:lnTo>
                  <a:pt x="2636" y="896"/>
                </a:lnTo>
                <a:lnTo>
                  <a:pt x="2646" y="900"/>
                </a:lnTo>
                <a:lnTo>
                  <a:pt x="2658" y="902"/>
                </a:lnTo>
                <a:lnTo>
                  <a:pt x="2658" y="902"/>
                </a:lnTo>
                <a:lnTo>
                  <a:pt x="2670" y="902"/>
                </a:lnTo>
                <a:lnTo>
                  <a:pt x="2678" y="900"/>
                </a:lnTo>
                <a:lnTo>
                  <a:pt x="2686" y="898"/>
                </a:lnTo>
                <a:lnTo>
                  <a:pt x="2692" y="894"/>
                </a:lnTo>
                <a:lnTo>
                  <a:pt x="2696" y="890"/>
                </a:lnTo>
                <a:lnTo>
                  <a:pt x="2698" y="886"/>
                </a:lnTo>
                <a:lnTo>
                  <a:pt x="2700" y="874"/>
                </a:lnTo>
                <a:lnTo>
                  <a:pt x="2700" y="864"/>
                </a:lnTo>
                <a:lnTo>
                  <a:pt x="2696" y="854"/>
                </a:lnTo>
                <a:lnTo>
                  <a:pt x="2692" y="844"/>
                </a:lnTo>
                <a:lnTo>
                  <a:pt x="2692" y="844"/>
                </a:lnTo>
                <a:lnTo>
                  <a:pt x="2704" y="844"/>
                </a:lnTo>
                <a:lnTo>
                  <a:pt x="2714" y="846"/>
                </a:lnTo>
                <a:lnTo>
                  <a:pt x="2728" y="850"/>
                </a:lnTo>
                <a:lnTo>
                  <a:pt x="2740" y="858"/>
                </a:lnTo>
                <a:lnTo>
                  <a:pt x="2744" y="864"/>
                </a:lnTo>
                <a:lnTo>
                  <a:pt x="2748" y="870"/>
                </a:lnTo>
                <a:lnTo>
                  <a:pt x="2752" y="878"/>
                </a:lnTo>
                <a:lnTo>
                  <a:pt x="2754" y="888"/>
                </a:lnTo>
                <a:lnTo>
                  <a:pt x="2754" y="900"/>
                </a:lnTo>
                <a:lnTo>
                  <a:pt x="2752" y="912"/>
                </a:lnTo>
                <a:lnTo>
                  <a:pt x="2752" y="912"/>
                </a:lnTo>
                <a:lnTo>
                  <a:pt x="2748" y="924"/>
                </a:lnTo>
                <a:lnTo>
                  <a:pt x="2742" y="936"/>
                </a:lnTo>
                <a:lnTo>
                  <a:pt x="2736" y="944"/>
                </a:lnTo>
                <a:lnTo>
                  <a:pt x="2726" y="952"/>
                </a:lnTo>
                <a:lnTo>
                  <a:pt x="2716" y="958"/>
                </a:lnTo>
                <a:lnTo>
                  <a:pt x="2706" y="962"/>
                </a:lnTo>
                <a:lnTo>
                  <a:pt x="2694" y="964"/>
                </a:lnTo>
                <a:lnTo>
                  <a:pt x="2682" y="964"/>
                </a:lnTo>
                <a:lnTo>
                  <a:pt x="2670" y="964"/>
                </a:lnTo>
                <a:lnTo>
                  <a:pt x="2658" y="962"/>
                </a:lnTo>
                <a:lnTo>
                  <a:pt x="2646" y="958"/>
                </a:lnTo>
                <a:lnTo>
                  <a:pt x="2636" y="952"/>
                </a:lnTo>
                <a:lnTo>
                  <a:pt x="2626" y="946"/>
                </a:lnTo>
                <a:lnTo>
                  <a:pt x="2616" y="938"/>
                </a:lnTo>
                <a:lnTo>
                  <a:pt x="2610" y="928"/>
                </a:lnTo>
                <a:lnTo>
                  <a:pt x="2604" y="918"/>
                </a:lnTo>
                <a:lnTo>
                  <a:pt x="2604" y="918"/>
                </a:lnTo>
                <a:lnTo>
                  <a:pt x="2596" y="896"/>
                </a:lnTo>
                <a:lnTo>
                  <a:pt x="2592" y="874"/>
                </a:lnTo>
                <a:lnTo>
                  <a:pt x="2588" y="852"/>
                </a:lnTo>
                <a:lnTo>
                  <a:pt x="2588" y="834"/>
                </a:lnTo>
                <a:lnTo>
                  <a:pt x="2588" y="804"/>
                </a:lnTo>
                <a:lnTo>
                  <a:pt x="2588" y="794"/>
                </a:lnTo>
                <a:lnTo>
                  <a:pt x="2588" y="794"/>
                </a:lnTo>
                <a:lnTo>
                  <a:pt x="2582" y="796"/>
                </a:lnTo>
                <a:lnTo>
                  <a:pt x="2564" y="804"/>
                </a:lnTo>
                <a:lnTo>
                  <a:pt x="2534" y="812"/>
                </a:lnTo>
                <a:lnTo>
                  <a:pt x="2516" y="816"/>
                </a:lnTo>
                <a:lnTo>
                  <a:pt x="2496" y="820"/>
                </a:lnTo>
                <a:lnTo>
                  <a:pt x="2474" y="820"/>
                </a:lnTo>
                <a:lnTo>
                  <a:pt x="2450" y="822"/>
                </a:lnTo>
                <a:lnTo>
                  <a:pt x="2424" y="820"/>
                </a:lnTo>
                <a:lnTo>
                  <a:pt x="2396" y="816"/>
                </a:lnTo>
                <a:lnTo>
                  <a:pt x="2366" y="810"/>
                </a:lnTo>
                <a:lnTo>
                  <a:pt x="2336" y="802"/>
                </a:lnTo>
                <a:lnTo>
                  <a:pt x="2304" y="790"/>
                </a:lnTo>
                <a:lnTo>
                  <a:pt x="2270" y="774"/>
                </a:lnTo>
                <a:lnTo>
                  <a:pt x="2270" y="774"/>
                </a:lnTo>
                <a:lnTo>
                  <a:pt x="2254" y="764"/>
                </a:lnTo>
                <a:lnTo>
                  <a:pt x="2238" y="754"/>
                </a:lnTo>
                <a:lnTo>
                  <a:pt x="2224" y="742"/>
                </a:lnTo>
                <a:lnTo>
                  <a:pt x="2210" y="728"/>
                </a:lnTo>
                <a:lnTo>
                  <a:pt x="2198" y="716"/>
                </a:lnTo>
                <a:lnTo>
                  <a:pt x="2186" y="700"/>
                </a:lnTo>
                <a:lnTo>
                  <a:pt x="2176" y="684"/>
                </a:lnTo>
                <a:lnTo>
                  <a:pt x="2168" y="668"/>
                </a:lnTo>
                <a:lnTo>
                  <a:pt x="2152" y="634"/>
                </a:lnTo>
                <a:lnTo>
                  <a:pt x="2140" y="600"/>
                </a:lnTo>
                <a:lnTo>
                  <a:pt x="2134" y="562"/>
                </a:lnTo>
                <a:lnTo>
                  <a:pt x="2130" y="526"/>
                </a:lnTo>
                <a:lnTo>
                  <a:pt x="2132" y="490"/>
                </a:lnTo>
                <a:lnTo>
                  <a:pt x="2136" y="456"/>
                </a:lnTo>
                <a:lnTo>
                  <a:pt x="2140" y="440"/>
                </a:lnTo>
                <a:lnTo>
                  <a:pt x="2146" y="424"/>
                </a:lnTo>
                <a:lnTo>
                  <a:pt x="2152" y="408"/>
                </a:lnTo>
                <a:lnTo>
                  <a:pt x="2160" y="394"/>
                </a:lnTo>
                <a:lnTo>
                  <a:pt x="2168" y="380"/>
                </a:lnTo>
                <a:lnTo>
                  <a:pt x="2178" y="368"/>
                </a:lnTo>
                <a:lnTo>
                  <a:pt x="2190" y="356"/>
                </a:lnTo>
                <a:lnTo>
                  <a:pt x="2202" y="346"/>
                </a:lnTo>
                <a:lnTo>
                  <a:pt x="2214" y="336"/>
                </a:lnTo>
                <a:lnTo>
                  <a:pt x="2228" y="328"/>
                </a:lnTo>
                <a:lnTo>
                  <a:pt x="2244" y="322"/>
                </a:lnTo>
                <a:lnTo>
                  <a:pt x="2260" y="318"/>
                </a:lnTo>
                <a:lnTo>
                  <a:pt x="2260" y="318"/>
                </a:lnTo>
                <a:lnTo>
                  <a:pt x="2292" y="312"/>
                </a:lnTo>
                <a:lnTo>
                  <a:pt x="2322" y="312"/>
                </a:lnTo>
                <a:lnTo>
                  <a:pt x="2348" y="316"/>
                </a:lnTo>
                <a:lnTo>
                  <a:pt x="2370" y="324"/>
                </a:lnTo>
                <a:lnTo>
                  <a:pt x="2392" y="334"/>
                </a:lnTo>
                <a:lnTo>
                  <a:pt x="2410" y="348"/>
                </a:lnTo>
                <a:lnTo>
                  <a:pt x="2426" y="364"/>
                </a:lnTo>
                <a:lnTo>
                  <a:pt x="2440" y="380"/>
                </a:lnTo>
                <a:lnTo>
                  <a:pt x="2450" y="398"/>
                </a:lnTo>
                <a:lnTo>
                  <a:pt x="2460" y="416"/>
                </a:lnTo>
                <a:lnTo>
                  <a:pt x="2468" y="432"/>
                </a:lnTo>
                <a:lnTo>
                  <a:pt x="2474" y="448"/>
                </a:lnTo>
                <a:lnTo>
                  <a:pt x="2480" y="474"/>
                </a:lnTo>
                <a:lnTo>
                  <a:pt x="2482" y="488"/>
                </a:lnTo>
                <a:lnTo>
                  <a:pt x="2482" y="488"/>
                </a:lnTo>
                <a:lnTo>
                  <a:pt x="2480" y="506"/>
                </a:lnTo>
                <a:lnTo>
                  <a:pt x="2480" y="518"/>
                </a:lnTo>
                <a:lnTo>
                  <a:pt x="2480" y="530"/>
                </a:lnTo>
                <a:lnTo>
                  <a:pt x="2484" y="542"/>
                </a:lnTo>
                <a:lnTo>
                  <a:pt x="2490" y="552"/>
                </a:lnTo>
                <a:lnTo>
                  <a:pt x="2500" y="560"/>
                </a:lnTo>
                <a:lnTo>
                  <a:pt x="2506" y="564"/>
                </a:lnTo>
                <a:lnTo>
                  <a:pt x="2514" y="566"/>
                </a:lnTo>
                <a:lnTo>
                  <a:pt x="2514" y="566"/>
                </a:lnTo>
                <a:lnTo>
                  <a:pt x="2524" y="568"/>
                </a:lnTo>
                <a:lnTo>
                  <a:pt x="2532" y="568"/>
                </a:lnTo>
                <a:lnTo>
                  <a:pt x="2540" y="566"/>
                </a:lnTo>
                <a:lnTo>
                  <a:pt x="2548" y="564"/>
                </a:lnTo>
                <a:lnTo>
                  <a:pt x="2558" y="558"/>
                </a:lnTo>
                <a:lnTo>
                  <a:pt x="2568" y="550"/>
                </a:lnTo>
                <a:lnTo>
                  <a:pt x="2572" y="540"/>
                </a:lnTo>
                <a:lnTo>
                  <a:pt x="2576" y="532"/>
                </a:lnTo>
                <a:lnTo>
                  <a:pt x="2578" y="524"/>
                </a:lnTo>
                <a:lnTo>
                  <a:pt x="2578" y="524"/>
                </a:lnTo>
                <a:lnTo>
                  <a:pt x="2580" y="532"/>
                </a:lnTo>
                <a:lnTo>
                  <a:pt x="2582" y="542"/>
                </a:lnTo>
                <a:lnTo>
                  <a:pt x="2584" y="552"/>
                </a:lnTo>
                <a:lnTo>
                  <a:pt x="2582" y="566"/>
                </a:lnTo>
                <a:lnTo>
                  <a:pt x="2578" y="578"/>
                </a:lnTo>
                <a:lnTo>
                  <a:pt x="2572" y="590"/>
                </a:lnTo>
                <a:lnTo>
                  <a:pt x="2566" y="596"/>
                </a:lnTo>
                <a:lnTo>
                  <a:pt x="2558" y="600"/>
                </a:lnTo>
                <a:lnTo>
                  <a:pt x="2558" y="600"/>
                </a:lnTo>
                <a:lnTo>
                  <a:pt x="2548" y="604"/>
                </a:lnTo>
                <a:lnTo>
                  <a:pt x="2538" y="608"/>
                </a:lnTo>
                <a:lnTo>
                  <a:pt x="2528" y="610"/>
                </a:lnTo>
                <a:lnTo>
                  <a:pt x="2518" y="610"/>
                </a:lnTo>
                <a:lnTo>
                  <a:pt x="2500" y="610"/>
                </a:lnTo>
                <a:lnTo>
                  <a:pt x="2484" y="606"/>
                </a:lnTo>
                <a:lnTo>
                  <a:pt x="2470" y="600"/>
                </a:lnTo>
                <a:lnTo>
                  <a:pt x="2460" y="594"/>
                </a:lnTo>
                <a:lnTo>
                  <a:pt x="2450" y="588"/>
                </a:lnTo>
                <a:lnTo>
                  <a:pt x="2450" y="588"/>
                </a:lnTo>
                <a:lnTo>
                  <a:pt x="2446" y="596"/>
                </a:lnTo>
                <a:lnTo>
                  <a:pt x="2444" y="604"/>
                </a:lnTo>
                <a:lnTo>
                  <a:pt x="2440" y="616"/>
                </a:lnTo>
                <a:lnTo>
                  <a:pt x="2440" y="626"/>
                </a:lnTo>
                <a:lnTo>
                  <a:pt x="2440" y="638"/>
                </a:lnTo>
                <a:lnTo>
                  <a:pt x="2444" y="650"/>
                </a:lnTo>
                <a:lnTo>
                  <a:pt x="2448" y="654"/>
                </a:lnTo>
                <a:lnTo>
                  <a:pt x="2454" y="658"/>
                </a:lnTo>
                <a:lnTo>
                  <a:pt x="2454" y="658"/>
                </a:lnTo>
                <a:lnTo>
                  <a:pt x="2470" y="666"/>
                </a:lnTo>
                <a:lnTo>
                  <a:pt x="2486" y="670"/>
                </a:lnTo>
                <a:lnTo>
                  <a:pt x="2500" y="668"/>
                </a:lnTo>
                <a:lnTo>
                  <a:pt x="2512" y="666"/>
                </a:lnTo>
                <a:lnTo>
                  <a:pt x="2520" y="660"/>
                </a:lnTo>
                <a:lnTo>
                  <a:pt x="2528" y="656"/>
                </a:lnTo>
                <a:lnTo>
                  <a:pt x="2534" y="650"/>
                </a:lnTo>
                <a:lnTo>
                  <a:pt x="2534" y="650"/>
                </a:lnTo>
                <a:lnTo>
                  <a:pt x="2532" y="658"/>
                </a:lnTo>
                <a:lnTo>
                  <a:pt x="2530" y="668"/>
                </a:lnTo>
                <a:lnTo>
                  <a:pt x="2524" y="678"/>
                </a:lnTo>
                <a:lnTo>
                  <a:pt x="2516" y="690"/>
                </a:lnTo>
                <a:lnTo>
                  <a:pt x="2502" y="698"/>
                </a:lnTo>
                <a:lnTo>
                  <a:pt x="2494" y="702"/>
                </a:lnTo>
                <a:lnTo>
                  <a:pt x="2486" y="704"/>
                </a:lnTo>
                <a:lnTo>
                  <a:pt x="2474" y="706"/>
                </a:lnTo>
                <a:lnTo>
                  <a:pt x="2462" y="706"/>
                </a:lnTo>
                <a:lnTo>
                  <a:pt x="2462" y="706"/>
                </a:lnTo>
                <a:lnTo>
                  <a:pt x="2444" y="704"/>
                </a:lnTo>
                <a:lnTo>
                  <a:pt x="2430" y="698"/>
                </a:lnTo>
                <a:lnTo>
                  <a:pt x="2418" y="692"/>
                </a:lnTo>
                <a:lnTo>
                  <a:pt x="2406" y="682"/>
                </a:lnTo>
                <a:lnTo>
                  <a:pt x="2398" y="672"/>
                </a:lnTo>
                <a:lnTo>
                  <a:pt x="2392" y="660"/>
                </a:lnTo>
                <a:lnTo>
                  <a:pt x="2386" y="648"/>
                </a:lnTo>
                <a:lnTo>
                  <a:pt x="2382" y="634"/>
                </a:lnTo>
                <a:lnTo>
                  <a:pt x="2376" y="610"/>
                </a:lnTo>
                <a:lnTo>
                  <a:pt x="2374" y="588"/>
                </a:lnTo>
                <a:lnTo>
                  <a:pt x="2374" y="566"/>
                </a:lnTo>
                <a:lnTo>
                  <a:pt x="2374" y="566"/>
                </a:lnTo>
                <a:lnTo>
                  <a:pt x="2368" y="566"/>
                </a:lnTo>
                <a:lnTo>
                  <a:pt x="2352" y="564"/>
                </a:lnTo>
                <a:lnTo>
                  <a:pt x="2342" y="560"/>
                </a:lnTo>
                <a:lnTo>
                  <a:pt x="2330" y="554"/>
                </a:lnTo>
                <a:lnTo>
                  <a:pt x="2318" y="546"/>
                </a:lnTo>
                <a:lnTo>
                  <a:pt x="2306" y="534"/>
                </a:lnTo>
                <a:lnTo>
                  <a:pt x="2306" y="534"/>
                </a:lnTo>
                <a:lnTo>
                  <a:pt x="2296" y="520"/>
                </a:lnTo>
                <a:lnTo>
                  <a:pt x="2290" y="504"/>
                </a:lnTo>
                <a:lnTo>
                  <a:pt x="2288" y="490"/>
                </a:lnTo>
                <a:lnTo>
                  <a:pt x="2290" y="476"/>
                </a:lnTo>
                <a:lnTo>
                  <a:pt x="2290" y="462"/>
                </a:lnTo>
                <a:lnTo>
                  <a:pt x="2294" y="452"/>
                </a:lnTo>
                <a:lnTo>
                  <a:pt x="2296" y="444"/>
                </a:lnTo>
                <a:lnTo>
                  <a:pt x="2296" y="444"/>
                </a:lnTo>
                <a:lnTo>
                  <a:pt x="2298" y="454"/>
                </a:lnTo>
                <a:lnTo>
                  <a:pt x="2302" y="464"/>
                </a:lnTo>
                <a:lnTo>
                  <a:pt x="2308" y="476"/>
                </a:lnTo>
                <a:lnTo>
                  <a:pt x="2316" y="486"/>
                </a:lnTo>
                <a:lnTo>
                  <a:pt x="2322" y="490"/>
                </a:lnTo>
                <a:lnTo>
                  <a:pt x="2328" y="494"/>
                </a:lnTo>
                <a:lnTo>
                  <a:pt x="2336" y="498"/>
                </a:lnTo>
                <a:lnTo>
                  <a:pt x="2344" y="498"/>
                </a:lnTo>
                <a:lnTo>
                  <a:pt x="2354" y="500"/>
                </a:lnTo>
                <a:lnTo>
                  <a:pt x="2366" y="498"/>
                </a:lnTo>
                <a:lnTo>
                  <a:pt x="2366" y="498"/>
                </a:lnTo>
                <a:lnTo>
                  <a:pt x="2376" y="494"/>
                </a:lnTo>
                <a:lnTo>
                  <a:pt x="2386" y="490"/>
                </a:lnTo>
                <a:lnTo>
                  <a:pt x="2392" y="484"/>
                </a:lnTo>
                <a:lnTo>
                  <a:pt x="2398" y="478"/>
                </a:lnTo>
                <a:lnTo>
                  <a:pt x="2402" y="470"/>
                </a:lnTo>
                <a:lnTo>
                  <a:pt x="2402" y="460"/>
                </a:lnTo>
                <a:lnTo>
                  <a:pt x="2402" y="452"/>
                </a:lnTo>
                <a:lnTo>
                  <a:pt x="2402" y="442"/>
                </a:lnTo>
                <a:lnTo>
                  <a:pt x="2398" y="432"/>
                </a:lnTo>
                <a:lnTo>
                  <a:pt x="2394" y="422"/>
                </a:lnTo>
                <a:lnTo>
                  <a:pt x="2382" y="404"/>
                </a:lnTo>
                <a:lnTo>
                  <a:pt x="2366" y="386"/>
                </a:lnTo>
                <a:lnTo>
                  <a:pt x="2358" y="380"/>
                </a:lnTo>
                <a:lnTo>
                  <a:pt x="2348" y="374"/>
                </a:lnTo>
                <a:lnTo>
                  <a:pt x="2348" y="374"/>
                </a:lnTo>
                <a:lnTo>
                  <a:pt x="2338" y="370"/>
                </a:lnTo>
                <a:lnTo>
                  <a:pt x="2324" y="366"/>
                </a:lnTo>
                <a:lnTo>
                  <a:pt x="2312" y="364"/>
                </a:lnTo>
                <a:lnTo>
                  <a:pt x="2296" y="366"/>
                </a:lnTo>
                <a:lnTo>
                  <a:pt x="2282" y="368"/>
                </a:lnTo>
                <a:lnTo>
                  <a:pt x="2266" y="372"/>
                </a:lnTo>
                <a:lnTo>
                  <a:pt x="2252" y="376"/>
                </a:lnTo>
                <a:lnTo>
                  <a:pt x="2236" y="384"/>
                </a:lnTo>
                <a:lnTo>
                  <a:pt x="2222" y="394"/>
                </a:lnTo>
                <a:lnTo>
                  <a:pt x="2210" y="406"/>
                </a:lnTo>
                <a:lnTo>
                  <a:pt x="2198" y="420"/>
                </a:lnTo>
                <a:lnTo>
                  <a:pt x="2188" y="436"/>
                </a:lnTo>
                <a:lnTo>
                  <a:pt x="2180" y="456"/>
                </a:lnTo>
                <a:lnTo>
                  <a:pt x="2174" y="476"/>
                </a:lnTo>
                <a:lnTo>
                  <a:pt x="2170" y="500"/>
                </a:lnTo>
                <a:lnTo>
                  <a:pt x="2170" y="526"/>
                </a:lnTo>
                <a:lnTo>
                  <a:pt x="2170" y="526"/>
                </a:lnTo>
                <a:lnTo>
                  <a:pt x="2172" y="552"/>
                </a:lnTo>
                <a:lnTo>
                  <a:pt x="2176" y="578"/>
                </a:lnTo>
                <a:lnTo>
                  <a:pt x="2184" y="604"/>
                </a:lnTo>
                <a:lnTo>
                  <a:pt x="2192" y="628"/>
                </a:lnTo>
                <a:lnTo>
                  <a:pt x="2202" y="650"/>
                </a:lnTo>
                <a:lnTo>
                  <a:pt x="2214" y="670"/>
                </a:lnTo>
                <a:lnTo>
                  <a:pt x="2228" y="690"/>
                </a:lnTo>
                <a:lnTo>
                  <a:pt x="2244" y="708"/>
                </a:lnTo>
                <a:lnTo>
                  <a:pt x="2262" y="724"/>
                </a:lnTo>
                <a:lnTo>
                  <a:pt x="2282" y="738"/>
                </a:lnTo>
                <a:lnTo>
                  <a:pt x="2302" y="750"/>
                </a:lnTo>
                <a:lnTo>
                  <a:pt x="2324" y="760"/>
                </a:lnTo>
                <a:lnTo>
                  <a:pt x="2348" y="768"/>
                </a:lnTo>
                <a:lnTo>
                  <a:pt x="2372" y="774"/>
                </a:lnTo>
                <a:lnTo>
                  <a:pt x="2398" y="776"/>
                </a:lnTo>
                <a:lnTo>
                  <a:pt x="2426" y="778"/>
                </a:lnTo>
                <a:lnTo>
                  <a:pt x="2426" y="778"/>
                </a:lnTo>
                <a:lnTo>
                  <a:pt x="2452" y="776"/>
                </a:lnTo>
                <a:lnTo>
                  <a:pt x="2478" y="774"/>
                </a:lnTo>
                <a:lnTo>
                  <a:pt x="2502" y="770"/>
                </a:lnTo>
                <a:lnTo>
                  <a:pt x="2524" y="766"/>
                </a:lnTo>
                <a:lnTo>
                  <a:pt x="2546" y="760"/>
                </a:lnTo>
                <a:lnTo>
                  <a:pt x="2566" y="752"/>
                </a:lnTo>
                <a:lnTo>
                  <a:pt x="2584" y="742"/>
                </a:lnTo>
                <a:lnTo>
                  <a:pt x="2600" y="732"/>
                </a:lnTo>
                <a:lnTo>
                  <a:pt x="2614" y="720"/>
                </a:lnTo>
                <a:lnTo>
                  <a:pt x="2628" y="708"/>
                </a:lnTo>
                <a:lnTo>
                  <a:pt x="2640" y="692"/>
                </a:lnTo>
                <a:lnTo>
                  <a:pt x="2652" y="678"/>
                </a:lnTo>
                <a:lnTo>
                  <a:pt x="2660" y="660"/>
                </a:lnTo>
                <a:lnTo>
                  <a:pt x="2668" y="642"/>
                </a:lnTo>
                <a:lnTo>
                  <a:pt x="2674" y="622"/>
                </a:lnTo>
                <a:lnTo>
                  <a:pt x="2680" y="602"/>
                </a:lnTo>
                <a:lnTo>
                  <a:pt x="2680" y="602"/>
                </a:lnTo>
                <a:lnTo>
                  <a:pt x="2684" y="580"/>
                </a:lnTo>
                <a:lnTo>
                  <a:pt x="2686" y="554"/>
                </a:lnTo>
                <a:lnTo>
                  <a:pt x="2684" y="528"/>
                </a:lnTo>
                <a:lnTo>
                  <a:pt x="2682" y="498"/>
                </a:lnTo>
                <a:lnTo>
                  <a:pt x="2676" y="470"/>
                </a:lnTo>
                <a:lnTo>
                  <a:pt x="2666" y="440"/>
                </a:lnTo>
                <a:lnTo>
                  <a:pt x="2652" y="410"/>
                </a:lnTo>
                <a:lnTo>
                  <a:pt x="2634" y="380"/>
                </a:lnTo>
                <a:lnTo>
                  <a:pt x="2612" y="352"/>
                </a:lnTo>
                <a:lnTo>
                  <a:pt x="2586" y="324"/>
                </a:lnTo>
                <a:lnTo>
                  <a:pt x="2570" y="312"/>
                </a:lnTo>
                <a:lnTo>
                  <a:pt x="2554" y="300"/>
                </a:lnTo>
                <a:lnTo>
                  <a:pt x="2536" y="288"/>
                </a:lnTo>
                <a:lnTo>
                  <a:pt x="2518" y="276"/>
                </a:lnTo>
                <a:lnTo>
                  <a:pt x="2496" y="266"/>
                </a:lnTo>
                <a:lnTo>
                  <a:pt x="2474" y="256"/>
                </a:lnTo>
                <a:lnTo>
                  <a:pt x="2450" y="246"/>
                </a:lnTo>
                <a:lnTo>
                  <a:pt x="2424" y="238"/>
                </a:lnTo>
                <a:lnTo>
                  <a:pt x="2398" y="232"/>
                </a:lnTo>
                <a:lnTo>
                  <a:pt x="2368" y="226"/>
                </a:lnTo>
                <a:lnTo>
                  <a:pt x="2338" y="220"/>
                </a:lnTo>
                <a:lnTo>
                  <a:pt x="2306" y="216"/>
                </a:lnTo>
                <a:lnTo>
                  <a:pt x="2306" y="216"/>
                </a:lnTo>
                <a:lnTo>
                  <a:pt x="2270" y="212"/>
                </a:lnTo>
                <a:lnTo>
                  <a:pt x="2236" y="212"/>
                </a:lnTo>
                <a:lnTo>
                  <a:pt x="2202" y="212"/>
                </a:lnTo>
                <a:lnTo>
                  <a:pt x="2168" y="214"/>
                </a:lnTo>
                <a:lnTo>
                  <a:pt x="2134" y="218"/>
                </a:lnTo>
                <a:lnTo>
                  <a:pt x="2102" y="224"/>
                </a:lnTo>
                <a:lnTo>
                  <a:pt x="2070" y="230"/>
                </a:lnTo>
                <a:lnTo>
                  <a:pt x="2038" y="236"/>
                </a:lnTo>
                <a:lnTo>
                  <a:pt x="1976" y="254"/>
                </a:lnTo>
                <a:lnTo>
                  <a:pt x="1918" y="274"/>
                </a:lnTo>
                <a:lnTo>
                  <a:pt x="1864" y="296"/>
                </a:lnTo>
                <a:lnTo>
                  <a:pt x="1814" y="320"/>
                </a:lnTo>
                <a:lnTo>
                  <a:pt x="1766" y="346"/>
                </a:lnTo>
                <a:lnTo>
                  <a:pt x="1726" y="370"/>
                </a:lnTo>
                <a:lnTo>
                  <a:pt x="1690" y="392"/>
                </a:lnTo>
                <a:lnTo>
                  <a:pt x="1660" y="412"/>
                </a:lnTo>
                <a:lnTo>
                  <a:pt x="1616" y="444"/>
                </a:lnTo>
                <a:lnTo>
                  <a:pt x="1602" y="456"/>
                </a:lnTo>
                <a:lnTo>
                  <a:pt x="1602" y="456"/>
                </a:lnTo>
                <a:lnTo>
                  <a:pt x="1616" y="456"/>
                </a:lnTo>
                <a:lnTo>
                  <a:pt x="1630" y="456"/>
                </a:lnTo>
                <a:lnTo>
                  <a:pt x="1646" y="458"/>
                </a:lnTo>
                <a:lnTo>
                  <a:pt x="1664" y="462"/>
                </a:lnTo>
                <a:lnTo>
                  <a:pt x="1684" y="468"/>
                </a:lnTo>
                <a:lnTo>
                  <a:pt x="1702" y="476"/>
                </a:lnTo>
                <a:lnTo>
                  <a:pt x="1710" y="482"/>
                </a:lnTo>
                <a:lnTo>
                  <a:pt x="1716" y="490"/>
                </a:lnTo>
                <a:lnTo>
                  <a:pt x="1716" y="490"/>
                </a:lnTo>
                <a:lnTo>
                  <a:pt x="1728" y="504"/>
                </a:lnTo>
                <a:lnTo>
                  <a:pt x="1740" y="516"/>
                </a:lnTo>
                <a:lnTo>
                  <a:pt x="1752" y="526"/>
                </a:lnTo>
                <a:lnTo>
                  <a:pt x="1766" y="534"/>
                </a:lnTo>
                <a:lnTo>
                  <a:pt x="1778" y="540"/>
                </a:lnTo>
                <a:lnTo>
                  <a:pt x="1794" y="546"/>
                </a:lnTo>
                <a:lnTo>
                  <a:pt x="1810" y="550"/>
                </a:lnTo>
                <a:lnTo>
                  <a:pt x="1828" y="552"/>
                </a:lnTo>
                <a:lnTo>
                  <a:pt x="1828" y="552"/>
                </a:lnTo>
                <a:lnTo>
                  <a:pt x="1848" y="554"/>
                </a:lnTo>
                <a:lnTo>
                  <a:pt x="1866" y="554"/>
                </a:lnTo>
                <a:lnTo>
                  <a:pt x="1882" y="552"/>
                </a:lnTo>
                <a:lnTo>
                  <a:pt x="1898" y="548"/>
                </a:lnTo>
                <a:lnTo>
                  <a:pt x="1910" y="542"/>
                </a:lnTo>
                <a:lnTo>
                  <a:pt x="1920" y="534"/>
                </a:lnTo>
                <a:lnTo>
                  <a:pt x="1924" y="528"/>
                </a:lnTo>
                <a:lnTo>
                  <a:pt x="1926" y="522"/>
                </a:lnTo>
                <a:lnTo>
                  <a:pt x="1928" y="506"/>
                </a:lnTo>
                <a:lnTo>
                  <a:pt x="1928" y="506"/>
                </a:lnTo>
                <a:lnTo>
                  <a:pt x="1928" y="498"/>
                </a:lnTo>
                <a:lnTo>
                  <a:pt x="1926" y="492"/>
                </a:lnTo>
                <a:lnTo>
                  <a:pt x="1922" y="486"/>
                </a:lnTo>
                <a:lnTo>
                  <a:pt x="1918" y="480"/>
                </a:lnTo>
                <a:lnTo>
                  <a:pt x="1910" y="474"/>
                </a:lnTo>
                <a:lnTo>
                  <a:pt x="1900" y="470"/>
                </a:lnTo>
                <a:lnTo>
                  <a:pt x="1888" y="470"/>
                </a:lnTo>
                <a:lnTo>
                  <a:pt x="1880" y="468"/>
                </a:lnTo>
                <a:lnTo>
                  <a:pt x="1870" y="470"/>
                </a:lnTo>
                <a:lnTo>
                  <a:pt x="1870" y="470"/>
                </a:lnTo>
                <a:lnTo>
                  <a:pt x="1880" y="466"/>
                </a:lnTo>
                <a:lnTo>
                  <a:pt x="1892" y="464"/>
                </a:lnTo>
                <a:lnTo>
                  <a:pt x="1904" y="462"/>
                </a:lnTo>
                <a:lnTo>
                  <a:pt x="1920" y="462"/>
                </a:lnTo>
                <a:lnTo>
                  <a:pt x="1934" y="464"/>
                </a:lnTo>
                <a:lnTo>
                  <a:pt x="1940" y="468"/>
                </a:lnTo>
                <a:lnTo>
                  <a:pt x="1946" y="472"/>
                </a:lnTo>
                <a:lnTo>
                  <a:pt x="1952" y="478"/>
                </a:lnTo>
                <a:lnTo>
                  <a:pt x="1956" y="484"/>
                </a:lnTo>
                <a:lnTo>
                  <a:pt x="1956" y="484"/>
                </a:lnTo>
                <a:lnTo>
                  <a:pt x="1960" y="492"/>
                </a:lnTo>
                <a:lnTo>
                  <a:pt x="1962" y="500"/>
                </a:lnTo>
                <a:lnTo>
                  <a:pt x="1964" y="516"/>
                </a:lnTo>
                <a:lnTo>
                  <a:pt x="1960" y="534"/>
                </a:lnTo>
                <a:lnTo>
                  <a:pt x="1954" y="552"/>
                </a:lnTo>
                <a:lnTo>
                  <a:pt x="1942" y="570"/>
                </a:lnTo>
                <a:lnTo>
                  <a:pt x="1928" y="584"/>
                </a:lnTo>
                <a:lnTo>
                  <a:pt x="1908" y="598"/>
                </a:lnTo>
                <a:lnTo>
                  <a:pt x="1886" y="608"/>
                </a:lnTo>
                <a:lnTo>
                  <a:pt x="1886" y="608"/>
                </a:lnTo>
                <a:lnTo>
                  <a:pt x="1864" y="614"/>
                </a:lnTo>
                <a:lnTo>
                  <a:pt x="1844" y="618"/>
                </a:lnTo>
                <a:lnTo>
                  <a:pt x="1828" y="618"/>
                </a:lnTo>
                <a:lnTo>
                  <a:pt x="1816" y="616"/>
                </a:lnTo>
                <a:lnTo>
                  <a:pt x="1806" y="614"/>
                </a:lnTo>
                <a:lnTo>
                  <a:pt x="1800" y="610"/>
                </a:lnTo>
                <a:lnTo>
                  <a:pt x="1794" y="608"/>
                </a:lnTo>
                <a:lnTo>
                  <a:pt x="1794" y="608"/>
                </a:lnTo>
                <a:lnTo>
                  <a:pt x="1796" y="634"/>
                </a:lnTo>
                <a:lnTo>
                  <a:pt x="1796" y="664"/>
                </a:lnTo>
                <a:lnTo>
                  <a:pt x="1792" y="700"/>
                </a:lnTo>
                <a:lnTo>
                  <a:pt x="1788" y="720"/>
                </a:lnTo>
                <a:lnTo>
                  <a:pt x="1784" y="742"/>
                </a:lnTo>
                <a:lnTo>
                  <a:pt x="1778" y="762"/>
                </a:lnTo>
                <a:lnTo>
                  <a:pt x="1770" y="784"/>
                </a:lnTo>
                <a:lnTo>
                  <a:pt x="1760" y="806"/>
                </a:lnTo>
                <a:lnTo>
                  <a:pt x="1748" y="826"/>
                </a:lnTo>
                <a:lnTo>
                  <a:pt x="1734" y="846"/>
                </a:lnTo>
                <a:lnTo>
                  <a:pt x="1718" y="866"/>
                </a:lnTo>
                <a:lnTo>
                  <a:pt x="1718" y="866"/>
                </a:lnTo>
                <a:lnTo>
                  <a:pt x="1700" y="882"/>
                </a:lnTo>
                <a:lnTo>
                  <a:pt x="1682" y="896"/>
                </a:lnTo>
                <a:lnTo>
                  <a:pt x="1664" y="906"/>
                </a:lnTo>
                <a:lnTo>
                  <a:pt x="1646" y="916"/>
                </a:lnTo>
                <a:lnTo>
                  <a:pt x="1630" y="922"/>
                </a:lnTo>
                <a:lnTo>
                  <a:pt x="1614" y="926"/>
                </a:lnTo>
                <a:lnTo>
                  <a:pt x="1598" y="928"/>
                </a:lnTo>
                <a:lnTo>
                  <a:pt x="1584" y="928"/>
                </a:lnTo>
                <a:lnTo>
                  <a:pt x="1558" y="928"/>
                </a:lnTo>
                <a:lnTo>
                  <a:pt x="1540" y="924"/>
                </a:lnTo>
                <a:lnTo>
                  <a:pt x="1522" y="918"/>
                </a:lnTo>
                <a:lnTo>
                  <a:pt x="1522" y="918"/>
                </a:lnTo>
                <a:lnTo>
                  <a:pt x="1544" y="916"/>
                </a:lnTo>
                <a:lnTo>
                  <a:pt x="1566" y="914"/>
                </a:lnTo>
                <a:lnTo>
                  <a:pt x="1594" y="906"/>
                </a:lnTo>
                <a:lnTo>
                  <a:pt x="1608" y="902"/>
                </a:lnTo>
                <a:lnTo>
                  <a:pt x="1622" y="896"/>
                </a:lnTo>
                <a:lnTo>
                  <a:pt x="1638" y="888"/>
                </a:lnTo>
                <a:lnTo>
                  <a:pt x="1652" y="878"/>
                </a:lnTo>
                <a:lnTo>
                  <a:pt x="1664" y="868"/>
                </a:lnTo>
                <a:lnTo>
                  <a:pt x="1676" y="856"/>
                </a:lnTo>
                <a:lnTo>
                  <a:pt x="1686" y="840"/>
                </a:lnTo>
                <a:lnTo>
                  <a:pt x="1694" y="824"/>
                </a:lnTo>
                <a:lnTo>
                  <a:pt x="1694" y="824"/>
                </a:lnTo>
                <a:lnTo>
                  <a:pt x="1700" y="806"/>
                </a:lnTo>
                <a:lnTo>
                  <a:pt x="1706" y="788"/>
                </a:lnTo>
                <a:lnTo>
                  <a:pt x="1710" y="754"/>
                </a:lnTo>
                <a:lnTo>
                  <a:pt x="1712" y="722"/>
                </a:lnTo>
                <a:lnTo>
                  <a:pt x="1712" y="694"/>
                </a:lnTo>
                <a:lnTo>
                  <a:pt x="1708" y="670"/>
                </a:lnTo>
                <a:lnTo>
                  <a:pt x="1704" y="652"/>
                </a:lnTo>
                <a:lnTo>
                  <a:pt x="1700" y="636"/>
                </a:lnTo>
                <a:lnTo>
                  <a:pt x="1700" y="636"/>
                </a:lnTo>
                <a:lnTo>
                  <a:pt x="1690" y="646"/>
                </a:lnTo>
                <a:lnTo>
                  <a:pt x="1678" y="658"/>
                </a:lnTo>
                <a:lnTo>
                  <a:pt x="1664" y="670"/>
                </a:lnTo>
                <a:lnTo>
                  <a:pt x="1642" y="682"/>
                </a:lnTo>
                <a:lnTo>
                  <a:pt x="1620" y="692"/>
                </a:lnTo>
                <a:lnTo>
                  <a:pt x="1606" y="694"/>
                </a:lnTo>
                <a:lnTo>
                  <a:pt x="1592" y="696"/>
                </a:lnTo>
                <a:lnTo>
                  <a:pt x="1576" y="698"/>
                </a:lnTo>
                <a:lnTo>
                  <a:pt x="1560" y="696"/>
                </a:lnTo>
                <a:lnTo>
                  <a:pt x="1560" y="696"/>
                </a:lnTo>
                <a:lnTo>
                  <a:pt x="1546" y="692"/>
                </a:lnTo>
                <a:lnTo>
                  <a:pt x="1532" y="688"/>
                </a:lnTo>
                <a:lnTo>
                  <a:pt x="1524" y="684"/>
                </a:lnTo>
                <a:lnTo>
                  <a:pt x="1516" y="678"/>
                </a:lnTo>
                <a:lnTo>
                  <a:pt x="1510" y="670"/>
                </a:lnTo>
                <a:lnTo>
                  <a:pt x="1508" y="664"/>
                </a:lnTo>
                <a:lnTo>
                  <a:pt x="1506" y="656"/>
                </a:lnTo>
                <a:lnTo>
                  <a:pt x="1506" y="648"/>
                </a:lnTo>
                <a:lnTo>
                  <a:pt x="1506" y="634"/>
                </a:lnTo>
                <a:lnTo>
                  <a:pt x="1510" y="622"/>
                </a:lnTo>
                <a:lnTo>
                  <a:pt x="1516" y="610"/>
                </a:lnTo>
                <a:lnTo>
                  <a:pt x="1516" y="610"/>
                </a:lnTo>
                <a:lnTo>
                  <a:pt x="1516" y="618"/>
                </a:lnTo>
                <a:lnTo>
                  <a:pt x="1518" y="628"/>
                </a:lnTo>
                <a:lnTo>
                  <a:pt x="1520" y="640"/>
                </a:lnTo>
                <a:lnTo>
                  <a:pt x="1526" y="650"/>
                </a:lnTo>
                <a:lnTo>
                  <a:pt x="1536" y="660"/>
                </a:lnTo>
                <a:lnTo>
                  <a:pt x="1542" y="664"/>
                </a:lnTo>
                <a:lnTo>
                  <a:pt x="1548" y="668"/>
                </a:lnTo>
                <a:lnTo>
                  <a:pt x="1556" y="670"/>
                </a:lnTo>
                <a:lnTo>
                  <a:pt x="1566" y="672"/>
                </a:lnTo>
                <a:lnTo>
                  <a:pt x="1566" y="672"/>
                </a:lnTo>
                <a:lnTo>
                  <a:pt x="1576" y="672"/>
                </a:lnTo>
                <a:lnTo>
                  <a:pt x="1586" y="670"/>
                </a:lnTo>
                <a:lnTo>
                  <a:pt x="1596" y="668"/>
                </a:lnTo>
                <a:lnTo>
                  <a:pt x="1604" y="664"/>
                </a:lnTo>
                <a:lnTo>
                  <a:pt x="1612" y="658"/>
                </a:lnTo>
                <a:lnTo>
                  <a:pt x="1620" y="652"/>
                </a:lnTo>
                <a:lnTo>
                  <a:pt x="1626" y="646"/>
                </a:lnTo>
                <a:lnTo>
                  <a:pt x="1632" y="638"/>
                </a:lnTo>
                <a:lnTo>
                  <a:pt x="1638" y="628"/>
                </a:lnTo>
                <a:lnTo>
                  <a:pt x="1642" y="618"/>
                </a:lnTo>
                <a:lnTo>
                  <a:pt x="1644" y="608"/>
                </a:lnTo>
                <a:lnTo>
                  <a:pt x="1646" y="596"/>
                </a:lnTo>
                <a:lnTo>
                  <a:pt x="1646" y="584"/>
                </a:lnTo>
                <a:lnTo>
                  <a:pt x="1646" y="572"/>
                </a:lnTo>
                <a:lnTo>
                  <a:pt x="1642" y="560"/>
                </a:lnTo>
                <a:lnTo>
                  <a:pt x="1638" y="546"/>
                </a:lnTo>
                <a:lnTo>
                  <a:pt x="1638" y="546"/>
                </a:lnTo>
                <a:lnTo>
                  <a:pt x="1632" y="534"/>
                </a:lnTo>
                <a:lnTo>
                  <a:pt x="1624" y="524"/>
                </a:lnTo>
                <a:lnTo>
                  <a:pt x="1616" y="516"/>
                </a:lnTo>
                <a:lnTo>
                  <a:pt x="1606" y="510"/>
                </a:lnTo>
                <a:lnTo>
                  <a:pt x="1596" y="506"/>
                </a:lnTo>
                <a:lnTo>
                  <a:pt x="1586" y="502"/>
                </a:lnTo>
                <a:lnTo>
                  <a:pt x="1564" y="500"/>
                </a:lnTo>
                <a:lnTo>
                  <a:pt x="1544" y="502"/>
                </a:lnTo>
                <a:lnTo>
                  <a:pt x="1526" y="506"/>
                </a:lnTo>
                <a:lnTo>
                  <a:pt x="1510" y="510"/>
                </a:lnTo>
                <a:lnTo>
                  <a:pt x="1510" y="510"/>
                </a:lnTo>
                <a:lnTo>
                  <a:pt x="1468" y="536"/>
                </a:lnTo>
                <a:lnTo>
                  <a:pt x="1418" y="568"/>
                </a:lnTo>
                <a:lnTo>
                  <a:pt x="1352" y="606"/>
                </a:lnTo>
                <a:lnTo>
                  <a:pt x="1270" y="652"/>
                </a:lnTo>
                <a:lnTo>
                  <a:pt x="1174" y="702"/>
                </a:lnTo>
                <a:lnTo>
                  <a:pt x="1066" y="754"/>
                </a:lnTo>
                <a:lnTo>
                  <a:pt x="1008" y="780"/>
                </a:lnTo>
                <a:lnTo>
                  <a:pt x="948" y="806"/>
                </a:lnTo>
                <a:lnTo>
                  <a:pt x="948" y="806"/>
                </a:lnTo>
                <a:lnTo>
                  <a:pt x="888" y="830"/>
                </a:lnTo>
                <a:lnTo>
                  <a:pt x="832" y="850"/>
                </a:lnTo>
                <a:lnTo>
                  <a:pt x="778" y="868"/>
                </a:lnTo>
                <a:lnTo>
                  <a:pt x="728" y="884"/>
                </a:lnTo>
                <a:lnTo>
                  <a:pt x="680" y="896"/>
                </a:lnTo>
                <a:lnTo>
                  <a:pt x="634" y="906"/>
                </a:lnTo>
                <a:lnTo>
                  <a:pt x="590" y="914"/>
                </a:lnTo>
                <a:lnTo>
                  <a:pt x="550" y="920"/>
                </a:lnTo>
                <a:lnTo>
                  <a:pt x="508" y="922"/>
                </a:lnTo>
                <a:lnTo>
                  <a:pt x="470" y="926"/>
                </a:lnTo>
                <a:lnTo>
                  <a:pt x="396" y="926"/>
                </a:lnTo>
                <a:lnTo>
                  <a:pt x="324" y="924"/>
                </a:lnTo>
                <a:lnTo>
                  <a:pt x="252" y="920"/>
                </a:lnTo>
                <a:lnTo>
                  <a:pt x="252" y="920"/>
                </a:lnTo>
                <a:lnTo>
                  <a:pt x="218" y="916"/>
                </a:lnTo>
                <a:lnTo>
                  <a:pt x="186" y="912"/>
                </a:lnTo>
                <a:lnTo>
                  <a:pt x="158" y="908"/>
                </a:lnTo>
                <a:lnTo>
                  <a:pt x="132" y="902"/>
                </a:lnTo>
                <a:lnTo>
                  <a:pt x="88" y="890"/>
                </a:lnTo>
                <a:lnTo>
                  <a:pt x="54" y="876"/>
                </a:lnTo>
                <a:lnTo>
                  <a:pt x="30" y="864"/>
                </a:lnTo>
                <a:lnTo>
                  <a:pt x="12" y="852"/>
                </a:lnTo>
                <a:lnTo>
                  <a:pt x="0" y="842"/>
                </a:lnTo>
                <a:lnTo>
                  <a:pt x="0" y="8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11280" y="1369080"/>
            <a:ext cx="723600" cy="523080"/>
            <a:chOff x="611280" y="1369080"/>
            <a:chExt cx="723600" cy="523080"/>
          </a:xfrm>
        </p:grpSpPr>
        <p:pic>
          <p:nvPicPr>
            <p:cNvPr id="276" name="" descr=""/>
            <p:cNvPicPr/>
            <p:nvPr/>
          </p:nvPicPr>
          <p:blipFill>
            <a:blip r:embed="rId7"/>
            <a:stretch/>
          </p:blipFill>
          <p:spPr>
            <a:xfrm>
              <a:off x="611280" y="1495440"/>
              <a:ext cx="71892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639360" y="1419480"/>
              <a:ext cx="662040" cy="346320"/>
            </a:xfrm>
            <a:prstGeom prst="donut">
              <a:avLst>
                <a:gd name="adj" fmla="val 6050"/>
              </a:avLst>
            </a:prstGeom>
            <a:gradFill rotWithShape="0">
              <a:gsLst>
                <a:gs pos="0">
                  <a:srgbClr val="686a6d"/>
                </a:gs>
                <a:gs pos="50000">
                  <a:srgbClr val="e2e8ee"/>
                </a:gs>
                <a:gs pos="100000">
                  <a:srgbClr val="686a6d"/>
                </a:gs>
              </a:gsLst>
              <a:lin ang="8100000"/>
            </a:gra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20926800">
              <a:off x="942480" y="1658880"/>
              <a:ext cx="382320" cy="13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0431200">
              <a:off x="639360" y="1412640"/>
              <a:ext cx="279360" cy="101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7667640" y="1045080"/>
            <a:ext cx="723960" cy="523440"/>
            <a:chOff x="7667640" y="1045080"/>
            <a:chExt cx="723960" cy="523440"/>
          </a:xfrm>
        </p:grpSpPr>
        <p:pic>
          <p:nvPicPr>
            <p:cNvPr id="281" name="" descr=""/>
            <p:cNvPicPr/>
            <p:nvPr/>
          </p:nvPicPr>
          <p:blipFill>
            <a:blip r:embed="rId8"/>
            <a:stretch/>
          </p:blipFill>
          <p:spPr>
            <a:xfrm>
              <a:off x="7667640" y="1171440"/>
              <a:ext cx="7192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7695720" y="1095480"/>
              <a:ext cx="662040" cy="346320"/>
            </a:xfrm>
            <a:prstGeom prst="donut">
              <a:avLst>
                <a:gd name="adj" fmla="val 6050"/>
              </a:avLst>
            </a:prstGeom>
            <a:gradFill rotWithShape="0">
              <a:gsLst>
                <a:gs pos="0">
                  <a:srgbClr val="686a6d"/>
                </a:gs>
                <a:gs pos="50000">
                  <a:srgbClr val="e2e8ee"/>
                </a:gs>
                <a:gs pos="100000">
                  <a:srgbClr val="686a6d"/>
                </a:gs>
              </a:gsLst>
              <a:lin ang="8100000"/>
            </a:gra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20926800">
              <a:off x="7998840" y="1334520"/>
              <a:ext cx="382680" cy="13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20431200">
              <a:off x="7695720" y="1088640"/>
              <a:ext cx="279360" cy="101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319640" y="4826520"/>
            <a:ext cx="1305000" cy="943560"/>
            <a:chOff x="4319640" y="4826520"/>
            <a:chExt cx="1305000" cy="943560"/>
          </a:xfrm>
        </p:grpSpPr>
        <p:pic>
          <p:nvPicPr>
            <p:cNvPr id="286" name="" descr=""/>
            <p:cNvPicPr/>
            <p:nvPr/>
          </p:nvPicPr>
          <p:blipFill>
            <a:blip r:embed="rId9"/>
            <a:stretch/>
          </p:blipFill>
          <p:spPr>
            <a:xfrm>
              <a:off x="4319640" y="5054040"/>
              <a:ext cx="1297080" cy="7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4370760" y="4917240"/>
              <a:ext cx="1194120" cy="624960"/>
            </a:xfrm>
            <a:prstGeom prst="donut">
              <a:avLst>
                <a:gd name="adj" fmla="val 6050"/>
              </a:avLst>
            </a:prstGeom>
            <a:gradFill rotWithShape="0">
              <a:gsLst>
                <a:gs pos="0">
                  <a:srgbClr val="686a6d"/>
                </a:gs>
                <a:gs pos="50000">
                  <a:srgbClr val="e2e8ee"/>
                </a:gs>
                <a:gs pos="100000">
                  <a:srgbClr val="686a6d"/>
                </a:gs>
              </a:gsLst>
              <a:lin ang="8100000"/>
            </a:gra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20926800">
              <a:off x="4916880" y="5348880"/>
              <a:ext cx="689760" cy="25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20431200">
              <a:off x="4370400" y="4905360"/>
              <a:ext cx="504000" cy="182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079640" y="5410080"/>
            <a:ext cx="579600" cy="419040"/>
            <a:chOff x="1079640" y="5410080"/>
            <a:chExt cx="579600" cy="419040"/>
          </a:xfrm>
        </p:grpSpPr>
        <p:pic>
          <p:nvPicPr>
            <p:cNvPr id="291" name="" descr=""/>
            <p:cNvPicPr/>
            <p:nvPr/>
          </p:nvPicPr>
          <p:blipFill>
            <a:blip r:embed="rId10"/>
            <a:stretch/>
          </p:blipFill>
          <p:spPr>
            <a:xfrm>
              <a:off x="1079640" y="5510880"/>
              <a:ext cx="576000" cy="3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102320" y="5450040"/>
              <a:ext cx="530280" cy="277920"/>
            </a:xfrm>
            <a:prstGeom prst="donut">
              <a:avLst>
                <a:gd name="adj" fmla="val 6050"/>
              </a:avLst>
            </a:prstGeom>
            <a:gradFill rotWithShape="0">
              <a:gsLst>
                <a:gs pos="0">
                  <a:srgbClr val="686a6d"/>
                </a:gs>
                <a:gs pos="50000">
                  <a:srgbClr val="e2e8ee"/>
                </a:gs>
                <a:gs pos="100000">
                  <a:srgbClr val="686a6d"/>
                </a:gs>
              </a:gsLst>
              <a:lin ang="8100000"/>
            </a:gra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20926800">
              <a:off x="1344600" y="5642280"/>
              <a:ext cx="306360" cy="11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20431200">
              <a:off x="1101960" y="5444640"/>
              <a:ext cx="22392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7380360" y="5202000"/>
            <a:ext cx="1050480" cy="760680"/>
            <a:chOff x="7380360" y="5202000"/>
            <a:chExt cx="1050480" cy="760680"/>
          </a:xfrm>
        </p:grpSpPr>
        <p:pic>
          <p:nvPicPr>
            <p:cNvPr id="296" name="" descr=""/>
            <p:cNvPicPr/>
            <p:nvPr/>
          </p:nvPicPr>
          <p:blipFill>
            <a:blip r:embed="rId11"/>
            <a:stretch/>
          </p:blipFill>
          <p:spPr>
            <a:xfrm>
              <a:off x="7380360" y="5385600"/>
              <a:ext cx="1044360" cy="57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7421400" y="5275440"/>
              <a:ext cx="961560" cy="503640"/>
            </a:xfrm>
            <a:prstGeom prst="donut">
              <a:avLst>
                <a:gd name="adj" fmla="val 6050"/>
              </a:avLst>
            </a:prstGeom>
            <a:gradFill rotWithShape="0">
              <a:gsLst>
                <a:gs pos="0">
                  <a:srgbClr val="686a6d"/>
                </a:gs>
                <a:gs pos="50000">
                  <a:srgbClr val="e2e8ee"/>
                </a:gs>
                <a:gs pos="100000">
                  <a:srgbClr val="686a6d"/>
                </a:gs>
              </a:gsLst>
              <a:lin ang="8100000"/>
            </a:gra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20926800">
              <a:off x="7860960" y="5622840"/>
              <a:ext cx="55548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20431200">
              <a:off x="7421040" y="5265360"/>
              <a:ext cx="405720" cy="147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7704000" y="5384160"/>
            <a:ext cx="434880" cy="313200"/>
            <a:chOff x="7704000" y="5384160"/>
            <a:chExt cx="434880" cy="313200"/>
          </a:xfrm>
        </p:grpSpPr>
        <p:pic>
          <p:nvPicPr>
            <p:cNvPr id="301" name="" descr=""/>
            <p:cNvPicPr/>
            <p:nvPr/>
          </p:nvPicPr>
          <p:blipFill>
            <a:blip r:embed="rId12"/>
            <a:stretch/>
          </p:blipFill>
          <p:spPr>
            <a:xfrm>
              <a:off x="7704000" y="5459400"/>
              <a:ext cx="43200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7720920" y="5414040"/>
              <a:ext cx="397800" cy="207720"/>
            </a:xfrm>
            <a:prstGeom prst="donut">
              <a:avLst>
                <a:gd name="adj" fmla="val 6050"/>
              </a:avLst>
            </a:prstGeom>
            <a:gradFill rotWithShape="0">
              <a:gsLst>
                <a:gs pos="0">
                  <a:srgbClr val="686a6d"/>
                </a:gs>
                <a:gs pos="50000">
                  <a:srgbClr val="e2e8ee"/>
                </a:gs>
                <a:gs pos="100000">
                  <a:srgbClr val="686a6d"/>
                </a:gs>
              </a:gsLst>
              <a:lin ang="8100000"/>
            </a:gra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20926800">
              <a:off x="7903080" y="5556960"/>
              <a:ext cx="229680" cy="8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20431200">
              <a:off x="7720560" y="5410080"/>
              <a:ext cx="167760" cy="6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456000" y="1136160"/>
            <a:ext cx="434520" cy="313200"/>
            <a:chOff x="3456000" y="1136160"/>
            <a:chExt cx="434520" cy="313200"/>
          </a:xfrm>
        </p:grpSpPr>
        <p:pic>
          <p:nvPicPr>
            <p:cNvPr id="306" name="" descr=""/>
            <p:cNvPicPr/>
            <p:nvPr/>
          </p:nvPicPr>
          <p:blipFill>
            <a:blip r:embed="rId13"/>
            <a:stretch/>
          </p:blipFill>
          <p:spPr>
            <a:xfrm>
              <a:off x="3456000" y="1211400"/>
              <a:ext cx="43164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3472920" y="1166040"/>
              <a:ext cx="397440" cy="207720"/>
            </a:xfrm>
            <a:prstGeom prst="donut">
              <a:avLst>
                <a:gd name="adj" fmla="val 6050"/>
              </a:avLst>
            </a:prstGeom>
            <a:gradFill rotWithShape="0">
              <a:gsLst>
                <a:gs pos="0">
                  <a:srgbClr val="686a6d"/>
                </a:gs>
                <a:gs pos="50000">
                  <a:srgbClr val="e2e8ee"/>
                </a:gs>
                <a:gs pos="100000">
                  <a:srgbClr val="686a6d"/>
                </a:gs>
              </a:gsLst>
              <a:lin ang="8100000"/>
            </a:gra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20926800">
              <a:off x="3654720" y="1308960"/>
              <a:ext cx="229680" cy="8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20431200">
              <a:off x="3472560" y="1162080"/>
              <a:ext cx="167760" cy="6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08:29:54Z</dcterms:created>
  <dc:creator>사용자</dc:creator>
  <dc:description/>
  <dc:language>en-US</dc:language>
  <cp:lastModifiedBy>사용자</cp:lastModifiedBy>
  <cp:lastPrinted>1899-12-30T00:00:00Z</cp:lastPrinted>
  <dcterms:modified xsi:type="dcterms:W3CDTF">2007-10-25T07:58:57Z</dcterms:modified>
  <cp:revision>69</cp:revision>
  <dc:subject/>
  <dc:title>슬라이드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