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A66-BA69-4100-8511-EF4979B3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124-7E05-4955-8460-4FED6239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579-A9CB-47EA-B0E2-C9CD2BC7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8A5-D369-4A7D-9CED-AFFCEA86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AEC0-C7B0-42F0-9CC2-35B6304A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47C9-78D8-42E5-970C-7C480810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9723-3C2E-4863-A523-96F04600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D85F-7A21-4785-9285-E338AC64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CB15-C949-4C53-BE3B-3F7781D1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1578-7B10-4366-BA93-06BEAD15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F5C8-8BB5-4145-B952-E9D9FB59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F73-D0CA-4444-99B8-FD9B3AE8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AD01-A89C-4555-B48A-711C5738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95B4-135D-466B-96FF-7707073A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A482-B9E2-4513-B7E1-A7510050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D9AE-F0ED-4195-9942-A0F1A8CE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7665-74BD-40E7-81A5-73CD8EF4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60D-D4DB-4913-BB4D-F39FD8E2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D15-4170-4301-8927-5F02DB24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104-F0B0-4508-96A3-236CF9E0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D14-D1F6-45B0-BA23-049A2412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43C-1E19-4775-9141-E3219D5F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2AD-C805-47D5-B70D-321D2779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520-F1BF-4609-9F7C-6F830C1B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C7F8-1A87-4833-9AB9-88F0CF4E1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604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BC9E-D163-4FB6-AA8F-B493ACF0B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9"/>
          <p:cNvSpPr/>
          <p:nvPr/>
        </p:nvSpPr>
        <p:spPr>
          <a:xfrm>
            <a:off x="0" y="528480"/>
            <a:ext cx="3571920" cy="42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0"/>
          <p:cNvSpPr/>
          <p:nvPr/>
        </p:nvSpPr>
        <p:spPr>
          <a:xfrm>
            <a:off x="46080" y="57312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比关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3320" y="2492280"/>
            <a:ext cx="3838680" cy="497160"/>
          </a:xfrm>
          <a:prstGeom prst="rect">
            <a:avLst/>
          </a:prstGeom>
          <a:gradFill rotWithShape="0">
            <a:gsLst>
              <a:gs pos="0">
                <a:srgbClr val="060f33">
                  <a:alpha val="0"/>
                </a:srgbClr>
              </a:gs>
              <a:gs pos="50000">
                <a:srgbClr val="0f216f"/>
              </a:gs>
              <a:gs pos="100000">
                <a:srgbClr val="060f3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492280"/>
            <a:ext cx="3825720" cy="497160"/>
          </a:xfrm>
          <a:prstGeom prst="rect">
            <a:avLst/>
          </a:prstGeom>
          <a:gradFill rotWithShape="0">
            <a:gsLst>
              <a:gs pos="0">
                <a:srgbClr val="060f33">
                  <a:alpha val="0"/>
                </a:srgbClr>
              </a:gs>
              <a:gs pos="50000">
                <a:srgbClr val="0f216f"/>
              </a:gs>
              <a:gs pos="100000">
                <a:srgbClr val="060f3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3320" y="3157560"/>
            <a:ext cx="3838680" cy="528480"/>
          </a:xfrm>
          <a:prstGeom prst="rect">
            <a:avLst/>
          </a:prstGeom>
          <a:gradFill rotWithShape="0">
            <a:gsLst>
              <a:gs pos="0">
                <a:srgbClr val="002f36">
                  <a:alpha val="0"/>
                </a:srgbClr>
              </a:gs>
              <a:gs pos="50000">
                <a:srgbClr val="006876"/>
              </a:gs>
              <a:gs pos="100000">
                <a:srgbClr val="002f3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157560"/>
            <a:ext cx="3825720" cy="528480"/>
          </a:xfrm>
          <a:prstGeom prst="rect">
            <a:avLst/>
          </a:prstGeom>
          <a:gradFill rotWithShape="0">
            <a:gsLst>
              <a:gs pos="0">
                <a:srgbClr val="002f36">
                  <a:alpha val="0"/>
                </a:srgbClr>
              </a:gs>
              <a:gs pos="50000">
                <a:srgbClr val="006876"/>
              </a:gs>
              <a:gs pos="100000">
                <a:srgbClr val="002f3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7200" y="3992400"/>
            <a:ext cx="3838320" cy="576360"/>
          </a:xfrm>
          <a:prstGeom prst="rect">
            <a:avLst/>
          </a:prstGeom>
          <a:gradFill rotWithShape="0">
            <a:gsLst>
              <a:gs pos="0">
                <a:srgbClr val="20012e">
                  <a:alpha val="0"/>
                </a:srgbClr>
              </a:gs>
              <a:gs pos="50000">
                <a:srgbClr val="470365"/>
              </a:gs>
              <a:gs pos="100000">
                <a:srgbClr val="20012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65520" y="3992400"/>
            <a:ext cx="3826080" cy="576360"/>
          </a:xfrm>
          <a:prstGeom prst="rect">
            <a:avLst/>
          </a:prstGeom>
          <a:gradFill rotWithShape="0">
            <a:gsLst>
              <a:gs pos="0">
                <a:srgbClr val="20012e">
                  <a:alpha val="0"/>
                </a:srgbClr>
              </a:gs>
              <a:gs pos="50000">
                <a:srgbClr val="470365"/>
              </a:gs>
              <a:gs pos="100000">
                <a:srgbClr val="20012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3320" y="4967280"/>
            <a:ext cx="3838680" cy="579600"/>
          </a:xfrm>
          <a:prstGeom prst="rect">
            <a:avLst/>
          </a:prstGeom>
          <a:gradFill rotWithShape="0">
            <a:gsLst>
              <a:gs pos="0">
                <a:srgbClr val="2e0017">
                  <a:alpha val="0"/>
                </a:srgbClr>
              </a:gs>
              <a:gs pos="50000">
                <a:srgbClr val="650133"/>
              </a:gs>
              <a:gs pos="100000">
                <a:srgbClr val="2e001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67280"/>
            <a:ext cx="3825720" cy="579600"/>
          </a:xfrm>
          <a:prstGeom prst="rect">
            <a:avLst/>
          </a:prstGeom>
          <a:gradFill rotWithShape="0">
            <a:gsLst>
              <a:gs pos="0">
                <a:srgbClr val="2e0017">
                  <a:alpha val="0"/>
                </a:srgbClr>
              </a:gs>
              <a:gs pos="50000">
                <a:srgbClr val="650133"/>
              </a:gs>
              <a:gs pos="100000">
                <a:srgbClr val="2e001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"/>
          <p:cNvSpPr/>
          <p:nvPr/>
        </p:nvSpPr>
        <p:spPr>
          <a:xfrm>
            <a:off x="533520" y="5410080"/>
            <a:ext cx="4348080" cy="9115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"/>
          <p:cNvSpPr/>
          <p:nvPr/>
        </p:nvSpPr>
        <p:spPr>
          <a:xfrm>
            <a:off x="4567320" y="5410080"/>
            <a:ext cx="4348080" cy="9115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1122480" y="4729320"/>
            <a:ext cx="2860560" cy="1062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2e0017"/>
              </a:gs>
              <a:gs pos="50000">
                <a:srgbClr val="650133"/>
              </a:gs>
              <a:gs pos="100000">
                <a:srgbClr val="2e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1122480" y="4735440"/>
            <a:ext cx="2860560" cy="525600"/>
          </a:xfrm>
          <a:prstGeom prst="ellipse">
            <a:avLst/>
          </a:prstGeom>
          <a:gradFill rotWithShape="0">
            <a:gsLst>
              <a:gs pos="0">
                <a:srgbClr val="2e0017"/>
              </a:gs>
              <a:gs pos="100000">
                <a:srgbClr val="6501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8"/>
          <p:cNvSpPr/>
          <p:nvPr/>
        </p:nvSpPr>
        <p:spPr>
          <a:xfrm rot="21569400">
            <a:off x="2461680" y="4530600"/>
            <a:ext cx="158760" cy="44928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1365120" y="3763800"/>
            <a:ext cx="2359080" cy="1003320"/>
          </a:xfrm>
          <a:prstGeom prst="can">
            <a:avLst>
              <a:gd name="adj" fmla="val 47143"/>
            </a:avLst>
          </a:prstGeom>
          <a:gradFill rotWithShape="0">
            <a:gsLst>
              <a:gs pos="0">
                <a:srgbClr val="20012e"/>
              </a:gs>
              <a:gs pos="50000">
                <a:srgbClr val="470365"/>
              </a:gs>
              <a:gs pos="100000">
                <a:srgbClr val="2001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1360440" y="3768840"/>
            <a:ext cx="2363760" cy="466560"/>
          </a:xfrm>
          <a:prstGeom prst="ellipse">
            <a:avLst/>
          </a:prstGeom>
          <a:gradFill rotWithShape="0">
            <a:gsLst>
              <a:gs pos="0">
                <a:srgbClr val="20012e"/>
              </a:gs>
              <a:gs pos="100000">
                <a:srgbClr val="47036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8"/>
          <p:cNvSpPr/>
          <p:nvPr/>
        </p:nvSpPr>
        <p:spPr>
          <a:xfrm rot="21569400">
            <a:off x="2460240" y="3557520"/>
            <a:ext cx="158760" cy="44928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1606680" y="2995560"/>
            <a:ext cx="1885680" cy="822240"/>
          </a:xfrm>
          <a:prstGeom prst="can">
            <a:avLst>
              <a:gd name="adj" fmla="val 40000"/>
            </a:avLst>
          </a:prstGeom>
          <a:gradFill rotWithShape="0">
            <a:gsLst>
              <a:gs pos="0">
                <a:srgbClr val="002f36"/>
              </a:gs>
              <a:gs pos="50000">
                <a:srgbClr val="006876"/>
              </a:gs>
              <a:gs pos="100000">
                <a:srgbClr val="002f3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1614600" y="2995560"/>
            <a:ext cx="1877760" cy="328680"/>
          </a:xfrm>
          <a:prstGeom prst="ellipse">
            <a:avLst/>
          </a:prstGeom>
          <a:gradFill rotWithShape="0">
            <a:gsLst>
              <a:gs pos="0">
                <a:srgbClr val="002f36"/>
              </a:gs>
              <a:gs pos="100000">
                <a:srgbClr val="0068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 rot="21569400">
            <a:off x="2458800" y="2760840"/>
            <a:ext cx="158760" cy="44892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812960" y="2487600"/>
            <a:ext cx="1473120" cy="560520"/>
          </a:xfrm>
          <a:prstGeom prst="can">
            <a:avLst>
              <a:gd name="adj" fmla="val 36643"/>
            </a:avLst>
          </a:prstGeom>
          <a:gradFill rotWithShape="0">
            <a:gsLst>
              <a:gs pos="0">
                <a:srgbClr val="060f33"/>
              </a:gs>
              <a:gs pos="50000">
                <a:srgbClr val="0f216f"/>
              </a:gs>
              <a:gs pos="100000">
                <a:srgbClr val="060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53"/>
          <p:cNvGrpSpPr/>
          <p:nvPr/>
        </p:nvGrpSpPr>
        <p:grpSpPr>
          <a:xfrm>
            <a:off x="2436840" y="2133000"/>
            <a:ext cx="236160" cy="476640"/>
            <a:chOff x="2436840" y="2133000"/>
            <a:chExt cx="236160" cy="476640"/>
          </a:xfrm>
        </p:grpSpPr>
        <p:sp>
          <p:nvSpPr>
            <p:cNvPr id="106" name="AutoShape 28"/>
            <p:cNvSpPr/>
            <p:nvPr/>
          </p:nvSpPr>
          <p:spPr>
            <a:xfrm rot="21569400">
              <a:off x="2467080" y="2133720"/>
              <a:ext cx="158040" cy="450000"/>
            </a:xfrm>
            <a:prstGeom prst="can">
              <a:avLst>
                <a:gd name="adj" fmla="val 145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7"/>
            <p:cNvSpPr/>
            <p:nvPr/>
          </p:nvSpPr>
          <p:spPr>
            <a:xfrm rot="10938000">
              <a:off x="2437920" y="2532960"/>
              <a:ext cx="233640" cy="72000"/>
            </a:xfrm>
            <a:prstGeom prst="ellipse">
              <a:avLst/>
            </a:prstGeom>
            <a:gradFill rotWithShape="0">
              <a:gsLst>
                <a:gs pos="0">
                  <a:srgbClr val="4f5e3c"/>
                </a:gs>
                <a:gs pos="100000">
                  <a:srgbClr val="768d5a"/>
                </a:gs>
              </a:gsLst>
              <a:lin ang="106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2" descr="G:\animation\business\buildings\windmills\windmill_spinning_slow_hc.gif"/>
          <p:cNvPicPr/>
          <p:nvPr/>
        </p:nvPicPr>
        <p:blipFill>
          <a:blip r:embed="rId1"/>
          <a:stretch/>
        </p:blipFill>
        <p:spPr>
          <a:xfrm>
            <a:off x="1973160" y="1225440"/>
            <a:ext cx="1152720" cy="15336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5"/>
          <p:cNvSpPr/>
          <p:nvPr/>
        </p:nvSpPr>
        <p:spPr>
          <a:xfrm>
            <a:off x="5216400" y="4729320"/>
            <a:ext cx="2860920" cy="1062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2e0017"/>
              </a:gs>
              <a:gs pos="50000">
                <a:srgbClr val="650133"/>
              </a:gs>
              <a:gs pos="100000">
                <a:srgbClr val="2e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5216400" y="4735440"/>
            <a:ext cx="2860920" cy="525600"/>
          </a:xfrm>
          <a:prstGeom prst="ellipse">
            <a:avLst/>
          </a:prstGeom>
          <a:gradFill rotWithShape="0">
            <a:gsLst>
              <a:gs pos="0">
                <a:srgbClr val="2e0017"/>
              </a:gs>
              <a:gs pos="100000">
                <a:srgbClr val="6501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 rot="21569400">
            <a:off x="6554520" y="4530600"/>
            <a:ext cx="158760" cy="44928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5459400" y="3763800"/>
            <a:ext cx="2359080" cy="1003320"/>
          </a:xfrm>
          <a:prstGeom prst="can">
            <a:avLst>
              <a:gd name="adj" fmla="val 47143"/>
            </a:avLst>
          </a:prstGeom>
          <a:gradFill rotWithShape="0">
            <a:gsLst>
              <a:gs pos="0">
                <a:srgbClr val="20012e"/>
              </a:gs>
              <a:gs pos="50000">
                <a:srgbClr val="470365"/>
              </a:gs>
              <a:gs pos="100000">
                <a:srgbClr val="2001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9"/>
          <p:cNvSpPr/>
          <p:nvPr/>
        </p:nvSpPr>
        <p:spPr>
          <a:xfrm>
            <a:off x="5454720" y="3768840"/>
            <a:ext cx="2363760" cy="466560"/>
          </a:xfrm>
          <a:prstGeom prst="ellipse">
            <a:avLst/>
          </a:prstGeom>
          <a:gradFill rotWithShape="0">
            <a:gsLst>
              <a:gs pos="0">
                <a:srgbClr val="20012e"/>
              </a:gs>
              <a:gs pos="100000">
                <a:srgbClr val="47036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8"/>
          <p:cNvSpPr/>
          <p:nvPr/>
        </p:nvSpPr>
        <p:spPr>
          <a:xfrm rot="21569400">
            <a:off x="6554520" y="3557520"/>
            <a:ext cx="158760" cy="44928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1"/>
          <p:cNvSpPr/>
          <p:nvPr/>
        </p:nvSpPr>
        <p:spPr>
          <a:xfrm>
            <a:off x="5700600" y="2995560"/>
            <a:ext cx="1886040" cy="822240"/>
          </a:xfrm>
          <a:prstGeom prst="can">
            <a:avLst>
              <a:gd name="adj" fmla="val 40000"/>
            </a:avLst>
          </a:prstGeom>
          <a:gradFill rotWithShape="0">
            <a:gsLst>
              <a:gs pos="0">
                <a:srgbClr val="002f36"/>
              </a:gs>
              <a:gs pos="50000">
                <a:srgbClr val="006876"/>
              </a:gs>
              <a:gs pos="100000">
                <a:srgbClr val="002f3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2"/>
          <p:cNvSpPr/>
          <p:nvPr/>
        </p:nvSpPr>
        <p:spPr>
          <a:xfrm>
            <a:off x="5708520" y="2995560"/>
            <a:ext cx="1878120" cy="328680"/>
          </a:xfrm>
          <a:prstGeom prst="ellipse">
            <a:avLst/>
          </a:prstGeom>
          <a:gradFill rotWithShape="0">
            <a:gsLst>
              <a:gs pos="0">
                <a:srgbClr val="002f36"/>
              </a:gs>
              <a:gs pos="100000">
                <a:srgbClr val="0068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8"/>
          <p:cNvSpPr/>
          <p:nvPr/>
        </p:nvSpPr>
        <p:spPr>
          <a:xfrm rot="21569400">
            <a:off x="6554520" y="2760840"/>
            <a:ext cx="158760" cy="448920"/>
          </a:xfrm>
          <a:prstGeom prst="can">
            <a:avLst>
              <a:gd name="adj" fmla="val 14550"/>
            </a:avLst>
          </a:prstGeom>
          <a:gradFill rotWithShape="0">
            <a:gsLst>
              <a:gs pos="0">
                <a:srgbClr val="303030"/>
              </a:gs>
              <a:gs pos="50000">
                <a:srgbClr val="ffffff"/>
              </a:gs>
              <a:gs pos="100000">
                <a:srgbClr val="303030"/>
              </a:gs>
            </a:gsLst>
            <a:lin ang="108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5907240" y="2487600"/>
            <a:ext cx="1473120" cy="560520"/>
          </a:xfrm>
          <a:prstGeom prst="can">
            <a:avLst>
              <a:gd name="adj" fmla="val 36643"/>
            </a:avLst>
          </a:prstGeom>
          <a:gradFill rotWithShape="0">
            <a:gsLst>
              <a:gs pos="0">
                <a:srgbClr val="060f33"/>
              </a:gs>
              <a:gs pos="50000">
                <a:srgbClr val="0f216f"/>
              </a:gs>
              <a:gs pos="100000">
                <a:srgbClr val="060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G:\animation\business\buildings\windmills\dutch_windmill_turning_hc.gif"/>
          <p:cNvPicPr/>
          <p:nvPr/>
        </p:nvPicPr>
        <p:blipFill>
          <a:blip r:embed="rId2"/>
          <a:stretch/>
        </p:blipFill>
        <p:spPr>
          <a:xfrm>
            <a:off x="5902200" y="1133640"/>
            <a:ext cx="1533600" cy="1533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2"/>
          <p:cNvSpPr/>
          <p:nvPr/>
        </p:nvSpPr>
        <p:spPr>
          <a:xfrm>
            <a:off x="6112440" y="5300640"/>
            <a:ext cx="104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6144840" y="4281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6148800" y="3405240"/>
            <a:ext cx="957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6171480" y="2671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021760" y="5300640"/>
            <a:ext cx="104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2053800" y="4281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2057760" y="3405240"/>
            <a:ext cx="957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2080800" y="2671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209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锐普</dc:creator>
  <dc:description/>
  <dc:language>en-US</dc:language>
  <cp:lastModifiedBy>applena</cp:lastModifiedBy>
  <dcterms:modified xsi:type="dcterms:W3CDTF">2010-01-26T21:48:25Z</dcterms:modified>
  <cp:revision>5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对比型</vt:lpwstr>
  </property>
  <property fmtid="{D5CDD505-2E9C-101B-9397-08002B2CF9AE}" pid="3" name="SlideDescription">
    <vt:lpwstr/>
  </property>
  <property fmtid="{D5CDD505-2E9C-101B-9397-08002B2CF9AE}" pid="4" name="Version">
    <vt:r8>1</vt:r8>
  </property>
</Properties>
</file>